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9B7-5AE3-4729-88F2-F2FF95EF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706752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19280" y="4695120"/>
            <a:ext cx="706752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E79-8ED2-4514-89D6-1531F1B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08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19280" y="469512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0880" y="469512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E4B-54A4-409F-9DB7-2D04091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08960" y="261468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261468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19280" y="469512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08960" y="469512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4695120"/>
            <a:ext cx="227556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1AC-DF92-46FD-B040-802647D0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19280" y="261468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30B-4A6A-41C4-B95F-B098884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28D-DB3D-4456-A6C7-D3F9BB1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3448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880" y="2614680"/>
            <a:ext cx="3448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BA0-4DA7-432E-A05C-42796D3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AB1-37E9-456B-8C6E-2A5D360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19280" y="1483920"/>
            <a:ext cx="70675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69B-9EE4-45BE-A470-0B3BCA13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880" y="2614680"/>
            <a:ext cx="3448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19280" y="469512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F82-D93E-4D56-A620-D44E3E92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3448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8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0880" y="469512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0CA-9E15-462A-B2B1-F5A5EC5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0880" y="2614680"/>
            <a:ext cx="344880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19280" y="4695120"/>
            <a:ext cx="7067520" cy="18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B54-6246-439A-B8DB-1A1055E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50760" y="1268280"/>
            <a:ext cx="1332000" cy="5589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1263600" y="-14400"/>
            <a:ext cx="7880400" cy="129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19280" y="261468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A21-B6ED-437A-8389-B0F8263CC2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8"/>
          <p:cNvSpPr/>
          <p:nvPr/>
        </p:nvSpPr>
        <p:spPr>
          <a:xfrm>
            <a:off x="2987640" y="152280"/>
            <a:ext cx="5905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cc"/>
                </a:solidFill>
                <a:latin typeface="Arial"/>
                <a:ea typeface="Tahoma"/>
              </a:rPr>
              <a:t>David Thom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  <a:ea typeface="Tahoma"/>
              </a:rPr>
              <a:t>david_thomas@hotmail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5"/>
          <p:cNvSpPr/>
          <p:nvPr/>
        </p:nvSpPr>
        <p:spPr>
          <a:xfrm rot="16200000">
            <a:off x="-2168640" y="3571920"/>
            <a:ext cx="554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cc"/>
                </a:solidFill>
                <a:latin typeface="Arial"/>
              </a:rPr>
              <a:t>Alternative Dispute Re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480" y="-6480"/>
            <a:ext cx="1266840" cy="12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27280" y="1989000"/>
            <a:ext cx="752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DR in financi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bodie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bodies are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27280" y="1989000"/>
            <a:ext cx="752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DR in financi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bodie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R bodies are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9080" y="2060280"/>
            <a:ext cx="59036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</a:t>
            </a: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R bodies 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write"/>
          <p:cNvPicPr/>
          <p:nvPr/>
        </p:nvPicPr>
        <p:blipFill>
          <a:blip r:embed="rId1">
            <a:lum bright="6000"/>
          </a:blip>
          <a:srcRect l="-756" t="501" r="0" b="13392"/>
          <a:stretch/>
        </p:blipFill>
        <p:spPr>
          <a:xfrm>
            <a:off x="3070080" y="3716280"/>
            <a:ext cx="13431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619280" y="162864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to consu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on and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bord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f these = financial ombuds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9080" y="2133360"/>
            <a:ext cx="59036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</a:t>
            </a:r>
            <a:br>
              <a:rPr sz="6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R is a good id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Dscf0005"/>
          <p:cNvPicPr/>
          <p:nvPr/>
        </p:nvPicPr>
        <p:blipFill>
          <a:blip r:embed="rId1"/>
          <a:srcRect l="0" t="0" r="11250" b="0"/>
          <a:stretch/>
        </p:blipFill>
        <p:spPr>
          <a:xfrm>
            <a:off x="3098880" y="3846600"/>
            <a:ext cx="16761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92360" y="162864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ail financial services depen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umer trust in finan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ommunitypeople"/>
          <p:cNvPicPr/>
          <p:nvPr/>
        </p:nvPicPr>
        <p:blipFill>
          <a:blip r:embed="rId1"/>
          <a:stretch/>
        </p:blipFill>
        <p:spPr>
          <a:xfrm>
            <a:off x="3379680" y="3346560"/>
            <a:ext cx="35686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7067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sumer trust supported b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financially sound providers 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(reg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good conduct by providers 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(regulation/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nsation if provider treats them bad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compensation if provider becomes insolvent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(guarantee f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consumer confidence</a:t>
            </a: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(financial edu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1413000"/>
            <a:ext cx="7067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R benefits every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7067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umers</a:t>
            </a:r>
            <a:br>
              <a:rPr sz="3200"/>
            </a:b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 informal, impartial advice, re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specialist, consistent, vin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freed up, compar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eputation, 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640" y="1989000"/>
            <a:ext cx="590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OW</a:t>
            </a:r>
            <a:br>
              <a:rPr sz="6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R bodies are structu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0" y="3733920"/>
            <a:ext cx="28796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19280" y="1628640"/>
            <a:ext cx="7200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to ensure impar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by state/regulator/industry</a:t>
            </a:r>
            <a:br>
              <a:rPr sz="3200"/>
            </a:b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 initiative,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toral or combined</a:t>
            </a:r>
            <a:br>
              <a:rPr sz="3200"/>
            </a:b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 accessibility and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</a:t>
            </a:r>
            <a:br>
              <a:rPr sz="3200"/>
            </a:b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 grant, levy, fees or levy +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23:51:49Z</dcterms:created>
  <dc:creator>Thomas, David (Lead Ombudsman)</dc:creator>
  <dc:description/>
  <dc:language>en-US</dc:language>
  <cp:lastModifiedBy>David Thomas (FOSNBT09603)</cp:lastModifiedBy>
  <dcterms:modified xsi:type="dcterms:W3CDTF">2014-05-23T11:06:48Z</dcterms:modified>
  <cp:revision>15</cp:revision>
  <dc:subject/>
  <dc:title>PowerPoint Presentation</dc:title>
</cp:coreProperties>
</file>