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6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46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22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46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6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6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346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522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346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6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6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346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522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346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6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6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346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9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522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346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86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9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86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522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46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9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522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46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6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6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" descr="PowerPointTemplate.png"/>
          <p:cNvPicPr/>
          <p:nvPr/>
        </p:nvPicPr>
        <p:blipFill>
          <a:blip r:embed="rId2"/>
          <a:stretch/>
        </p:blipFill>
        <p:spPr>
          <a:xfrm>
            <a:off x="469800" y="6156360"/>
            <a:ext cx="825516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PowerPointTemplate.png"/>
          <p:cNvPicPr/>
          <p:nvPr/>
        </p:nvPicPr>
        <p:blipFill>
          <a:blip r:embed="rId2"/>
          <a:stretch/>
        </p:blipFill>
        <p:spPr>
          <a:xfrm>
            <a:off x="469800" y="6156360"/>
            <a:ext cx="8255160" cy="4698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PowerPointTemplate.png"/>
          <p:cNvPicPr/>
          <p:nvPr/>
        </p:nvPicPr>
        <p:blipFill>
          <a:blip r:embed="rId2"/>
          <a:stretch/>
        </p:blipFill>
        <p:spPr>
          <a:xfrm>
            <a:off x="469800" y="6156360"/>
            <a:ext cx="8255160" cy="469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PowerPointTemplate.png"/>
          <p:cNvPicPr/>
          <p:nvPr/>
        </p:nvPicPr>
        <p:blipFill>
          <a:blip r:embed="rId2"/>
          <a:stretch/>
        </p:blipFill>
        <p:spPr>
          <a:xfrm>
            <a:off x="469800" y="6156360"/>
            <a:ext cx="8255160" cy="469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PowerPointTemplate.png"/>
          <p:cNvPicPr/>
          <p:nvPr/>
        </p:nvPicPr>
        <p:blipFill>
          <a:blip r:embed="rId2"/>
          <a:stretch/>
        </p:blipFill>
        <p:spPr>
          <a:xfrm>
            <a:off x="469800" y="6156360"/>
            <a:ext cx="8255160" cy="4698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rsimpson@consint.or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2"/>
          <p:cNvSpPr/>
          <p:nvPr/>
        </p:nvSpPr>
        <p:spPr>
          <a:xfrm>
            <a:off x="858240" y="2075040"/>
            <a:ext cx="754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Arial"/>
              </a:rPr>
              <a:t>Finding a balance between regu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Arial"/>
              </a:rPr>
              <a:t>&amp; inno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Arial"/>
              </a:rPr>
              <a:t>The case of mobile 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057480" y="3716280"/>
            <a:ext cx="303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ia Jun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Simp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9" descr="S:\Images\CI Logos - Also see CI intranet\For websites (gif)\CI_2007_logo_Blk-168x168.gif"/>
          <p:cNvPicPr/>
          <p:nvPr/>
        </p:nvPicPr>
        <p:blipFill>
          <a:blip r:embed="rId1"/>
          <a:stretch/>
        </p:blipFill>
        <p:spPr>
          <a:xfrm>
            <a:off x="0" y="0"/>
            <a:ext cx="1763640" cy="1752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2141280" y="47628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Arial"/>
              </a:rPr>
              <a:t>Consumers Inter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Lessons from OECD negotiation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9800" y="1599840"/>
            <a:ext cx="82296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mphasis on shared responsibility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an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; participants intrinsically unequ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mits of consumer education and disclosure:average time taken to read a digital agreement: 6 second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mitations of inter-governmental processes: eg remittances not covered; G20 process gave little attention to consumer credit – covered by FSB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gotiated text necessitates compromi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does CI want for FS from UN guidel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9800" y="1599840"/>
            <a:ext cx="82296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ata prote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chnological neutrality of C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pute resolu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ract terms, transparency, secu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rtability &amp; transparenc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nclus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it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ponsible lendin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nk deposit guarant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Overall le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9800" y="1599840"/>
            <a:ext cx="82296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ch advances hold great promise for consumers; eg potential benefits for FS, remittances and utilities; can enhance childre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 security eg transport and meal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opolies can be reduced; eg: mobile telephony in low income countries; same needed in remittance secto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chnological development can heighten issues of CP because of speed of transaction; eg need f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ling of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; consumers skip contracts whe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med 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y consumers expert on technology but not on CP law; ask your 6 year ol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w technology but perman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"/>
          <p:cNvSpPr/>
          <p:nvPr/>
        </p:nvSpPr>
        <p:spPr>
          <a:xfrm>
            <a:off x="2916360" y="38606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in Simp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simpson@consint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S:\Images\CI Logos - Also see CI intranet\For websites (gif)\CI_2007_logo_Blk-168x168.gif"/>
          <p:cNvPicPr/>
          <p:nvPr/>
        </p:nvPicPr>
        <p:blipFill>
          <a:blip r:embed="rId2"/>
          <a:stretch/>
        </p:blipFill>
        <p:spPr>
          <a:xfrm>
            <a:off x="3581280" y="1752480"/>
            <a:ext cx="1920960" cy="1908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S:\Images\CI Logos - Also see CI intranet\For websites (gif)\CI_2007_logo_Blk-168x168.gif"/>
          <p:cNvPicPr/>
          <p:nvPr/>
        </p:nvPicPr>
        <p:blipFill>
          <a:blip r:embed="rId3"/>
          <a:stretch/>
        </p:blipFill>
        <p:spPr>
          <a:xfrm>
            <a:off x="3564000" y="1700280"/>
            <a:ext cx="1920960" cy="190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Consumers Interna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9800" y="1599840"/>
            <a:ext cx="82296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40 member associations in 120 countri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tion by UN, OECD, I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 &amp; not-for-profi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research &amp; campaigns through &amp; for member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ices in London, Kuala Lumpur, Santiago de Chile, Pretoria and Oma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es on financial services and consumers in digital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-payment issues raised by CI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9800" y="1599840"/>
            <a:ext cx="82296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angible proof of paymen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 of crediting system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clear regulatory stat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impartial dispute resolu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‘currency’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ormant asse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certificates; (no IMEA nu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cessive charges for remittan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ing problems of acces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 starting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98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I participated in drafting UN guidelines on CP (1985, 1999 &amp; 2014), OECD GLs on e-commerce, (1999 &amp; 2014); dispute resolution (2007 &amp; 2014); G20 work on consumer protection in FS (2011-present);  remittance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w m-commerce in ISO &amp; OEC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rmally favour regulatory approach for FS secto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 CI has favoured more liberal approach following successes in E. Africa &amp; Phillipin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billion+ consumers with mobile phone but no ban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5 billion mobile payment users expected by 201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A expected x 10 between 2008 &amp; 2013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So what are we do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9800" y="1599840"/>
            <a:ext cx="82296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O TC 68 financial services/SC7/WG10 on draft ISO 12812 mobile financial servic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members industry stakeholders; inc. US Federal reserve bank, Kenya central bank, European Payments Council; card manufacturer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OECD Consumer policy (CP) committe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ly OECD CP agencies + CI + Business &amp; Industry Advisory Committee; also OECD G20 task forc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UN Guidelines on Consumer Prote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 delegations, CI and Chambers of Comme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1042920" y="1087560"/>
            <a:ext cx="6729480" cy="508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paper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framewor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y &amp; data protec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al application manage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bile payments to persons (P2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bile payments to businesses (C2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eat debate over titles- what is a perso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826920" y="26028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Draft standard ISO 12812  </a:t>
            </a:r>
            <a:br>
              <a:rPr sz="2800"/>
            </a:br>
            <a:r>
              <a:rPr b="1" lang="en-GB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Mobile financi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ISO: Key issues for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9800" y="126792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in old  consumer protection: contract terms, transparency, complaints/dispute resolution; legal status of electronic receipt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consumer liab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breaches of security- big debate: lessons from evolution of credit card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s of data pro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ncl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andoned/dormant ass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old problem in new for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od practices enabled by techn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ransaction logs, pop-ups for billing notices, facilities for visually handicappe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ISO: Le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98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 cannot legislate, but may become, or may support, legislation/regulation downstrea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basic to CP bodies may be new to industr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basic to industry may be new to CP bodies: eg  differences between digital wallet &amp; electronic purs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systems are safe, the industry should be relaxed about limited liability for consumer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systems not safe, we need limited liabil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, we need limited liabil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r-operability: no differences on substance, only on emphas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OECD policy guidance on 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mobile and online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9800" y="1483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isclos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 Privacy: principles drafted 1980 updated 2013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 Security: principles drafted 2002: emphasis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ared responsibil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 Confirmation 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 Protection of children: children cannot contrac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. Protection varies by jurisdiction &amp; transaction typ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7. Fraudulent, misleading, unfair commercial practi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. Dispute resolution and redr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014 report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sumer Policy guidance in online &amp; mobile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4:08:08Z</dcterms:created>
  <dc:creator>lupchurch</dc:creator>
  <dc:description/>
  <dc:language>en-US</dc:language>
  <cp:lastModifiedBy>robert simpson</cp:lastModifiedBy>
  <dcterms:modified xsi:type="dcterms:W3CDTF">2014-06-03T19:15:22Z</dcterms:modified>
  <cp:revision>148</cp:revision>
  <dc:subject/>
  <dc:title>PowerPoint Presentation</dc:title>
</cp:coreProperties>
</file>