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2ED6B-F8C4-4992-866B-C41FC2DAF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13F87-F2B2-4A16-9F2A-72C0274A3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CDF25-4101-4F50-93F3-7DFF55C362F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6CCE5-3FA6-423E-B12B-B66E7DEC1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CBAF5-C35E-4A4C-9129-B12E5E946017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EB93E-A873-4FAF-BF13-C5252B0D7F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4DD74-0E29-4C70-A3A2-98E4CE96EA2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ADA0E-5CB7-4479-9D87-8737B9258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BD28F-6F76-4735-9D19-ACF234D88DA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B3745-46BD-4716-9D05-1A1B54C37C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FB297-5F0C-42DA-8FB2-974B812D560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D4B27-7E9D-4947-AB1D-FF37F709D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6B718-BA51-4D1C-B8F9-A446AAA85D0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A42E2-74F0-461D-A614-DD33DA2C7C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4EDA8-99C7-4541-A95E-C97ED827E87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3A5C1-35F3-4158-96FA-B76A435CD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9258D-FCC7-4797-B927-6C58799EC83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9DD2A-E2E8-48E5-8937-DAD7E2DD90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91F22-3CB2-4CA4-81B1-D72C7552CF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B2CC0-0772-465A-9CB5-5D7B6C2F73C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881E-FFDB-42BE-80A6-09FE44AE7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03C7-6FC1-4863-A9F4-A9CCB28B7B3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2B1CE-A145-476A-A754-747327BEC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F48A7-36EB-49B7-8903-30A6D53FC5B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EEABF-F7CB-4CE6-95E1-8E0316CA12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0" y="-22896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002F5-1A61-45C9-B232-B80F3EDE16F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038B-DF1E-4938-AB87-CE4D4B9ABC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55700-21F4-4CBA-A355-E92B6FB66697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9015-A75B-4A23-B6AE-AE6A38C78B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14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0D92-0D38-4184-B592-763F095BDC8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D496-5402-4E82-9730-3ADD066A98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3E6D3-F1FA-4EE8-A921-4CEB9623997C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F3A2-470C-4CDC-91D4-5F11FFF4BD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CB067-4EF2-4E7A-BB6B-282621E0BC2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DAD7-CF54-4F1D-ACA9-D12AD9281E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4D733-9F75-4D90-9E0B-F7329434387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4C090-585B-4E3D-80C7-32DE22021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4F2D7-97AB-49AF-B771-AA557F72D567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AA14C-B481-4646-B8D7-BB1EC29AED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FD8AF-7FD2-4222-A3C9-1F3ACDAFE60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D1383-4E05-4BC4-8DDA-EA5BA1948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B20A-3448-4966-9832-9B7CC1C5DCA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CE721-F458-4D97-9F02-32E71C1B00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7713-A214-42C1-8506-B46E758761C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87AF-5294-4B9B-AE89-6565D9710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6C51-19B3-413E-BB90-CB8F53A7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95E6-8A50-433C-89FB-09A73E1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C17F-299C-4AF5-AA28-9085685E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E1D9-BF11-4156-81A0-3EE81878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BBD5-486D-44D1-BCD7-268BB470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6913-7DDE-44E9-A763-497DD81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067B-9DCC-4240-967E-CA3C78B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1CE4-D1B4-47AC-980A-1589708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EF72-6008-4B01-A1A0-52A9C8E3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ACF7-09BF-4420-8EB8-33ADDC7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9DDE-A3BF-4E41-9FA5-64658C1FA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A7CD9-310C-4625-8ACA-53B34780A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D638-11FB-4D62-A877-E1200BC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F795D-15EE-4EE3-8811-E18E369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8F17-208C-47BD-9948-3685E64D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92D8E-05BA-4E3F-8CCB-422A6DBB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6156-FA09-44E3-A4F9-FE64BE4F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9DA1-2B5A-4CC5-8A1E-FF7B069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8AD6C-7466-44A1-A556-A707730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36DA-7965-4507-B588-1AD7776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2857B-E49F-484F-925F-FB52C39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13C4D-5905-4236-BA33-EF747EC8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8EF45-5F63-4AF9-AA0A-262C03956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6160" y="164268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5592600" y="4970520"/>
            <a:ext cx="2786400" cy="823680"/>
          </a:xfrm>
          <a:custGeom>
            <a:avLst/>
            <a:gdLst/>
            <a:ahLst/>
            <a:rect l="l" t="t" r="r" b="b"/>
            <a:pathLst>
              <a:path w="743" h="220">
                <a:moveTo>
                  <a:pt x="673" y="27"/>
                </a:moveTo>
                <a:cubicBezTo>
                  <a:pt x="662" y="29"/>
                  <a:pt x="650" y="30"/>
                  <a:pt x="638" y="30"/>
                </a:cubicBezTo>
                <a:cubicBezTo>
                  <a:pt x="195" y="30"/>
                  <a:pt x="195" y="30"/>
                  <a:pt x="195" y="30"/>
                </a:cubicBezTo>
                <a:cubicBezTo>
                  <a:pt x="162" y="30"/>
                  <a:pt x="131" y="38"/>
                  <a:pt x="105" y="52"/>
                </a:cubicBezTo>
                <a:cubicBezTo>
                  <a:pt x="74" y="68"/>
                  <a:pt x="48" y="92"/>
                  <a:pt x="30" y="121"/>
                </a:cubicBezTo>
                <a:cubicBezTo>
                  <a:pt x="30" y="121"/>
                  <a:pt x="30" y="122"/>
                  <a:pt x="30" y="122"/>
                </a:cubicBezTo>
                <a:cubicBezTo>
                  <a:pt x="27" y="126"/>
                  <a:pt x="25" y="131"/>
                  <a:pt x="22" y="135"/>
                </a:cubicBezTo>
                <a:cubicBezTo>
                  <a:pt x="8" y="161"/>
                  <a:pt x="1" y="190"/>
                  <a:pt x="0" y="220"/>
                </a:cubicBezTo>
                <a:cubicBezTo>
                  <a:pt x="21" y="207"/>
                  <a:pt x="45" y="198"/>
                  <a:pt x="70" y="193"/>
                </a:cubicBezTo>
                <a:cubicBezTo>
                  <a:pt x="81" y="191"/>
                  <a:pt x="93" y="190"/>
                  <a:pt x="105" y="190"/>
                </a:cubicBezTo>
                <a:cubicBezTo>
                  <a:pt x="548" y="190"/>
                  <a:pt x="548" y="190"/>
                  <a:pt x="548" y="190"/>
                </a:cubicBezTo>
                <a:cubicBezTo>
                  <a:pt x="581" y="190"/>
                  <a:pt x="612" y="182"/>
                  <a:pt x="638" y="168"/>
                </a:cubicBezTo>
                <a:cubicBezTo>
                  <a:pt x="669" y="152"/>
                  <a:pt x="695" y="128"/>
                  <a:pt x="713" y="99"/>
                </a:cubicBezTo>
                <a:cubicBezTo>
                  <a:pt x="713" y="99"/>
                  <a:pt x="713" y="99"/>
                  <a:pt x="713" y="98"/>
                </a:cubicBezTo>
                <a:cubicBezTo>
                  <a:pt x="716" y="94"/>
                  <a:pt x="718" y="89"/>
                  <a:pt x="721" y="85"/>
                </a:cubicBezTo>
                <a:cubicBezTo>
                  <a:pt x="735" y="59"/>
                  <a:pt x="742" y="30"/>
                  <a:pt x="743" y="0"/>
                </a:cubicBezTo>
                <a:cubicBezTo>
                  <a:pt x="722" y="13"/>
                  <a:pt x="698" y="23"/>
                  <a:pt x="673" y="27"/>
                </a:cubicBezTo>
                <a:close/>
              </a:path>
            </a:pathLst>
          </a:custGeom>
          <a:solidFill>
            <a:srgbClr val="1ca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 rot="10800000">
            <a:off x="5330880" y="5498640"/>
            <a:ext cx="7772400" cy="1379520"/>
          </a:xfrm>
          <a:custGeom>
            <a:avLst/>
            <a:gdLst/>
            <a:ahLst/>
            <a:rect l="l" t="t" r="r" b="b"/>
            <a:pathLst>
              <a:path w="6795" h="1207">
                <a:moveTo>
                  <a:pt x="6265" y="0"/>
                </a:moveTo>
                <a:cubicBezTo>
                  <a:pt x="6265" y="0"/>
                  <a:pt x="6265" y="0"/>
                  <a:pt x="62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5"/>
                  <a:pt x="0" y="435"/>
                  <a:pt x="0" y="435"/>
                </a:cubicBezTo>
                <a:cubicBezTo>
                  <a:pt x="5745" y="435"/>
                  <a:pt x="5745" y="435"/>
                  <a:pt x="5745" y="435"/>
                </a:cubicBezTo>
                <a:cubicBezTo>
                  <a:pt x="6020" y="435"/>
                  <a:pt x="6020" y="435"/>
                  <a:pt x="6020" y="435"/>
                </a:cubicBezTo>
                <a:cubicBezTo>
                  <a:pt x="6259" y="435"/>
                  <a:pt x="6461" y="593"/>
                  <a:pt x="6526" y="810"/>
                </a:cubicBezTo>
                <a:cubicBezTo>
                  <a:pt x="6541" y="859"/>
                  <a:pt x="6549" y="910"/>
                  <a:pt x="6549" y="964"/>
                </a:cubicBezTo>
                <a:cubicBezTo>
                  <a:pt x="6549" y="968"/>
                  <a:pt x="6549" y="972"/>
                  <a:pt x="6549" y="976"/>
                </a:cubicBezTo>
                <a:cubicBezTo>
                  <a:pt x="6547" y="1059"/>
                  <a:pt x="6526" y="1138"/>
                  <a:pt x="6490" y="1207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70" y="711"/>
                  <a:pt x="6795" y="623"/>
                  <a:pt x="6795" y="529"/>
                </a:cubicBezTo>
                <a:cubicBezTo>
                  <a:pt x="6795" y="237"/>
                  <a:pt x="6558" y="0"/>
                  <a:pt x="6265" y="0"/>
                </a:cubicBezTo>
                <a:close/>
              </a:path>
            </a:pathLst>
          </a:custGeom>
          <a:solidFill>
            <a:srgbClr val="fcb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-1116000" y="-1295280"/>
            <a:ext cx="5688000" cy="5876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7556400" y="228600"/>
            <a:ext cx="128268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>
            <a:off x="6067440" y="3979800"/>
            <a:ext cx="1440" cy="3175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715000" y="6465960"/>
            <a:ext cx="3417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595959"/>
                </a:solidFill>
                <a:latin typeface="Georgia"/>
              </a:rPr>
              <a:t>Financial &amp; Private Sector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657240" y="3930120"/>
            <a:ext cx="243036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095880" y="3930480"/>
            <a:ext cx="2438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Eigh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inth Outline Level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2/11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0205EE-D7D1-411F-88AB-CED1B448B9E9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rPr>
              <a:t>22/11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F16C9C-1A35-4709-B262-3A39F57C4410}" type="slidenum">
              <a: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294160" y="0"/>
            <a:ext cx="38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3887640"/>
            <a:ext cx="9144000" cy="511200"/>
          </a:xfrm>
          <a:prstGeom prst="rect">
            <a:avLst/>
          </a:prstGeom>
          <a:solidFill>
            <a:srgbClr val="cd41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33560" y="1239840"/>
            <a:ext cx="7772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d4106"/>
                </a:solidFill>
                <a:latin typeface="Arial"/>
              </a:rPr>
              <a:t>Strengthening the Population's Financial Capability  – What does international experience tell 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448080" y="3855960"/>
            <a:ext cx="43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ofia, Bulgaria 11 June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33560" y="3228840"/>
            <a:ext cx="646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087560" y="5316480"/>
            <a:ext cx="40478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Arial Narrow"/>
              </a:rPr>
              <a:t>Shaun Mun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d4106"/>
                </a:solidFill>
                <a:uFillTx/>
                <a:latin typeface="Arial Narrow"/>
              </a:rPr>
              <a:t>shaunmundy@hotmail.com</a:t>
            </a:r>
            <a:r>
              <a:rPr b="0" lang="en-GB" sz="2000" spc="-1" strike="noStrike">
                <a:solidFill>
                  <a:srgbClr val="cd410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04040"/>
                </a:solidFill>
                <a:latin typeface="Arial Narrow"/>
              </a:rPr>
              <a:t>International Financial Literacy Consul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659E-667C-4FAF-BBE8-CC5DB75719EE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y should financial literacy be objecti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n many countries, there is a luck of trust in the financial services industry (e.g. because of poor experiences of themselves/others – or simply unfamiliarity). People need to understand why using financial services will benefit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them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(and not merely be good for the business of financial instit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is like other forms of education – the purpose is to equip people with life skills,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not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persuading them to acquire particular products or helping them to complete forms. (Nothing wrong with these things – but they are not financial literacy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people think that an initiative is marketing/advertising, then the reality is that it </a:t>
            </a:r>
            <a:r>
              <a:rPr b="0" lang="en-GB" sz="2400" spc="-1" strike="noStrike">
                <a:solidFill>
                  <a:srgbClr val="ff3333"/>
                </a:solidFill>
                <a:latin typeface="Arial Narrow"/>
              </a:rPr>
              <a:t>i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marketing/adverti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C6255-DF79-4D39-825B-F0541E45FFE3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each people the basic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people do not budget, they are unlikely to have money to save. They need to be educated about why budgeting would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benefit them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not just the mechanics of how to bud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Similarly, people need to be educated about why saving would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be in their interest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not just the mechanics of how to sa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eople need to be educated on how to avoid financial frauds and other unexpected losses – if they (or people they know) suffer frauds/losses, they will not feel confident in using financial instit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eople need to be confident that they will be treated fairly and that they will feel welcome – or they will not use financial instit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B5E42-E9ED-4B57-B6EA-22B3298C2632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Insights from behavioural econom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1640" y="1601640"/>
            <a:ext cx="803304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sumers' behaviour depends not only on their knowledge and skills, but also on their psychological biases/attributes. Important to focus on people's attitudes, as well as on education, information and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ople 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be overwhelmed and do nothing if they are given too much information or too many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be over-confident about their ability to manage their personal finances and to ignore information which calls into question their 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struggle to make good deci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55B38-1474-4253-B549-D56641DE3BDB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Lessons for financial education program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ssons inclu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keep things as simple as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use relevant and engaging language and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repeat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use a variety of methods and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direct people to particular steps (e.g. increase their saving); and make active interventions rather than merely provide passive information or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provide people with training on how to make good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6143-A856-492B-9931-EB720B0C0269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ypical features of effective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r-friendly – being based on what consumers will in practice engage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Different programmes use a variety of approaches and chann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Start with the basics – build on these for those consumers who need to have more sophisticated knowledge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 clear, simple and lively communications (less is more!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ocus on attitudes and changing behaviours, not just knowledge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grammes are tested; and are monitored and evalu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DF2B-B3F3-40CF-9424-7255953C1481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Examples of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in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for you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presentations in workpl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via clubs, associations and community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for people in rural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aking advantage of teachable mo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 of trusted interme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Mass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days/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B70F8-EF80-4D3A-B2B8-8466AAC3867F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UK example: Financial education for expectant m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User-friendly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a “teachable moment”. New mothers helped to design the resources. Pack is distributed by midwives (trusted intermedi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Variety of approaches and channel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hard copy and intern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Starts with the basic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different sections on different top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Uses clear, simple and lively communications 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+ behavioural foc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Both concept and draft resources were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tested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in advance with expectant mothers + programme was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monitored and evaluated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(a high proportion of new mothers said the resources helped them to manage their family finances at a time of change in their liv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2560" y="21744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46EAB-F36F-4D41-974E-5AA88CE0244E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Prioriti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57200" y="15908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his includes deciding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to undertake initiatives which could be cost-effective – because there are other initiatives which would be more cost-eff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any organisation tries to do too much, resources are likely to be spread too thin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Decide on some initial priorities – taking into account needs, likely reach, likely impact (i.e. changes in people's behaviour), the resources which are expected to be available, and opport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6AA1D-0D53-42F3-A86A-4D193C597D55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est in advance, then monitor and evalu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5908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esting can be via focus groups and/or via pilot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t is important to monitor and evaluate each financial education programme in order to: determine whether it is cost-effective and should be continued (possibly with changes) or whether it should be stopped; and to establish any lessons for other financial education program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Qualitative as well as quantitative assessments should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Evaluation should be built in from the outset – otherwise, there will almost certainly be gaps in what can be asse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59B42-4DF1-4BB6-8575-F8AA2D70C7F7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1657440"/>
            <a:ext cx="80661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y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t concerns personal and household fin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aim is to influence </a:t>
            </a:r>
            <a:r>
              <a:rPr b="1" lang="en-GB" sz="2400" spc="-1" strike="noStrike">
                <a:solidFill>
                  <a:srgbClr val="cd4106"/>
                </a:solidFill>
                <a:latin typeface="Arial Narrow"/>
              </a:rPr>
              <a:t>how people behav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– not merely to give them knowledge, understanding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0" y="2462040"/>
            <a:ext cx="9144000" cy="2621160"/>
          </a:xfrm>
          <a:prstGeom prst="rightArrow">
            <a:avLst>
              <a:gd name="adj1" fmla="val 100000"/>
              <a:gd name="adj2" fmla="val -126620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44480" y="2467080"/>
            <a:ext cx="806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Financial literacy is the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knowledge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,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understanding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,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skill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 and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 confidence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which lead a person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to make financial decisions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and take actions which are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appropriate to their circumstance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It ex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Marketing initiativ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Advice or encouragement to use a particular financial institution;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Entrepreneur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at is meant by financial literac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7AFED-E47A-43A3-8640-F4F7853CDF67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Skills which are needed to undertake effective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Ability to see things from consumers' per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derstanding of how people lea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Excellent communication skills – ability to put things simply and clear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Ability to work successfully with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ject management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Note: the necessary levels of financial expertise can fairly easily be acqu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8F53-4B6D-4653-B9BE-CB96D1B75D9E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Common mistak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457200" y="14954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necessary duplication – e.g. more than one financial literacy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dertaking programmes which are unlikely to be cost-effective (in terms of impact, reach and sustainability – given the costs invol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Going it alone – rather than working in part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viding what it is thought that people need – rather than what, in practice, they are will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Over-complic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Combining financial education with marketing – so, people do not trust the “financial educ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rcRect l="110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Oval 2"/>
          <p:cNvSpPr/>
          <p:nvPr/>
        </p:nvSpPr>
        <p:spPr>
          <a:xfrm>
            <a:off x="-766800" y="2521080"/>
            <a:ext cx="5338800" cy="549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-658800" y="2895480"/>
            <a:ext cx="5033880" cy="493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-152280" y="4175280"/>
            <a:ext cx="4271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cd4106"/>
                </a:solidFill>
                <a:latin typeface="Georgia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019840" y="452520"/>
            <a:ext cx="41227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un M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019840" y="743040"/>
            <a:ext cx="41227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unmundy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051A4-DF71-48FE-93E1-5C9604C216BA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214200" y="2184480"/>
            <a:ext cx="80661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udential regulation, financial consumer protection regulation, financial inclusion initiatives and financial literacy initiatives all have a vital role to play in the development and maintenance of a stable and vibrant financial s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ne is sufficient on its own: they are </a:t>
            </a:r>
            <a:r>
              <a:rPr b="1" lang="en-GB" sz="2800" spc="-1" strike="noStrike">
                <a:solidFill>
                  <a:srgbClr val="cd4106"/>
                </a:solidFill>
                <a:latin typeface="Arial Narrow"/>
              </a:rPr>
              <a:t>complementary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, rather tha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Financial literacy initiatives are necessary, but not suffici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78D7B-7515-4B90-A088-49356944C6D2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76280" y="3209760"/>
            <a:ext cx="8066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national strategy can help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Benefits of having a national strategy on financial literac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0" y="1757520"/>
            <a:ext cx="9144000" cy="1207800"/>
          </a:xfrm>
          <a:prstGeom prst="rightArrow">
            <a:avLst>
              <a:gd name="adj1" fmla="val 100000"/>
              <a:gd name="adj2" fmla="val -27479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76280" y="2011320"/>
            <a:ext cx="8210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In the absence of a national strategy, financial literacy initiatives tend to be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 patchy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and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uncoordinated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 and to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lack strategic focu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515880" y="3878280"/>
            <a:ext cx="5635800" cy="631800"/>
            <a:chOff x="515880" y="3878280"/>
            <a:chExt cx="5635800" cy="631800"/>
          </a:xfrm>
        </p:grpSpPr>
        <p:sp>
          <p:nvSpPr>
            <p:cNvPr id="158" name="Oval 7"/>
            <p:cNvSpPr/>
            <p:nvPr/>
          </p:nvSpPr>
          <p:spPr>
            <a:xfrm>
              <a:off x="515880" y="3878280"/>
              <a:ext cx="631800" cy="631800"/>
            </a:xfrm>
            <a:prstGeom prst="ellipse">
              <a:avLst/>
            </a:prstGeom>
            <a:solidFill>
              <a:srgbClr val="cd410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1239840" y="3967200"/>
              <a:ext cx="49118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Set prioriti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15880" y="4630680"/>
            <a:ext cx="8018640" cy="865440"/>
            <a:chOff x="515880" y="4630680"/>
            <a:chExt cx="8018640" cy="865440"/>
          </a:xfrm>
        </p:grpSpPr>
        <p:sp>
          <p:nvSpPr>
            <p:cNvPr id="161" name="Oval 10"/>
            <p:cNvSpPr/>
            <p:nvPr/>
          </p:nvSpPr>
          <p:spPr>
            <a:xfrm>
              <a:off x="515880" y="4630680"/>
              <a:ext cx="631800" cy="631800"/>
            </a:xfrm>
            <a:prstGeom prst="ellipse">
              <a:avLst/>
            </a:prstGeom>
            <a:solidFill>
              <a:srgbClr val="cd410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239840" y="4735440"/>
              <a:ext cx="72946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Harmonise the activities of stakeholders with the national strategy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15880" y="5383080"/>
            <a:ext cx="8018640" cy="865440"/>
            <a:chOff x="515880" y="5383080"/>
            <a:chExt cx="8018640" cy="865440"/>
          </a:xfrm>
        </p:grpSpPr>
        <p:sp>
          <p:nvSpPr>
            <p:cNvPr id="164" name="Oval 13"/>
            <p:cNvSpPr/>
            <p:nvPr/>
          </p:nvSpPr>
          <p:spPr>
            <a:xfrm>
              <a:off x="515880" y="5383080"/>
              <a:ext cx="631800" cy="631800"/>
            </a:xfrm>
            <a:prstGeom prst="ellipse">
              <a:avLst/>
            </a:prstGeom>
            <a:solidFill>
              <a:srgbClr val="cd410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1239840" y="5487840"/>
              <a:ext cx="72946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Reduce the risk of both unplanned gaps and unnecessary duplication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576440" y="2530440"/>
            <a:ext cx="5991120" cy="386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56E58-32B4-44E9-ADEB-4755186D49E8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274680"/>
            <a:ext cx="85374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Countries with or developing national financial literacy strategie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14360" y="2149560"/>
            <a:ext cx="148752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zerbaij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Bela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olom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zech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sto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Gh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re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Latv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Leban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law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lay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uriti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herl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197840" y="2149560"/>
            <a:ext cx="148752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w Zea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ige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e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o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ortu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oma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ussian 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w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nga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lov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p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we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anza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hai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ur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g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Zam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F19E6-AED6-4432-8FD9-CBF513A2AA09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o benefits from a more financially literate popul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511200" y="1789200"/>
            <a:ext cx="1171440" cy="1171440"/>
            <a:chOff x="511200" y="1789200"/>
            <a:chExt cx="1171440" cy="1171440"/>
          </a:xfrm>
        </p:grpSpPr>
        <p:grpSp>
          <p:nvGrpSpPr>
            <p:cNvPr id="174" name="Group 4"/>
            <p:cNvGrpSpPr/>
            <p:nvPr/>
          </p:nvGrpSpPr>
          <p:grpSpPr>
            <a:xfrm>
              <a:off x="511200" y="1789200"/>
              <a:ext cx="1171440" cy="1171440"/>
              <a:chOff x="511200" y="1789200"/>
              <a:chExt cx="1171440" cy="1171440"/>
            </a:xfrm>
          </p:grpSpPr>
          <p:sp>
            <p:nvSpPr>
              <p:cNvPr id="175" name="Oval 5"/>
              <p:cNvSpPr/>
              <p:nvPr/>
            </p:nvSpPr>
            <p:spPr>
              <a:xfrm>
                <a:off x="511200" y="1789200"/>
                <a:ext cx="1171440" cy="11714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585720" y="186516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7" name="Picture 7" descr=""/>
            <p:cNvPicPr/>
            <p:nvPr/>
          </p:nvPicPr>
          <p:blipFill>
            <a:blip r:embed="rId2"/>
            <a:stretch/>
          </p:blipFill>
          <p:spPr>
            <a:xfrm>
              <a:off x="895320" y="1932120"/>
              <a:ext cx="40176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8"/>
          <p:cNvGrpSpPr/>
          <p:nvPr/>
        </p:nvGrpSpPr>
        <p:grpSpPr>
          <a:xfrm>
            <a:off x="5432400" y="1797120"/>
            <a:ext cx="1171440" cy="1171440"/>
            <a:chOff x="5432400" y="1797120"/>
            <a:chExt cx="1171440" cy="1171440"/>
          </a:xfrm>
        </p:grpSpPr>
        <p:grpSp>
          <p:nvGrpSpPr>
            <p:cNvPr id="179" name="Group 9"/>
            <p:cNvGrpSpPr/>
            <p:nvPr/>
          </p:nvGrpSpPr>
          <p:grpSpPr>
            <a:xfrm>
              <a:off x="5432400" y="1797120"/>
              <a:ext cx="1171440" cy="1171440"/>
              <a:chOff x="5432400" y="1797120"/>
              <a:chExt cx="1171440" cy="1171440"/>
            </a:xfrm>
          </p:grpSpPr>
          <p:sp>
            <p:nvSpPr>
              <p:cNvPr id="180" name="Oval 10"/>
              <p:cNvSpPr/>
              <p:nvPr/>
            </p:nvSpPr>
            <p:spPr>
              <a:xfrm>
                <a:off x="5432400" y="1797120"/>
                <a:ext cx="1171440" cy="11714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11"/>
              <p:cNvSpPr/>
              <p:nvPr/>
            </p:nvSpPr>
            <p:spPr>
              <a:xfrm>
                <a:off x="5505480" y="18748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2" descr=""/>
            <p:cNvPicPr/>
            <p:nvPr/>
          </p:nvPicPr>
          <p:blipFill>
            <a:blip r:embed="rId4"/>
            <a:stretch/>
          </p:blipFill>
          <p:spPr>
            <a:xfrm>
              <a:off x="5656320" y="2125800"/>
              <a:ext cx="72396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13"/>
          <p:cNvGrpSpPr/>
          <p:nvPr/>
        </p:nvGrpSpPr>
        <p:grpSpPr>
          <a:xfrm>
            <a:off x="5432400" y="3436920"/>
            <a:ext cx="1171440" cy="1171440"/>
            <a:chOff x="5432400" y="3436920"/>
            <a:chExt cx="1171440" cy="1171440"/>
          </a:xfrm>
        </p:grpSpPr>
        <p:grpSp>
          <p:nvGrpSpPr>
            <p:cNvPr id="184" name="Group 14"/>
            <p:cNvGrpSpPr/>
            <p:nvPr/>
          </p:nvGrpSpPr>
          <p:grpSpPr>
            <a:xfrm>
              <a:off x="5432400" y="3436920"/>
              <a:ext cx="1171440" cy="1171440"/>
              <a:chOff x="5432400" y="3436920"/>
              <a:chExt cx="1171440" cy="1171440"/>
            </a:xfrm>
          </p:grpSpPr>
          <p:sp>
            <p:nvSpPr>
              <p:cNvPr id="185" name="Oval 15"/>
              <p:cNvSpPr/>
              <p:nvPr/>
            </p:nvSpPr>
            <p:spPr>
              <a:xfrm>
                <a:off x="5432400" y="3436920"/>
                <a:ext cx="1171440" cy="11714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16"/>
              <p:cNvSpPr/>
              <p:nvPr/>
            </p:nvSpPr>
            <p:spPr>
              <a:xfrm>
                <a:off x="5505480" y="35146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7" descr=""/>
            <p:cNvPicPr/>
            <p:nvPr/>
          </p:nvPicPr>
          <p:blipFill>
            <a:blip r:embed="rId6"/>
            <a:stretch/>
          </p:blipFill>
          <p:spPr>
            <a:xfrm>
              <a:off x="5661000" y="3660840"/>
              <a:ext cx="73188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18"/>
          <p:cNvGrpSpPr/>
          <p:nvPr/>
        </p:nvGrpSpPr>
        <p:grpSpPr>
          <a:xfrm>
            <a:off x="511200" y="5078520"/>
            <a:ext cx="1171440" cy="1171440"/>
            <a:chOff x="511200" y="5078520"/>
            <a:chExt cx="1171440" cy="1171440"/>
          </a:xfrm>
        </p:grpSpPr>
        <p:grpSp>
          <p:nvGrpSpPr>
            <p:cNvPr id="189" name="Group 19"/>
            <p:cNvGrpSpPr/>
            <p:nvPr/>
          </p:nvGrpSpPr>
          <p:grpSpPr>
            <a:xfrm>
              <a:off x="511200" y="5078520"/>
              <a:ext cx="1171440" cy="1171440"/>
              <a:chOff x="511200" y="5078520"/>
              <a:chExt cx="1171440" cy="1171440"/>
            </a:xfrm>
          </p:grpSpPr>
          <p:sp>
            <p:nvSpPr>
              <p:cNvPr id="190" name="Oval 20"/>
              <p:cNvSpPr/>
              <p:nvPr/>
            </p:nvSpPr>
            <p:spPr>
              <a:xfrm>
                <a:off x="511200" y="5078520"/>
                <a:ext cx="1171440" cy="11714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1"/>
              <p:cNvSpPr/>
              <p:nvPr/>
            </p:nvSpPr>
            <p:spPr>
              <a:xfrm>
                <a:off x="585720" y="51562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2" descr=""/>
            <p:cNvPicPr/>
            <p:nvPr/>
          </p:nvPicPr>
          <p:blipFill>
            <a:blip r:embed="rId8"/>
            <a:stretch/>
          </p:blipFill>
          <p:spPr>
            <a:xfrm>
              <a:off x="731880" y="5335560"/>
              <a:ext cx="7286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23"/>
          <p:cNvGrpSpPr/>
          <p:nvPr/>
        </p:nvGrpSpPr>
        <p:grpSpPr>
          <a:xfrm>
            <a:off x="511200" y="3433680"/>
            <a:ext cx="1171440" cy="1171800"/>
            <a:chOff x="511200" y="3433680"/>
            <a:chExt cx="1171440" cy="1171800"/>
          </a:xfrm>
        </p:grpSpPr>
        <p:grpSp>
          <p:nvGrpSpPr>
            <p:cNvPr id="194" name="Group 24"/>
            <p:cNvGrpSpPr/>
            <p:nvPr/>
          </p:nvGrpSpPr>
          <p:grpSpPr>
            <a:xfrm>
              <a:off x="511200" y="3433680"/>
              <a:ext cx="1171440" cy="1171800"/>
              <a:chOff x="511200" y="3433680"/>
              <a:chExt cx="1171440" cy="1171800"/>
            </a:xfrm>
          </p:grpSpPr>
          <p:sp>
            <p:nvSpPr>
              <p:cNvPr id="195" name="Oval 25"/>
              <p:cNvSpPr/>
              <p:nvPr/>
            </p:nvSpPr>
            <p:spPr>
              <a:xfrm>
                <a:off x="511200" y="3433680"/>
                <a:ext cx="1171440" cy="11718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26"/>
              <p:cNvSpPr/>
              <p:nvPr/>
            </p:nvSpPr>
            <p:spPr>
              <a:xfrm>
                <a:off x="585720" y="351000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7" name="Picture 27" descr=""/>
            <p:cNvPicPr/>
            <p:nvPr/>
          </p:nvPicPr>
          <p:blipFill>
            <a:blip r:embed="rId10"/>
            <a:stretch/>
          </p:blipFill>
          <p:spPr>
            <a:xfrm>
              <a:off x="735120" y="3632040"/>
              <a:ext cx="723960" cy="7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28"/>
            <p:cNvSpPr/>
            <p:nvPr/>
          </p:nvSpPr>
          <p:spPr>
            <a:xfrm>
              <a:off x="1011240" y="3643200"/>
              <a:ext cx="147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29"/>
          <p:cNvGrpSpPr/>
          <p:nvPr/>
        </p:nvGrpSpPr>
        <p:grpSpPr>
          <a:xfrm>
            <a:off x="5432400" y="5006880"/>
            <a:ext cx="1171440" cy="1171800"/>
            <a:chOff x="5432400" y="5006880"/>
            <a:chExt cx="1171440" cy="1171800"/>
          </a:xfrm>
        </p:grpSpPr>
        <p:grpSp>
          <p:nvGrpSpPr>
            <p:cNvPr id="200" name="Group 30"/>
            <p:cNvGrpSpPr/>
            <p:nvPr/>
          </p:nvGrpSpPr>
          <p:grpSpPr>
            <a:xfrm>
              <a:off x="5432400" y="5006880"/>
              <a:ext cx="1171440" cy="1171800"/>
              <a:chOff x="5432400" y="5006880"/>
              <a:chExt cx="1171440" cy="1171800"/>
            </a:xfrm>
          </p:grpSpPr>
          <p:sp>
            <p:nvSpPr>
              <p:cNvPr id="201" name="Oval 31"/>
              <p:cNvSpPr/>
              <p:nvPr/>
            </p:nvSpPr>
            <p:spPr>
              <a:xfrm>
                <a:off x="5432400" y="5006880"/>
                <a:ext cx="1171440" cy="117180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32"/>
              <p:cNvSpPr/>
              <p:nvPr/>
            </p:nvSpPr>
            <p:spPr>
              <a:xfrm>
                <a:off x="5505480" y="508464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3" name="Picture 33" descr=""/>
            <p:cNvPicPr/>
            <p:nvPr/>
          </p:nvPicPr>
          <p:blipFill>
            <a:blip r:embed="rId12"/>
            <a:stretch/>
          </p:blipFill>
          <p:spPr>
            <a:xfrm>
              <a:off x="5716440" y="5203800"/>
              <a:ext cx="6019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34"/>
          <p:cNvSpPr/>
          <p:nvPr/>
        </p:nvSpPr>
        <p:spPr>
          <a:xfrm>
            <a:off x="1755720" y="1781280"/>
            <a:ext cx="3521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Consu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ore likely to take advantage of formal financial products which are suitable for them; less likely to accumulate unmanageable debts; less likely to fall victim to financial frauds, such as Ponzi sche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1755720" y="3433680"/>
            <a:ext cx="35625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Financial services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onsumers who are informed and engaged are more likely to buy appropriate financial products and services (this increases business volumes; reduces marketing costs; and leads to fewer complai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1755720" y="5218200"/>
            <a:ext cx="321156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Financial services regulators and th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6684840" y="218268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Educational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8"/>
          <p:cNvSpPr/>
          <p:nvPr/>
        </p:nvSpPr>
        <p:spPr>
          <a:xfrm>
            <a:off x="6684840" y="380988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6684840" y="541512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N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161A9-8AFE-4BC0-A628-0ADDB2060FB3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orking in partnership: International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8969" r="0" b="3918"/>
          <a:stretch/>
        </p:blipFill>
        <p:spPr>
          <a:xfrm>
            <a:off x="3230640" y="1765440"/>
            <a:ext cx="2485800" cy="1658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457200" y="3591000"/>
            <a:ext cx="8032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No single organisation can improve financial literacy on its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There are many organisations with an interest in improving people's financial literacy who can potentially contrib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Typically, a broad range of partners from the public, private and non-profit sectors collab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Most commonly, the implementation of national strategies on financial literacy is led by a financial services reg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8BAF-91D3-433F-A4A0-A95D0677CDB4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orking in partnership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U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rcRect l="0" t="8969" r="0" b="3918"/>
          <a:stretch/>
        </p:blipFill>
        <p:spPr>
          <a:xfrm>
            <a:off x="3230640" y="1765440"/>
            <a:ext cx="2485800" cy="1658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3240000"/>
            <a:ext cx="8032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Development and implementation of first national strategy on financial literacy led by regulator (Financial Services Authorit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Steering Group advised FSA, comprising Ministers + Chairmen &amp; CEOs of FS industry, NGOs, educationalists, employers,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Many different types of organisation worked in partnership – e.g. FSA, Government, financial institutions, educational bodies, NGOs (especially those supporting various types of disadvantaged people), employers &amp;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Organisations typically consulted FSA before deciding on FL projects – to enable them to fill gaps &amp; to avoid dupl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D3460-A6D4-4170-8F1D-424F5E6FF05D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31640" y="3979800"/>
            <a:ext cx="80661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.. so long as “financial literacy” programmes are not, in reality, mark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ople need to be able to trust a financial education initiative as providing objective advice. They will not do so if it is – or seems to be – an advertisement or other mark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 UK, an educational NGO awards Quality Marks – which teachers can rely on – to resources which meet criteria, including obj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Banks and other financial institutions can play an important role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320840" y="2232000"/>
            <a:ext cx="6495480" cy="1990800"/>
            <a:chOff x="1320840" y="2232000"/>
            <a:chExt cx="6495480" cy="1990800"/>
          </a:xfrm>
        </p:grpSpPr>
        <p:sp>
          <p:nvSpPr>
            <p:cNvPr id="222" name="Rectangle 5"/>
            <p:cNvSpPr/>
            <p:nvPr/>
          </p:nvSpPr>
          <p:spPr>
            <a:xfrm>
              <a:off x="1320840" y="2232000"/>
              <a:ext cx="3243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nancial Litera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4572720" y="2232000"/>
              <a:ext cx="3243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Rectangle 7"/>
          <p:cNvSpPr/>
          <p:nvPr/>
        </p:nvSpPr>
        <p:spPr>
          <a:xfrm rot="1020000">
            <a:off x="4435200" y="2651040"/>
            <a:ext cx="274680" cy="1155960"/>
          </a:xfrm>
          <a:prstGeom prst="rect">
            <a:avLst/>
          </a:prstGeom>
          <a:solidFill>
            <a:srgbClr val="cd41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na Jaeger</dc:creator>
  <dc:description/>
  <dc:language>en-US</dc:language>
  <cp:lastModifiedBy>Johanna Jaeger</cp:lastModifiedBy>
  <dcterms:modified xsi:type="dcterms:W3CDTF">2014-05-27T15:34:42Z</dcterms:modified>
  <cp:revision>1</cp:revision>
  <dc:subject/>
  <dc:title>PowerPoint Presentation</dc:title>
</cp:coreProperties>
</file>