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1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2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37000" cy="40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04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dt" idx="5"/>
          </p:nvPr>
        </p:nvSpPr>
        <p:spPr>
          <a:xfrm>
            <a:off x="4277880" y="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6"/>
          </p:nvPr>
        </p:nvSpPr>
        <p:spPr>
          <a:xfrm>
            <a:off x="-36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7"/>
          </p:nvPr>
        </p:nvSpPr>
        <p:spPr>
          <a:xfrm>
            <a:off x="427788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517A2-FA4A-4649-9DD7-C6E4F54D60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360596-112B-4BAC-A133-B9012910F8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79FDC-E884-47AA-AE70-9159628EBCF9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86E53B-C474-43ED-8F0C-BC58AC5415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CCEA1-B511-4016-A134-5FCB14C65EEB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7680E1-1347-470F-8217-4CCD20F276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959483-19BE-4D77-9FAC-4E32AD3CBC51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7B791-7514-4910-819B-B22AAB13D9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0" y="-19872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13618-8E48-436E-82CB-C0A58185E190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1801A-F709-42F7-89EC-3CCD39D687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0" y="-19872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7EF10-0DC9-4526-ADF1-A4F471CF7974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51DAF-5900-4E3A-A2BB-B36A28EDDE6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C5AFC-2763-4CD5-8327-17D06131940F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D89FA-D922-407B-9847-79647E1EF1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0" y="-19872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23D00-FB7B-42B6-BE0A-0D2F708117AA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91CB9D-7226-42EB-9B50-47E50D7ED9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0" y="-19872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E683B-63CC-4D67-8782-696080881D66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BEA17-972A-4ADB-A9AC-1D1FA3464C8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44E62-C89D-4FCB-B222-3FBD1449C9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82B738-D020-4FA5-8986-134FDA8F1C7E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4E510-0046-492B-A148-B3F6058460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A7D9C-EE39-4DBE-A067-96B60E89B63B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4052E9-E627-4B04-8197-F4F87A6E4E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630E8-CDC1-4FA9-B575-7D36CCB134A8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59F8B-1362-4CC8-9907-35C6039C44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0" y="-228960"/>
            <a:ext cx="1440" cy="32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Microsoft YaHei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170E91-1F15-4ED4-980F-C0363B96D333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AD65B2-82F4-4F29-958B-6E60C377DE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163F5-EC00-46BD-9F22-D25414171EB0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681FE-7CD5-4A3D-92D8-4338F278BE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0" y="-360"/>
            <a:ext cx="144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E60CE-6CA1-4373-BB4B-DBD676877D8F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A3233-02ED-4234-8C90-D46B525D48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540B51-2745-437B-AF61-B30949499409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BF6BC-8AB8-4D0E-943C-200300C9FF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34AB8-AF8E-4766-8734-9F35310FC5F4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FE7BDB-C05F-4A8C-B10E-5AC7636FA6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4BB5B-E277-45AF-8270-8F5D6B6A893E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273B7-C4C9-484E-B682-7ECEE37AA8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5709E-882D-4975-9AB9-FF45E393DBD2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C55EC-5865-49D6-8C12-D756936C4D2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C66FF-B281-4262-83D0-D406F3B5F6A9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51BB15-6C33-48B6-B1F7-84BAFCC80F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D09AD2-5C2A-49AF-AD8D-D2DC71CE5D12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"/>
          <p:cNvSpPr/>
          <p:nvPr/>
        </p:nvSpPr>
        <p:spPr>
          <a:xfrm>
            <a:off x="4278240" y="10155240"/>
            <a:ext cx="3273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81C06-BA25-46C7-86A2-E10C94502A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0" y="-130032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E387B9-3453-4439-BD33-7AEC4072D82E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9E27A-0DD5-40D4-A756-AC24461644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58F9A-B5D3-4EAF-8BC1-CA57E12B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11CC8-4383-40BF-B396-36B98DE3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2AC73-FFBB-496B-9DD6-5127E7D6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C7024-F289-437A-879D-D6A86D402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80E34-32FA-41BB-B4DA-55FD0BD5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E11D7-AD17-4437-93F1-5E0789E3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0AE42-5E70-45AC-BB86-D4420449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61B75-73CE-460F-8A99-2F9EA5B7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063BC-3EE5-41DA-AE70-E27293ED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B9455-CEEC-46FD-BDE0-0A6A2356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90098-9CC0-488E-853D-961D376A67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6227B-3B65-4DCD-85CF-1038A704E8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AFACE-7A6E-4479-9E3F-EEF05808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5C97D-21D4-4CAA-82DE-BC5028C9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DE60B-C1BB-4654-BC95-73C469E5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9AB0B-8C00-4257-BA49-A87B2769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23DF57-847D-41CF-9B0A-4A9571A0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5F397E-6810-4B70-823A-22C5FE9B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748E1-6F32-476B-82BB-B1CE7F3C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672B4-5CAA-4539-8FA0-F230DD55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F64A54-B8FC-4BDF-BA1F-127C5888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195EC-5B82-452B-BE88-DAE2E30D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712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16680" y="160488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712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16680" y="3965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916C8-19A8-4BC3-AAC7-AE1A4D6D7E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168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9920" y="3965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9920" y="160488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6160" y="164268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5592600" y="4970520"/>
            <a:ext cx="2786400" cy="823680"/>
          </a:xfrm>
          <a:custGeom>
            <a:avLst/>
            <a:gdLst/>
            <a:ahLst/>
            <a:rect l="l" t="t" r="r" b="b"/>
            <a:pathLst>
              <a:path w="743" h="220">
                <a:moveTo>
                  <a:pt x="673" y="27"/>
                </a:moveTo>
                <a:cubicBezTo>
                  <a:pt x="662" y="29"/>
                  <a:pt x="650" y="30"/>
                  <a:pt x="638" y="30"/>
                </a:cubicBezTo>
                <a:cubicBezTo>
                  <a:pt x="195" y="30"/>
                  <a:pt x="195" y="30"/>
                  <a:pt x="195" y="30"/>
                </a:cubicBezTo>
                <a:cubicBezTo>
                  <a:pt x="162" y="30"/>
                  <a:pt x="131" y="38"/>
                  <a:pt x="105" y="52"/>
                </a:cubicBezTo>
                <a:cubicBezTo>
                  <a:pt x="74" y="68"/>
                  <a:pt x="48" y="92"/>
                  <a:pt x="30" y="121"/>
                </a:cubicBezTo>
                <a:cubicBezTo>
                  <a:pt x="30" y="121"/>
                  <a:pt x="30" y="122"/>
                  <a:pt x="30" y="122"/>
                </a:cubicBezTo>
                <a:cubicBezTo>
                  <a:pt x="27" y="126"/>
                  <a:pt x="25" y="131"/>
                  <a:pt x="22" y="135"/>
                </a:cubicBezTo>
                <a:cubicBezTo>
                  <a:pt x="8" y="161"/>
                  <a:pt x="1" y="190"/>
                  <a:pt x="0" y="220"/>
                </a:cubicBezTo>
                <a:cubicBezTo>
                  <a:pt x="21" y="207"/>
                  <a:pt x="45" y="198"/>
                  <a:pt x="70" y="193"/>
                </a:cubicBezTo>
                <a:cubicBezTo>
                  <a:pt x="81" y="191"/>
                  <a:pt x="93" y="190"/>
                  <a:pt x="105" y="190"/>
                </a:cubicBezTo>
                <a:cubicBezTo>
                  <a:pt x="548" y="190"/>
                  <a:pt x="548" y="190"/>
                  <a:pt x="548" y="190"/>
                </a:cubicBezTo>
                <a:cubicBezTo>
                  <a:pt x="581" y="190"/>
                  <a:pt x="612" y="182"/>
                  <a:pt x="638" y="168"/>
                </a:cubicBezTo>
                <a:cubicBezTo>
                  <a:pt x="669" y="152"/>
                  <a:pt x="695" y="128"/>
                  <a:pt x="713" y="99"/>
                </a:cubicBezTo>
                <a:cubicBezTo>
                  <a:pt x="713" y="99"/>
                  <a:pt x="713" y="99"/>
                  <a:pt x="713" y="98"/>
                </a:cubicBezTo>
                <a:cubicBezTo>
                  <a:pt x="716" y="94"/>
                  <a:pt x="718" y="89"/>
                  <a:pt x="721" y="85"/>
                </a:cubicBezTo>
                <a:cubicBezTo>
                  <a:pt x="735" y="59"/>
                  <a:pt x="742" y="30"/>
                  <a:pt x="743" y="0"/>
                </a:cubicBezTo>
                <a:cubicBezTo>
                  <a:pt x="722" y="13"/>
                  <a:pt x="698" y="23"/>
                  <a:pt x="673" y="27"/>
                </a:cubicBezTo>
                <a:close/>
              </a:path>
            </a:pathLst>
          </a:custGeom>
          <a:solidFill>
            <a:srgbClr val="1ca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 rot="10800000">
            <a:off x="5330880" y="5498640"/>
            <a:ext cx="7772400" cy="1379520"/>
          </a:xfrm>
          <a:custGeom>
            <a:avLst/>
            <a:gdLst/>
            <a:ahLst/>
            <a:rect l="l" t="t" r="r" b="b"/>
            <a:pathLst>
              <a:path w="6795" h="1207">
                <a:moveTo>
                  <a:pt x="6265" y="0"/>
                </a:moveTo>
                <a:cubicBezTo>
                  <a:pt x="6265" y="0"/>
                  <a:pt x="6265" y="0"/>
                  <a:pt x="626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35"/>
                  <a:pt x="0" y="435"/>
                  <a:pt x="0" y="435"/>
                </a:cubicBezTo>
                <a:cubicBezTo>
                  <a:pt x="5745" y="435"/>
                  <a:pt x="5745" y="435"/>
                  <a:pt x="5745" y="435"/>
                </a:cubicBezTo>
                <a:cubicBezTo>
                  <a:pt x="6020" y="435"/>
                  <a:pt x="6020" y="435"/>
                  <a:pt x="6020" y="435"/>
                </a:cubicBezTo>
                <a:cubicBezTo>
                  <a:pt x="6259" y="435"/>
                  <a:pt x="6461" y="593"/>
                  <a:pt x="6526" y="810"/>
                </a:cubicBezTo>
                <a:cubicBezTo>
                  <a:pt x="6541" y="859"/>
                  <a:pt x="6549" y="910"/>
                  <a:pt x="6549" y="964"/>
                </a:cubicBezTo>
                <a:cubicBezTo>
                  <a:pt x="6549" y="968"/>
                  <a:pt x="6549" y="972"/>
                  <a:pt x="6549" y="976"/>
                </a:cubicBezTo>
                <a:cubicBezTo>
                  <a:pt x="6547" y="1059"/>
                  <a:pt x="6526" y="1138"/>
                  <a:pt x="6490" y="1207"/>
                </a:cubicBezTo>
                <a:cubicBezTo>
                  <a:pt x="6727" y="788"/>
                  <a:pt x="6727" y="788"/>
                  <a:pt x="6727" y="788"/>
                </a:cubicBezTo>
                <a:cubicBezTo>
                  <a:pt x="6727" y="788"/>
                  <a:pt x="6727" y="788"/>
                  <a:pt x="6727" y="788"/>
                </a:cubicBezTo>
                <a:cubicBezTo>
                  <a:pt x="6727" y="788"/>
                  <a:pt x="6727" y="788"/>
                  <a:pt x="6727" y="788"/>
                </a:cubicBezTo>
                <a:cubicBezTo>
                  <a:pt x="6770" y="711"/>
                  <a:pt x="6795" y="623"/>
                  <a:pt x="6795" y="529"/>
                </a:cubicBezTo>
                <a:cubicBezTo>
                  <a:pt x="6795" y="237"/>
                  <a:pt x="6558" y="0"/>
                  <a:pt x="6265" y="0"/>
                </a:cubicBezTo>
                <a:close/>
              </a:path>
            </a:pathLst>
          </a:custGeom>
          <a:solidFill>
            <a:srgbClr val="fcb5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5" descr=""/>
          <p:cNvPicPr/>
          <p:nvPr/>
        </p:nvPicPr>
        <p:blipFill>
          <a:blip r:embed="rId2"/>
          <a:stretch/>
        </p:blipFill>
        <p:spPr>
          <a:xfrm>
            <a:off x="-1116000" y="-1295280"/>
            <a:ext cx="5688000" cy="58766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>
            <a:off x="7556400" y="228600"/>
            <a:ext cx="1282680" cy="290520"/>
          </a:xfrm>
          <a:prstGeom prst="rect">
            <a:avLst/>
          </a:prstGeom>
          <a:ln w="0">
            <a:noFill/>
          </a:ln>
        </p:spPr>
      </p:pic>
      <p:sp>
        <p:nvSpPr>
          <p:cNvPr id="5" name="Line 7"/>
          <p:cNvSpPr/>
          <p:nvPr/>
        </p:nvSpPr>
        <p:spPr>
          <a:xfrm>
            <a:off x="6067440" y="3979800"/>
            <a:ext cx="1440" cy="3175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715000" y="6465960"/>
            <a:ext cx="34178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200" spc="-1" strike="noStrike">
                <a:solidFill>
                  <a:srgbClr val="595959"/>
                </a:solidFill>
                <a:latin typeface="Georgia"/>
              </a:rPr>
              <a:t>Financial &amp; Private Sector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3657240" y="3930120"/>
            <a:ext cx="2430360" cy="360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32220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6095880" y="3930480"/>
            <a:ext cx="2438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425520" indent="-32076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57160" indent="-320760">
              <a:lnSpc>
                <a:spcPct val="100000"/>
              </a:lnSpc>
              <a:spcAft>
                <a:spcPts val="1137"/>
              </a:spcAft>
              <a:buClr>
                <a:srgbClr val="000000"/>
              </a:buClr>
              <a:buFont typeface="Symbol" charset="2"/>
              <a:buChar char="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  <a:ea typeface="Microsoft YaHe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289160" indent="-282600">
              <a:lnSpc>
                <a:spcPct val="100000"/>
              </a:lnSpc>
              <a:spcAft>
                <a:spcPts val="850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  <a:ea typeface="Microsoft YaHe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720800" indent="-209520">
              <a:lnSpc>
                <a:spcPct val="100000"/>
              </a:lnSpc>
              <a:spcAft>
                <a:spcPts val="575"/>
              </a:spcAft>
              <a:buClr>
                <a:srgbClr val="000000"/>
              </a:buClr>
              <a:buFont typeface="Symbol" charset="2"/>
              <a:buChar char="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  <a:ea typeface="Microsoft YaHe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52800" indent="-21132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  <a:ea typeface="Microsoft YaHe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52800" indent="-21132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  <a:ea typeface="Microsoft YaHe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52800" indent="-21132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  <a:ea typeface="Microsoft YaHe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152800" indent="-211320">
              <a:lnSpc>
                <a:spcPct val="100000"/>
              </a:lnSpc>
              <a:spcAft>
                <a:spcPts val="286"/>
              </a:spcAft>
              <a:buClr>
                <a:srgbClr val="000000"/>
              </a:buClr>
              <a:buFont typeface="Wingdings" charset="2"/>
              <a:buChar char=""/>
              <a:tabLst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  <a:ea typeface="Microsoft YaHei"/>
              </a:rPr>
              <a:t>Eigh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25520" indent="-320760">
              <a:lnSpc>
                <a:spcPct val="100000"/>
              </a:lnSpc>
              <a:spcBef>
                <a:spcPts val="638"/>
              </a:spcBef>
              <a:spcAft>
                <a:spcPts val="1426"/>
              </a:spcAft>
              <a:tabLst>
                <a:tab algn="l" pos="0"/>
                <a:tab algn="l" pos="425520"/>
                <a:tab algn="l" pos="873000"/>
                <a:tab algn="l" pos="1322280"/>
                <a:tab algn="l" pos="1771560"/>
                <a:tab algn="l" pos="2220840"/>
                <a:tab algn="l" pos="2670120"/>
                <a:tab algn="l" pos="3119400"/>
                <a:tab algn="l" pos="3568680"/>
                <a:tab algn="l" pos="4017960"/>
                <a:tab algn="l" pos="4467240"/>
                <a:tab algn="l" pos="4916520"/>
                <a:tab algn="l" pos="5365800"/>
                <a:tab algn="l" pos="5815080"/>
                <a:tab algn="l" pos="6264360"/>
                <a:tab algn="l" pos="6713640"/>
                <a:tab algn="l" pos="7162920"/>
                <a:tab algn="l" pos="7612200"/>
                <a:tab algn="l" pos="8061480"/>
                <a:tab algn="l" pos="8510760"/>
                <a:tab algn="l" pos="8959680"/>
                <a:tab algn="l" pos="94089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inth Outline Level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58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22/11/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58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E7227F8-08AD-4875-92C9-F1D714E82C1A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58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800" spc="-1" strike="noStrike">
                <a:solidFill>
                  <a:srgbClr val="8b8b8b"/>
                </a:solidFill>
                <a:latin typeface="Georg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800" spc="-1" strike="noStrike">
                <a:solidFill>
                  <a:srgbClr val="8b8b8b"/>
                </a:solidFill>
                <a:latin typeface="Georgia"/>
                <a:ea typeface="Arial Unicode MS"/>
              </a:rPr>
              <a:t>22/11/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258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800" spc="-1" strike="noStrike">
                <a:solidFill>
                  <a:srgbClr val="8b8b8b"/>
                </a:solidFill>
                <a:latin typeface="Georgi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CB472E6-5BB2-4072-AE45-904EFCC7C4D8}" type="slidenum">
              <a:rPr b="0" lang="en-GB" sz="1800" spc="-1" strike="noStrike">
                <a:solidFill>
                  <a:srgbClr val="8b8b8b"/>
                </a:solidFill>
                <a:latin typeface="Georgi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8.png"/><Relationship Id="rId7" Type="http://schemas.openxmlformats.org/officeDocument/2006/relationships/image" Target="../media/image5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image" Target="../media/image10.png"/><Relationship Id="rId11" Type="http://schemas.openxmlformats.org/officeDocument/2006/relationships/image" Target="../media/image5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5294160" y="0"/>
            <a:ext cx="3848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3887640"/>
            <a:ext cx="9144000" cy="511200"/>
          </a:xfrm>
          <a:prstGeom prst="rect">
            <a:avLst/>
          </a:prstGeom>
          <a:solidFill>
            <a:srgbClr val="cd41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1033560" y="1239840"/>
            <a:ext cx="77724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d4106"/>
                </a:solidFill>
                <a:latin typeface="Arial"/>
              </a:rPr>
              <a:t>Strengthening the Population's Financial Capability  – What does international experience tell 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448080" y="3855960"/>
            <a:ext cx="4344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Narrow"/>
              </a:rPr>
              <a:t>Sofia, Bulgaria 11 June 20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033560" y="3228840"/>
            <a:ext cx="6460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087560" y="5316480"/>
            <a:ext cx="404784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404040"/>
                </a:solidFill>
                <a:latin typeface="Arial Narrow"/>
              </a:rPr>
              <a:t>Shaun Mund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cd4106"/>
                </a:solidFill>
                <a:uFillTx/>
                <a:latin typeface="Arial Narrow"/>
              </a:rPr>
              <a:t>shaunmundy@hotmail.com</a:t>
            </a:r>
            <a:r>
              <a:rPr b="0" lang="en-GB" sz="2000" spc="-1" strike="noStrike">
                <a:solidFill>
                  <a:srgbClr val="cd4106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38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404040"/>
                </a:solidFill>
                <a:latin typeface="Arial Narrow"/>
              </a:rPr>
              <a:t>International Financial Literacy Consulta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97CBB-C612-4BDD-8C0F-EBAF667B6D3B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Why should financial literacy be objectiv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>
            <a:off x="457200" y="2093760"/>
            <a:ext cx="8032680" cy="24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In many countries, there is a luck of trust in the financial services industry (e.g. because of poor experiences of themselves/others – or simply unfamiliarity). People need to understand why using financial services will benefit </a:t>
            </a:r>
            <a:r>
              <a:rPr b="0" lang="en-GB" sz="2400" spc="-1" strike="noStrike">
                <a:solidFill>
                  <a:srgbClr val="ff3366"/>
                </a:solidFill>
                <a:latin typeface="Arial Narrow"/>
              </a:rPr>
              <a:t>them</a:t>
            </a: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 (and not merely be good for the business of financial institutio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Financial education is like other forms of education – the purpose is to equip people with life skills, </a:t>
            </a:r>
            <a:r>
              <a:rPr b="0" lang="en-GB" sz="2400" spc="-1" strike="noStrike">
                <a:solidFill>
                  <a:srgbClr val="ff3366"/>
                </a:solidFill>
                <a:latin typeface="Arial Narrow"/>
              </a:rPr>
              <a:t>not</a:t>
            </a: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 persuading them to acquire particular products or helping them to complete forms. (Nothing wrong with these things – but they are not financial literacy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If people think that an initiative is marketing/advertising, then the reality is that it </a:t>
            </a:r>
            <a:r>
              <a:rPr b="0" lang="en-GB" sz="2400" spc="-1" strike="noStrike">
                <a:solidFill>
                  <a:srgbClr val="ff3333"/>
                </a:solidFill>
                <a:latin typeface="Arial Narrow"/>
              </a:rPr>
              <a:t>is</a:t>
            </a: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 marketing/advertis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1C8A5-DC90-436C-874C-D5C9AD9C7655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Teach people the basic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457200" y="2093760"/>
            <a:ext cx="8032680" cy="24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If people do not budget, they are unlikely to have money to save. They need to be educated about why budgeting would </a:t>
            </a:r>
            <a:r>
              <a:rPr b="0" lang="en-GB" sz="2400" spc="-1" strike="noStrike">
                <a:solidFill>
                  <a:srgbClr val="ff3366"/>
                </a:solidFill>
                <a:latin typeface="Arial Narrow"/>
              </a:rPr>
              <a:t>benefit them</a:t>
            </a: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 – not just the mechanics of how to budg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Similarly, people need to be educated about why saving would </a:t>
            </a:r>
            <a:r>
              <a:rPr b="0" lang="en-GB" sz="2400" spc="-1" strike="noStrike">
                <a:solidFill>
                  <a:srgbClr val="ff3366"/>
                </a:solidFill>
                <a:latin typeface="Arial Narrow"/>
              </a:rPr>
              <a:t>be in their interests</a:t>
            </a: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 – not just the mechanics of how to sav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People need to be educated on how to avoid financial frauds and other unexpected losses – if they (or people they know) suffer frauds/losses, they will not feel confident in using financial institu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People need to be confident that they will be treated fairly and that they will feel welcome – or they will not use financial institu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6B459-0B7B-4A81-9B49-C37D4153A5FE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2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Insights from behavioural econom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431640" y="1601640"/>
            <a:ext cx="8033040" cy="24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Consumers' behaviour depends not only on their knowledge and skills, but also on their psychological biases/attributes. Important to focus on people's attitudes, as well as on education, information and skil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eople te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- to be overwhelmed and do nothing if they are given too much information or too many cho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- to be over-confident about their ability to manage their personal finances and to ignore information which calls into question their vi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- to struggle to make good decis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0A6F07-C477-4A13-BA54-4E41336BBA79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Lessons for financial education programm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57200" y="2093760"/>
            <a:ext cx="8032680" cy="24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Lessons include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- keep things as simple as possib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- use relevant and engaging language and contex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- repeat 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- use a variety of methods and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- direct people to particular steps (e.g. increase their saving); and make active interventions rather than merely provide passive information or edu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- provide people with training on how to make good decis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49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4FB3E2-68BF-49A9-96B3-C67E99651433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Typical features of effective financial literacy programm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3"/>
          <p:cNvSpPr/>
          <p:nvPr/>
        </p:nvSpPr>
        <p:spPr>
          <a:xfrm>
            <a:off x="457200" y="2093760"/>
            <a:ext cx="8032680" cy="24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User-friendly – being based on what consumers will in practice engage wi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Different programmes use a variety of approaches and channel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Start with the basics – build on these for those consumers who need to have more sophisticated knowledge and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Use clear, simple and lively communications (less is more!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Focus on attitudes and changing behaviours, not just knowledge and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Programmes are tested; and are monitored and evalu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289DE-8E9E-4D90-8E67-2DA96368D451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Examples of financial literacy programm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457200" y="2093760"/>
            <a:ext cx="8032680" cy="24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39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Financial education in sch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Financial education for young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Financial education presentations in workpl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Financial education via clubs, associations and community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Financial education for people in rural comm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Taking advantage of teachable mo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Use of trusted intermedi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Mass commun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Financial education days/wee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396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59F5B-C17F-4D4C-91A4-C6E829346F5D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UK example: Financial education for expectant moth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57200" y="2093760"/>
            <a:ext cx="8032680" cy="24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66"/>
                </a:solidFill>
                <a:latin typeface="Arial Narrow"/>
              </a:rPr>
              <a:t>User-friendly</a:t>
            </a: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 – a “teachable moment”. New mothers helped to design the resources. Pack is distributed by midwives (trusted intermediary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66"/>
                </a:solidFill>
                <a:latin typeface="Arial Narrow"/>
              </a:rPr>
              <a:t>Variety of approaches and channels</a:t>
            </a: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 – hard copy and interne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66"/>
                </a:solidFill>
                <a:latin typeface="Arial Narrow"/>
              </a:rPr>
              <a:t>Starts with the basics</a:t>
            </a: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 – different sections on different top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3366"/>
                </a:solidFill>
                <a:latin typeface="Arial Narrow"/>
              </a:rPr>
              <a:t>Uses clear, simple and lively communications </a:t>
            </a: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+ behavioural foc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Both concept and draft resources were </a:t>
            </a:r>
            <a:r>
              <a:rPr b="0" lang="en-GB" sz="2400" spc="-1" strike="noStrike">
                <a:solidFill>
                  <a:srgbClr val="ff3366"/>
                </a:solidFill>
                <a:latin typeface="Arial Narrow"/>
              </a:rPr>
              <a:t>tested</a:t>
            </a: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 in advance with expectant mothers + programme was </a:t>
            </a:r>
            <a:r>
              <a:rPr b="0" lang="en-GB" sz="2400" spc="-1" strike="noStrike">
                <a:solidFill>
                  <a:srgbClr val="ff3366"/>
                </a:solidFill>
                <a:latin typeface="Arial Narrow"/>
              </a:rPr>
              <a:t>monitored and evaluated</a:t>
            </a: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 (a high proportion of new mothers said the resources helped them to manage their family finances at a time of change in their liv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1" descr=""/>
          <p:cNvPicPr/>
          <p:nvPr/>
        </p:nvPicPr>
        <p:blipFill>
          <a:blip r:embed="rId1"/>
          <a:stretch/>
        </p:blipFill>
        <p:spPr>
          <a:xfrm>
            <a:off x="52560" y="21744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873B9-1EB7-4D0F-BFFA-AC0A6555B86C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457200" y="274680"/>
            <a:ext cx="82296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Prioritis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457200" y="1590840"/>
            <a:ext cx="803268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This includes deciding </a:t>
            </a:r>
            <a:r>
              <a:rPr b="0" lang="en-GB" sz="24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 to undertake initiatives which could be cost-effective – because there are other initiatives which would be more cost-effect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If any organisation tries to do too much, resources are likely to be spread too thin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Decide on some initial priorities – taking into account needs, likely reach, likely impact (i.e. changes in people's behaviour), the resources which are expected to be available, and opportun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18C90-F81B-4F7A-A3F7-30D2F6075C3B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457200" y="274680"/>
            <a:ext cx="82296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Test in advance, then monitor and evaluat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457200" y="1590840"/>
            <a:ext cx="803268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Testing can be via focus groups and/or via pilot tes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It is important to monitor and evaluate each financial education programme in order to: determine whether it is cost-effective and should be continued (possibly with changes) or whether it should be stopped; and to establish any lessons for other financial education program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Qualitative as well as quantitative assessments should be ma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Evaluation should be built in from the outset – otherwise, there will almost certainly be gaps in what can be assess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47ED86-C955-48A2-B57A-60DAC6B9CA11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457200" y="1657440"/>
            <a:ext cx="806616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79360" indent="-279360">
              <a:lnSpc>
                <a:spcPct val="100000"/>
              </a:lnSpc>
              <a:buClr>
                <a:srgbClr val="cd4106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y defini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cd4106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t concerns personal and household finan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cd4106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he aim is to influence </a:t>
            </a:r>
            <a:r>
              <a:rPr b="1" lang="en-GB" sz="2400" spc="-1" strike="noStrike">
                <a:solidFill>
                  <a:srgbClr val="cd4106"/>
                </a:solidFill>
                <a:latin typeface="Arial Narrow"/>
              </a:rPr>
              <a:t>how people behave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– not merely to give them knowledge, understanding and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0" y="2462040"/>
            <a:ext cx="9144000" cy="2621160"/>
          </a:xfrm>
          <a:prstGeom prst="rightArrow">
            <a:avLst>
              <a:gd name="adj1" fmla="val 100000"/>
              <a:gd name="adj2" fmla="val -1266207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744480" y="2467080"/>
            <a:ext cx="80694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5160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Financial literacy is the </a:t>
            </a:r>
            <a:r>
              <a:rPr b="1" i="1" lang="en-GB" sz="2000" spc="-1" strike="noStrike">
                <a:solidFill>
                  <a:srgbClr val="363630"/>
                </a:solidFill>
                <a:latin typeface="Georgia"/>
              </a:rPr>
              <a:t>knowledge</a:t>
            </a: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, </a:t>
            </a:r>
            <a:r>
              <a:rPr b="1" i="1" lang="en-GB" sz="2000" spc="-1" strike="noStrike">
                <a:solidFill>
                  <a:srgbClr val="363630"/>
                </a:solidFill>
                <a:latin typeface="Georgia"/>
              </a:rPr>
              <a:t>understanding</a:t>
            </a: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, </a:t>
            </a:r>
            <a:r>
              <a:rPr b="1" i="1" lang="en-GB" sz="2000" spc="-1" strike="noStrike">
                <a:solidFill>
                  <a:srgbClr val="363630"/>
                </a:solidFill>
                <a:latin typeface="Georgia"/>
              </a:rPr>
              <a:t>skills</a:t>
            </a: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 and</a:t>
            </a:r>
            <a:r>
              <a:rPr b="1" i="1" lang="en-GB" sz="2000" spc="-1" strike="noStrike">
                <a:solidFill>
                  <a:srgbClr val="363630"/>
                </a:solidFill>
                <a:latin typeface="Georgia"/>
              </a:rPr>
              <a:t> confidence </a:t>
            </a: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which lead a person </a:t>
            </a:r>
            <a:r>
              <a:rPr b="1" i="1" lang="en-GB" sz="2000" spc="-1" strike="noStrike">
                <a:solidFill>
                  <a:srgbClr val="363630"/>
                </a:solidFill>
                <a:latin typeface="Georgia"/>
              </a:rPr>
              <a:t>to make financial decisions </a:t>
            </a: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and take actions which are </a:t>
            </a:r>
            <a:r>
              <a:rPr b="1" i="1" lang="en-GB" sz="2000" spc="-1" strike="noStrike">
                <a:solidFill>
                  <a:srgbClr val="363630"/>
                </a:solidFill>
                <a:latin typeface="Georgia"/>
              </a:rPr>
              <a:t>appropriate to their circumstances</a:t>
            </a: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It exclud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tarSymbol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63630"/>
                </a:solidFill>
                <a:latin typeface="Georgia"/>
              </a:rPr>
              <a:t>Marketing initiative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tarSymbol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63630"/>
                </a:solidFill>
                <a:latin typeface="Georgia"/>
              </a:rPr>
              <a:t>Advice or encouragement to use a particular financial institution;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5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tarSymbol"/>
              <a:buChar char="-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363630"/>
                </a:solidFill>
                <a:latin typeface="Georgia"/>
              </a:rPr>
              <a:t>Entrepreneurshi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What is meant by financial literac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0FA22-85C9-491F-BE6A-E4F09C9082EF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2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Skills which are needed to undertake effective financial literacy programm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457200" y="2093760"/>
            <a:ext cx="8032680" cy="24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Ability to see things from consumers' perspect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Understanding of how people lear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Excellent communication skills – ability to put things simply and clearl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Ability to work successfully with partn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Project management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 Narrow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Note: the necessary levels of financial expertise can fairly easily be acquire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C48F9-7990-489F-A580-3F8F9B186EE3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457200" y="274680"/>
            <a:ext cx="82296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Common mistak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457200" y="1495440"/>
            <a:ext cx="8032680" cy="24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Unnecessary duplication – e.g. more than one financial literacy web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Undertaking programmes which are unlikely to be cost-effective (in terms of impact, reach and sustainability – given the costs involv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Going it alone – rather than working in partner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Providing what it is thought that people need – rather than what, in practice, they are willing to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Over-complica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576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363630"/>
                </a:solidFill>
                <a:latin typeface="Arial Narrow"/>
              </a:rPr>
              <a:t>Combining financial education with marketing – so, people do not trust the “financial educati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" descr=""/>
          <p:cNvPicPr/>
          <p:nvPr/>
        </p:nvPicPr>
        <p:blipFill>
          <a:blip r:embed="rId1"/>
          <a:srcRect l="1104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Oval 2"/>
          <p:cNvSpPr/>
          <p:nvPr/>
        </p:nvSpPr>
        <p:spPr>
          <a:xfrm>
            <a:off x="-766800" y="2521080"/>
            <a:ext cx="5338800" cy="54925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3"/>
          <p:cNvSpPr/>
          <p:nvPr/>
        </p:nvSpPr>
        <p:spPr>
          <a:xfrm>
            <a:off x="-658800" y="2895480"/>
            <a:ext cx="5033880" cy="4935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-152280" y="4175280"/>
            <a:ext cx="42717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6000" spc="-1" strike="noStrike">
                <a:solidFill>
                  <a:srgbClr val="cd4106"/>
                </a:solidFill>
                <a:latin typeface="Georgia"/>
              </a:rPr>
              <a:t>Thank you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5019840" y="452520"/>
            <a:ext cx="4122720" cy="3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Shaun Mun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5019840" y="743040"/>
            <a:ext cx="4122720" cy="3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shaunmundy@hotmail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348546-57BD-451D-A7E9-7BBF6A57B29D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214200" y="2184480"/>
            <a:ext cx="80661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79360" indent="-279360">
              <a:lnSpc>
                <a:spcPct val="100000"/>
              </a:lnSpc>
              <a:buClr>
                <a:srgbClr val="cd4106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Prudential regulation, financial consumer protection regulation, financial inclusion initiatives and financial literacy initiatives all have a vital role to play in the development and maintenance of a stable and vibrant financial sec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cd4106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None is sufficient on its own: they are </a:t>
            </a:r>
            <a:r>
              <a:rPr b="1" lang="en-GB" sz="2800" spc="-1" strike="noStrike">
                <a:solidFill>
                  <a:srgbClr val="cd4106"/>
                </a:solidFill>
                <a:latin typeface="Arial Narrow"/>
              </a:rPr>
              <a:t>complementary</a:t>
            </a:r>
            <a:r>
              <a:rPr b="0" lang="en-GB" sz="2800" spc="-1" strike="noStrike">
                <a:solidFill>
                  <a:srgbClr val="000000"/>
                </a:solidFill>
                <a:latin typeface="Arial Narrow"/>
              </a:rPr>
              <a:t>, rather than alternativ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Financial literacy initiatives are necessary, but not suffici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AF6F94-F423-4C6E-9374-BBA41E9908CC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476280" y="3209760"/>
            <a:ext cx="806616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 national strategy can help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Benefits of having a national strategy on financial literacy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0" y="1757520"/>
            <a:ext cx="9144000" cy="1207800"/>
          </a:xfrm>
          <a:prstGeom prst="rightArrow">
            <a:avLst>
              <a:gd name="adj1" fmla="val 100000"/>
              <a:gd name="adj2" fmla="val -2747913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76280" y="2011320"/>
            <a:ext cx="82105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In the absence of a national strategy, financial literacy initiatives tend to be</a:t>
            </a:r>
            <a:r>
              <a:rPr b="1" i="1" lang="en-GB" sz="2000" spc="-1" strike="noStrike">
                <a:solidFill>
                  <a:srgbClr val="363630"/>
                </a:solidFill>
                <a:latin typeface="Georgia"/>
              </a:rPr>
              <a:t> patchy </a:t>
            </a: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and </a:t>
            </a:r>
            <a:r>
              <a:rPr b="1" i="1" lang="en-GB" sz="2000" spc="-1" strike="noStrike">
                <a:solidFill>
                  <a:srgbClr val="363630"/>
                </a:solidFill>
                <a:latin typeface="Georgia"/>
              </a:rPr>
              <a:t>uncoordinated</a:t>
            </a: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 and to </a:t>
            </a:r>
            <a:r>
              <a:rPr b="1" i="1" lang="en-GB" sz="2000" spc="-1" strike="noStrike">
                <a:solidFill>
                  <a:srgbClr val="363630"/>
                </a:solidFill>
                <a:latin typeface="Georgia"/>
              </a:rPr>
              <a:t>lack strategic focus</a:t>
            </a: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6"/>
          <p:cNvGrpSpPr/>
          <p:nvPr/>
        </p:nvGrpSpPr>
        <p:grpSpPr>
          <a:xfrm>
            <a:off x="515880" y="3878280"/>
            <a:ext cx="5635800" cy="631800"/>
            <a:chOff x="515880" y="3878280"/>
            <a:chExt cx="5635800" cy="631800"/>
          </a:xfrm>
        </p:grpSpPr>
        <p:sp>
          <p:nvSpPr>
            <p:cNvPr id="158" name="Oval 7"/>
            <p:cNvSpPr/>
            <p:nvPr/>
          </p:nvSpPr>
          <p:spPr>
            <a:xfrm>
              <a:off x="515880" y="3878280"/>
              <a:ext cx="631800" cy="631800"/>
            </a:xfrm>
            <a:prstGeom prst="ellipse">
              <a:avLst/>
            </a:prstGeom>
            <a:solidFill>
              <a:srgbClr val="cd410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 Narrow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8"/>
            <p:cNvSpPr/>
            <p:nvPr/>
          </p:nvSpPr>
          <p:spPr>
            <a:xfrm>
              <a:off x="1239840" y="3967200"/>
              <a:ext cx="49118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595959"/>
                  </a:solidFill>
                  <a:latin typeface="Arial"/>
                </a:rPr>
                <a:t>Set priorities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Group 9"/>
          <p:cNvGrpSpPr/>
          <p:nvPr/>
        </p:nvGrpSpPr>
        <p:grpSpPr>
          <a:xfrm>
            <a:off x="515880" y="4630680"/>
            <a:ext cx="8018640" cy="865440"/>
            <a:chOff x="515880" y="4630680"/>
            <a:chExt cx="8018640" cy="865440"/>
          </a:xfrm>
        </p:grpSpPr>
        <p:sp>
          <p:nvSpPr>
            <p:cNvPr id="161" name="Oval 10"/>
            <p:cNvSpPr/>
            <p:nvPr/>
          </p:nvSpPr>
          <p:spPr>
            <a:xfrm>
              <a:off x="515880" y="4630680"/>
              <a:ext cx="631800" cy="631800"/>
            </a:xfrm>
            <a:prstGeom prst="ellipse">
              <a:avLst/>
            </a:prstGeom>
            <a:solidFill>
              <a:srgbClr val="cd410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 Narrow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11"/>
            <p:cNvSpPr/>
            <p:nvPr/>
          </p:nvSpPr>
          <p:spPr>
            <a:xfrm>
              <a:off x="1239840" y="4735440"/>
              <a:ext cx="729468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595959"/>
                  </a:solidFill>
                  <a:latin typeface="Arial"/>
                </a:rPr>
                <a:t>Harmonise the activities of stakeholders with the national strategy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515880" y="5383080"/>
            <a:ext cx="8018640" cy="865440"/>
            <a:chOff x="515880" y="5383080"/>
            <a:chExt cx="8018640" cy="865440"/>
          </a:xfrm>
        </p:grpSpPr>
        <p:sp>
          <p:nvSpPr>
            <p:cNvPr id="164" name="Oval 13"/>
            <p:cNvSpPr/>
            <p:nvPr/>
          </p:nvSpPr>
          <p:spPr>
            <a:xfrm>
              <a:off x="515880" y="5383080"/>
              <a:ext cx="631800" cy="631800"/>
            </a:xfrm>
            <a:prstGeom prst="ellipse">
              <a:avLst/>
            </a:prstGeom>
            <a:solidFill>
              <a:srgbClr val="cd4106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Arial Narrow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14"/>
            <p:cNvSpPr/>
            <p:nvPr/>
          </p:nvSpPr>
          <p:spPr>
            <a:xfrm>
              <a:off x="1239840" y="5487840"/>
              <a:ext cx="729468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200" spc="-1" strike="noStrike">
                  <a:solidFill>
                    <a:srgbClr val="595959"/>
                  </a:solidFill>
                  <a:latin typeface="Arial"/>
                </a:rPr>
                <a:t>Reduce the risk of both unplanned gaps and unnecessary duplication.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1576440" y="2530440"/>
            <a:ext cx="5991120" cy="386388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D14F2-1429-49C3-AC56-AABC7E096297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457200" y="274680"/>
            <a:ext cx="85374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Countries with or developing national financial literacy strategies include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14360" y="2149560"/>
            <a:ext cx="1487520" cy="41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Armen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Azerbaij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Austral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Belar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Braz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Cana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Colomb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Czech Republi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Eston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Ghan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Ind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Indone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Irel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Jap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Keny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Latv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Leban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Malaw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Malays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Mauriti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Mexic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Netherlan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7197840" y="2149560"/>
            <a:ext cx="1487520" cy="41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New Zeal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Niger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Pe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Pol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Portug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Roman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Russian Fede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Rwan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erb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ingapo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loven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outh Afr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p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Swed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Tanzan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Thaila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Turke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Ugan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U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Ukra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US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5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Zamb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95B7E-42EB-4217-9F37-92D5E7C26A9B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Who benefits from a more financially literate populatio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3"/>
          <p:cNvGrpSpPr/>
          <p:nvPr/>
        </p:nvGrpSpPr>
        <p:grpSpPr>
          <a:xfrm>
            <a:off x="511200" y="1789200"/>
            <a:ext cx="1171440" cy="1171440"/>
            <a:chOff x="511200" y="1789200"/>
            <a:chExt cx="1171440" cy="1171440"/>
          </a:xfrm>
        </p:grpSpPr>
        <p:grpSp>
          <p:nvGrpSpPr>
            <p:cNvPr id="174" name="Group 4"/>
            <p:cNvGrpSpPr/>
            <p:nvPr/>
          </p:nvGrpSpPr>
          <p:grpSpPr>
            <a:xfrm>
              <a:off x="511200" y="1789200"/>
              <a:ext cx="1171440" cy="1171440"/>
              <a:chOff x="511200" y="1789200"/>
              <a:chExt cx="1171440" cy="1171440"/>
            </a:xfrm>
          </p:grpSpPr>
          <p:sp>
            <p:nvSpPr>
              <p:cNvPr id="175" name="Oval 5"/>
              <p:cNvSpPr/>
              <p:nvPr/>
            </p:nvSpPr>
            <p:spPr>
              <a:xfrm>
                <a:off x="511200" y="1789200"/>
                <a:ext cx="1171440" cy="1171440"/>
              </a:xfrm>
              <a:prstGeom prst="ellips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Oval 6"/>
              <p:cNvSpPr/>
              <p:nvPr/>
            </p:nvSpPr>
            <p:spPr>
              <a:xfrm>
                <a:off x="585720" y="1865160"/>
                <a:ext cx="1022400" cy="1022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77" name="Picture 7" descr=""/>
            <p:cNvPicPr/>
            <p:nvPr/>
          </p:nvPicPr>
          <p:blipFill>
            <a:blip r:embed="rId2"/>
            <a:stretch/>
          </p:blipFill>
          <p:spPr>
            <a:xfrm>
              <a:off x="895320" y="1932120"/>
              <a:ext cx="401760" cy="86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Group 8"/>
          <p:cNvGrpSpPr/>
          <p:nvPr/>
        </p:nvGrpSpPr>
        <p:grpSpPr>
          <a:xfrm>
            <a:off x="5432400" y="1797120"/>
            <a:ext cx="1171440" cy="1171440"/>
            <a:chOff x="5432400" y="1797120"/>
            <a:chExt cx="1171440" cy="1171440"/>
          </a:xfrm>
        </p:grpSpPr>
        <p:grpSp>
          <p:nvGrpSpPr>
            <p:cNvPr id="179" name="Group 9"/>
            <p:cNvGrpSpPr/>
            <p:nvPr/>
          </p:nvGrpSpPr>
          <p:grpSpPr>
            <a:xfrm>
              <a:off x="5432400" y="1797120"/>
              <a:ext cx="1171440" cy="1171440"/>
              <a:chOff x="5432400" y="1797120"/>
              <a:chExt cx="1171440" cy="1171440"/>
            </a:xfrm>
          </p:grpSpPr>
          <p:sp>
            <p:nvSpPr>
              <p:cNvPr id="180" name="Oval 10"/>
              <p:cNvSpPr/>
              <p:nvPr/>
            </p:nvSpPr>
            <p:spPr>
              <a:xfrm>
                <a:off x="5432400" y="1797120"/>
                <a:ext cx="1171440" cy="11714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Oval 11"/>
              <p:cNvSpPr/>
              <p:nvPr/>
            </p:nvSpPr>
            <p:spPr>
              <a:xfrm>
                <a:off x="5505480" y="1874880"/>
                <a:ext cx="1022400" cy="1022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82" name="Picture 12" descr=""/>
            <p:cNvPicPr/>
            <p:nvPr/>
          </p:nvPicPr>
          <p:blipFill>
            <a:blip r:embed="rId4"/>
            <a:stretch/>
          </p:blipFill>
          <p:spPr>
            <a:xfrm>
              <a:off x="5656320" y="2125800"/>
              <a:ext cx="723960" cy="514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3" name="Group 13"/>
          <p:cNvGrpSpPr/>
          <p:nvPr/>
        </p:nvGrpSpPr>
        <p:grpSpPr>
          <a:xfrm>
            <a:off x="5432400" y="3436920"/>
            <a:ext cx="1171440" cy="1171440"/>
            <a:chOff x="5432400" y="3436920"/>
            <a:chExt cx="1171440" cy="1171440"/>
          </a:xfrm>
        </p:grpSpPr>
        <p:grpSp>
          <p:nvGrpSpPr>
            <p:cNvPr id="184" name="Group 14"/>
            <p:cNvGrpSpPr/>
            <p:nvPr/>
          </p:nvGrpSpPr>
          <p:grpSpPr>
            <a:xfrm>
              <a:off x="5432400" y="3436920"/>
              <a:ext cx="1171440" cy="1171440"/>
              <a:chOff x="5432400" y="3436920"/>
              <a:chExt cx="1171440" cy="1171440"/>
            </a:xfrm>
          </p:grpSpPr>
          <p:sp>
            <p:nvSpPr>
              <p:cNvPr id="185" name="Oval 15"/>
              <p:cNvSpPr/>
              <p:nvPr/>
            </p:nvSpPr>
            <p:spPr>
              <a:xfrm>
                <a:off x="5432400" y="3436920"/>
                <a:ext cx="1171440" cy="117144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Oval 16"/>
              <p:cNvSpPr/>
              <p:nvPr/>
            </p:nvSpPr>
            <p:spPr>
              <a:xfrm>
                <a:off x="5505480" y="3514680"/>
                <a:ext cx="1022400" cy="1022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87" name="Picture 17" descr=""/>
            <p:cNvPicPr/>
            <p:nvPr/>
          </p:nvPicPr>
          <p:blipFill>
            <a:blip r:embed="rId6"/>
            <a:stretch/>
          </p:blipFill>
          <p:spPr>
            <a:xfrm>
              <a:off x="5661000" y="3660840"/>
              <a:ext cx="731880" cy="66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Group 18"/>
          <p:cNvGrpSpPr/>
          <p:nvPr/>
        </p:nvGrpSpPr>
        <p:grpSpPr>
          <a:xfrm>
            <a:off x="511200" y="5078520"/>
            <a:ext cx="1171440" cy="1171440"/>
            <a:chOff x="511200" y="5078520"/>
            <a:chExt cx="1171440" cy="1171440"/>
          </a:xfrm>
        </p:grpSpPr>
        <p:grpSp>
          <p:nvGrpSpPr>
            <p:cNvPr id="189" name="Group 19"/>
            <p:cNvGrpSpPr/>
            <p:nvPr/>
          </p:nvGrpSpPr>
          <p:grpSpPr>
            <a:xfrm>
              <a:off x="511200" y="5078520"/>
              <a:ext cx="1171440" cy="1171440"/>
              <a:chOff x="511200" y="5078520"/>
              <a:chExt cx="1171440" cy="1171440"/>
            </a:xfrm>
          </p:grpSpPr>
          <p:sp>
            <p:nvSpPr>
              <p:cNvPr id="190" name="Oval 20"/>
              <p:cNvSpPr/>
              <p:nvPr/>
            </p:nvSpPr>
            <p:spPr>
              <a:xfrm>
                <a:off x="511200" y="5078520"/>
                <a:ext cx="1171440" cy="117144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Oval 21"/>
              <p:cNvSpPr/>
              <p:nvPr/>
            </p:nvSpPr>
            <p:spPr>
              <a:xfrm>
                <a:off x="585720" y="5156280"/>
                <a:ext cx="1022400" cy="1022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92" name="Picture 22" descr=""/>
            <p:cNvPicPr/>
            <p:nvPr/>
          </p:nvPicPr>
          <p:blipFill>
            <a:blip r:embed="rId8"/>
            <a:stretch/>
          </p:blipFill>
          <p:spPr>
            <a:xfrm>
              <a:off x="731880" y="5335560"/>
              <a:ext cx="728640" cy="60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3" name="Group 23"/>
          <p:cNvGrpSpPr/>
          <p:nvPr/>
        </p:nvGrpSpPr>
        <p:grpSpPr>
          <a:xfrm>
            <a:off x="511200" y="3433680"/>
            <a:ext cx="1171440" cy="1171800"/>
            <a:chOff x="511200" y="3433680"/>
            <a:chExt cx="1171440" cy="1171800"/>
          </a:xfrm>
        </p:grpSpPr>
        <p:grpSp>
          <p:nvGrpSpPr>
            <p:cNvPr id="194" name="Group 24"/>
            <p:cNvGrpSpPr/>
            <p:nvPr/>
          </p:nvGrpSpPr>
          <p:grpSpPr>
            <a:xfrm>
              <a:off x="511200" y="3433680"/>
              <a:ext cx="1171440" cy="1171800"/>
              <a:chOff x="511200" y="3433680"/>
              <a:chExt cx="1171440" cy="1171800"/>
            </a:xfrm>
          </p:grpSpPr>
          <p:sp>
            <p:nvSpPr>
              <p:cNvPr id="195" name="Oval 25"/>
              <p:cNvSpPr/>
              <p:nvPr/>
            </p:nvSpPr>
            <p:spPr>
              <a:xfrm>
                <a:off x="511200" y="3433680"/>
                <a:ext cx="1171440" cy="117180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Oval 26"/>
              <p:cNvSpPr/>
              <p:nvPr/>
            </p:nvSpPr>
            <p:spPr>
              <a:xfrm>
                <a:off x="585720" y="3510000"/>
                <a:ext cx="1022400" cy="1022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97" name="Picture 27" descr=""/>
            <p:cNvPicPr/>
            <p:nvPr/>
          </p:nvPicPr>
          <p:blipFill>
            <a:blip r:embed="rId10"/>
            <a:stretch/>
          </p:blipFill>
          <p:spPr>
            <a:xfrm>
              <a:off x="735120" y="3632040"/>
              <a:ext cx="723960" cy="7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Rectangle 28"/>
            <p:cNvSpPr/>
            <p:nvPr/>
          </p:nvSpPr>
          <p:spPr>
            <a:xfrm>
              <a:off x="1011240" y="3643200"/>
              <a:ext cx="14760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$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Group 29"/>
          <p:cNvGrpSpPr/>
          <p:nvPr/>
        </p:nvGrpSpPr>
        <p:grpSpPr>
          <a:xfrm>
            <a:off x="5432400" y="5006880"/>
            <a:ext cx="1171440" cy="1171800"/>
            <a:chOff x="5432400" y="5006880"/>
            <a:chExt cx="1171440" cy="1171800"/>
          </a:xfrm>
        </p:grpSpPr>
        <p:grpSp>
          <p:nvGrpSpPr>
            <p:cNvPr id="200" name="Group 30"/>
            <p:cNvGrpSpPr/>
            <p:nvPr/>
          </p:nvGrpSpPr>
          <p:grpSpPr>
            <a:xfrm>
              <a:off x="5432400" y="5006880"/>
              <a:ext cx="1171440" cy="1171800"/>
              <a:chOff x="5432400" y="5006880"/>
              <a:chExt cx="1171440" cy="1171800"/>
            </a:xfrm>
          </p:grpSpPr>
          <p:sp>
            <p:nvSpPr>
              <p:cNvPr id="201" name="Oval 31"/>
              <p:cNvSpPr/>
              <p:nvPr/>
            </p:nvSpPr>
            <p:spPr>
              <a:xfrm>
                <a:off x="5432400" y="5006880"/>
                <a:ext cx="1171440" cy="1171800"/>
              </a:xfrm>
              <a:prstGeom prst="ellipse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Oval 32"/>
              <p:cNvSpPr/>
              <p:nvPr/>
            </p:nvSpPr>
            <p:spPr>
              <a:xfrm>
                <a:off x="5505480" y="5084640"/>
                <a:ext cx="1022400" cy="1022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3" name="Picture 33" descr=""/>
            <p:cNvPicPr/>
            <p:nvPr/>
          </p:nvPicPr>
          <p:blipFill>
            <a:blip r:embed="rId12"/>
            <a:stretch/>
          </p:blipFill>
          <p:spPr>
            <a:xfrm>
              <a:off x="5716440" y="5203800"/>
              <a:ext cx="601920" cy="7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Rectangle 34"/>
          <p:cNvSpPr/>
          <p:nvPr/>
        </p:nvSpPr>
        <p:spPr>
          <a:xfrm>
            <a:off x="1755720" y="1781280"/>
            <a:ext cx="352116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cd4106"/>
                </a:solidFill>
                <a:latin typeface="Georgia"/>
              </a:rPr>
              <a:t>Consu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more likely to take advantage of formal financial products which are suitable for them; less likely to accumulate unmanageable debts; less likely to fall victim to financial frauds, such as Ponzi sche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35"/>
          <p:cNvSpPr/>
          <p:nvPr/>
        </p:nvSpPr>
        <p:spPr>
          <a:xfrm>
            <a:off x="1755720" y="3433680"/>
            <a:ext cx="356256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cd4106"/>
                </a:solidFill>
                <a:latin typeface="Georgia"/>
              </a:rPr>
              <a:t>Financial services indus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Narrow"/>
              </a:rPr>
              <a:t>consumers who are informed and engaged are more likely to buy appropriate financial products and services (this increases business volumes; reduces marketing costs; and leads to fewer complaint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36"/>
          <p:cNvSpPr/>
          <p:nvPr/>
        </p:nvSpPr>
        <p:spPr>
          <a:xfrm>
            <a:off x="1755720" y="5218200"/>
            <a:ext cx="321156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cd4106"/>
                </a:solidFill>
                <a:latin typeface="Georgia"/>
              </a:rPr>
              <a:t>Financial services regulators and the Gover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37"/>
          <p:cNvSpPr/>
          <p:nvPr/>
        </p:nvSpPr>
        <p:spPr>
          <a:xfrm>
            <a:off x="6684840" y="2182680"/>
            <a:ext cx="2192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cd4106"/>
                </a:solidFill>
                <a:latin typeface="Georgia"/>
              </a:rPr>
              <a:t>Educationalis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38"/>
          <p:cNvSpPr/>
          <p:nvPr/>
        </p:nvSpPr>
        <p:spPr>
          <a:xfrm>
            <a:off x="6684840" y="3809880"/>
            <a:ext cx="2192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cd4106"/>
                </a:solidFill>
                <a:latin typeface="Georgia"/>
              </a:rPr>
              <a:t>Employ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39"/>
          <p:cNvSpPr/>
          <p:nvPr/>
        </p:nvSpPr>
        <p:spPr>
          <a:xfrm>
            <a:off x="6684840" y="5415120"/>
            <a:ext cx="219240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cd4106"/>
                </a:solidFill>
                <a:latin typeface="Georgia"/>
              </a:rPr>
              <a:t>NG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D1CF7-B522-4213-8D65-05BFFB372086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Working in partnership: International experi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rcRect l="0" t="8969" r="0" b="3918"/>
          <a:stretch/>
        </p:blipFill>
        <p:spPr>
          <a:xfrm>
            <a:off x="3230640" y="1765440"/>
            <a:ext cx="2485800" cy="16588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4"/>
          <p:cNvSpPr/>
          <p:nvPr/>
        </p:nvSpPr>
        <p:spPr>
          <a:xfrm>
            <a:off x="457200" y="3591000"/>
            <a:ext cx="803268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No single organisation can improve financial literacy on its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There are many organisations with an interest in improving people's financial literacy who can potentially contribut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Typically, a broad range of partners from the public, private and non-profit sectors collabo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Most commonly, the implementation of national strategies on financial literacy is led by a financial services regul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5761F-7767-413B-BE5B-D06CC234E1B9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Working in partnership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UK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rcRect l="0" t="8969" r="0" b="3918"/>
          <a:stretch/>
        </p:blipFill>
        <p:spPr>
          <a:xfrm>
            <a:off x="3230640" y="1765440"/>
            <a:ext cx="2485800" cy="165888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4"/>
          <p:cNvSpPr/>
          <p:nvPr/>
        </p:nvSpPr>
        <p:spPr>
          <a:xfrm>
            <a:off x="457200" y="3240000"/>
            <a:ext cx="803268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Development and implementation of first national strategy on financial literacy led by regulator (Financial Services Authority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Steering Group advised FSA, comprising Ministers + Chairmen &amp; CEOs of FS industry, NGOs, educationalists, employers, med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Many different types of organisation worked in partnership – e.g. FSA, Government, financial institutions, educational bodies, NGOs (especially those supporting various types of disadvantaged people), employers &amp; med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Aft>
                <a:spcPts val="1199"/>
              </a:spcAft>
              <a:buClr>
                <a:srgbClr val="cd4106"/>
              </a:buClr>
              <a:buFont typeface="Arial"/>
              <a:buChar char="•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63630"/>
                </a:solidFill>
                <a:latin typeface="Georgia"/>
              </a:rPr>
              <a:t>Organisations typically consulted FSA before deciding on FL projects – to enable them to fill gaps &amp; to avoid duplic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4A0F4-120B-458D-BA63-5880DBBF6C44}" type="slidenum">
              <a:rPr b="0" lang="en-GB" sz="1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431640" y="3979800"/>
            <a:ext cx="8066160" cy="26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79360" indent="-279360">
              <a:lnSpc>
                <a:spcPct val="100000"/>
              </a:lnSpc>
              <a:buClr>
                <a:srgbClr val="cd4106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... so long as “financial literacy” programmes are not, in reality, marke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cd4106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eople need to be able to trust a financial education initiative as providing objective advice. They will not do so if it is – or seems to be – an advertisement or other marke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9360" indent="-279360">
              <a:lnSpc>
                <a:spcPct val="100000"/>
              </a:lnSpc>
              <a:buClr>
                <a:srgbClr val="cd4106"/>
              </a:buClr>
              <a:buFont typeface="Arial"/>
              <a:buChar char="•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n UK, an educational NGO awards Quality Marks – which teachers can rely on – to resources which meet criteria, including obje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457200" y="274680"/>
            <a:ext cx="82296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3600" spc="-1" strike="noStrike">
                <a:solidFill>
                  <a:srgbClr val="cd4106"/>
                </a:solidFill>
                <a:latin typeface="Georgia"/>
              </a:rPr>
              <a:t>Banks and other financial institutions can play an important role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Group 4"/>
          <p:cNvGrpSpPr/>
          <p:nvPr/>
        </p:nvGrpSpPr>
        <p:grpSpPr>
          <a:xfrm>
            <a:off x="1320840" y="2232000"/>
            <a:ext cx="6495480" cy="1990800"/>
            <a:chOff x="1320840" y="2232000"/>
            <a:chExt cx="6495480" cy="1990800"/>
          </a:xfrm>
        </p:grpSpPr>
        <p:sp>
          <p:nvSpPr>
            <p:cNvPr id="222" name="Rectangle 5"/>
            <p:cNvSpPr/>
            <p:nvPr/>
          </p:nvSpPr>
          <p:spPr>
            <a:xfrm>
              <a:off x="1320840" y="2232000"/>
              <a:ext cx="3243600" cy="19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inancial Literac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6"/>
            <p:cNvSpPr/>
            <p:nvPr/>
          </p:nvSpPr>
          <p:spPr>
            <a:xfrm>
              <a:off x="4572720" y="2232000"/>
              <a:ext cx="3243600" cy="19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rketing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Rectangle 7"/>
          <p:cNvSpPr/>
          <p:nvPr/>
        </p:nvSpPr>
        <p:spPr>
          <a:xfrm rot="1020000">
            <a:off x="4435200" y="2651040"/>
            <a:ext cx="274680" cy="1155960"/>
          </a:xfrm>
          <a:prstGeom prst="rect">
            <a:avLst/>
          </a:prstGeom>
          <a:solidFill>
            <a:srgbClr val="cd41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na Jaeger</dc:creator>
  <dc:description/>
  <dc:language>en-US</dc:language>
  <cp:lastModifiedBy>Johanna Jaeger</cp:lastModifiedBy>
  <dcterms:modified xsi:type="dcterms:W3CDTF">2014-05-27T15:34:42Z</dcterms:modified>
  <cp:revision>1</cp:revision>
  <dc:subject/>
  <dc:title>PowerPoint Presentation</dc:title>
</cp:coreProperties>
</file>