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0.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93D6-9447-4799-A411-FA8FB89CFF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1A73-C652-4CF8-A60A-6FBC88B0B3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Notes Placeholder 3"/>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2"/>
          <p:cNvSpPr>
            <a:spLocks noGrp="1"/>
          </p:cNvSpPr>
          <p:nvPr>
            <p:ph type="body"/>
          </p:nvPr>
        </p:nvSpPr>
        <p:spPr>
          <a:xfrm>
            <a:off x="1068480" y="448452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w here is: if you want to solve problem need to go to the root of the problem: it is the underlying drivers of behavou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d to understand this to change behaviou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MA one framework to analyse behaviou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De I staat voor de </a:t>
            </a:r>
            <a:r>
              <a:rPr b="1" lang="nl-NL" sz="1000" spc="-1" strike="noStrike">
                <a:solidFill>
                  <a:srgbClr val="000000"/>
                </a:solidFill>
                <a:latin typeface="Calibri"/>
              </a:rPr>
              <a:t>interne norm, </a:t>
            </a:r>
            <a:r>
              <a:rPr b="0" lang="nl-NL" sz="1000" spc="-1" strike="noStrike">
                <a:solidFill>
                  <a:srgbClr val="000000"/>
                </a:solidFill>
                <a:latin typeface="Calibri"/>
              </a:rPr>
              <a:t>dit is de intrinsieke motivatie van mensen om normen na te leven of te overtreden. De interne norm is de belangrijkste motivatie voor het al dan niet overtreden van normen, maar tegelijkertijd het moeilijkst te veranderen, want verankerd in de fundamentele waarden die mensen over het leven hebben gevormd.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De S staat voor de </a:t>
            </a:r>
            <a:r>
              <a:rPr b="1" lang="nl-NL" sz="1000" spc="-1" strike="noStrike">
                <a:solidFill>
                  <a:srgbClr val="000000"/>
                </a:solidFill>
                <a:latin typeface="Calibri"/>
              </a:rPr>
              <a:t>sociale norm</a:t>
            </a:r>
            <a:r>
              <a:rPr b="0" lang="nl-NL" sz="1000" spc="-1" strike="noStrike">
                <a:solidFill>
                  <a:srgbClr val="000000"/>
                </a:solidFill>
                <a:latin typeface="Calibri"/>
              </a:rPr>
              <a:t>. Ofwel wat men denkt dat volgens ‘anderen’ juist is. Dit bestaat uit het gedrag en de opvattingen uit de sociale omgeving. De sociale norm is volgens het rapport de belangrijkste remmende kracht bij een non-compliante interne norm.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De </a:t>
            </a:r>
            <a:r>
              <a:rPr b="1" lang="nl-NL" sz="1000" spc="-1" strike="noStrike">
                <a:solidFill>
                  <a:srgbClr val="000000"/>
                </a:solidFill>
                <a:latin typeface="Calibri"/>
              </a:rPr>
              <a:t>M staat voor de mogelijkheden </a:t>
            </a:r>
            <a:r>
              <a:rPr b="0" lang="nl-NL" sz="1000" spc="-1" strike="noStrike">
                <a:solidFill>
                  <a:srgbClr val="000000"/>
                </a:solidFill>
                <a:latin typeface="Calibri"/>
              </a:rPr>
              <a:t>voor normnaleving en normovertreding, hoe gemakkelijk of moeilijk is het om je aan de wet te (kunnen) houden. Hoe moeilijk, belastend of duur is het om de norm na te leven? Welke kennis en vaardigheden zijn hiervoor vereist. En andersom hoe eenvoudig is het om te overtred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De </a:t>
            </a:r>
            <a:r>
              <a:rPr b="1" lang="nl-NL" sz="1000" spc="-1" strike="noStrike">
                <a:solidFill>
                  <a:srgbClr val="000000"/>
                </a:solidFill>
                <a:latin typeface="Calibri"/>
              </a:rPr>
              <a:t>A staat voor afschrikking</a:t>
            </a:r>
            <a:r>
              <a:rPr b="0" lang="nl-NL" sz="1000" spc="-1" strike="noStrike">
                <a:solidFill>
                  <a:srgbClr val="000000"/>
                </a:solidFill>
                <a:latin typeface="Calibri"/>
              </a:rPr>
              <a:t>, ofwel de perceptie van de controle, pak- en sanctiekans. Deze wordt beschreven als de zwakste remmende kracht van non-compliant gedrag.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De volgende definitie van handhavingscommunicatie sluit aan bij de vier factoren die hierboven zijn beschreven: </a:t>
            </a:r>
            <a:r>
              <a:rPr b="0" i="1" lang="nl-NL" sz="1000" spc="-1" strike="noStrike">
                <a:solidFill>
                  <a:srgbClr val="000000"/>
                </a:solidFill>
                <a:latin typeface="Calibri"/>
              </a:rPr>
              <a:t>“Handhavingscommunicatie kan worden gedefinieerd als een handhavinginstrument dat met behulp van communicatie het naleefgedrag van de doelgroep verbetert door het beïnvloeden van de mate van voorkomen van kennis-, motivatie- en controle- en sanctiefactoren.”</a:t>
            </a:r>
            <a:r>
              <a:rPr b="0" lang="nl-NL" sz="1000" spc="-1" strike="noStrike">
                <a:solidFill>
                  <a:srgbClr val="000000"/>
                </a:solidFill>
                <a:latin typeface="Calibri"/>
              </a:rPr>
              <a:t> </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r>
              <a:rPr b="0" lang="nl-NL" sz="1000" spc="-1" strike="noStrike">
                <a:solidFill>
                  <a:srgbClr val="000000"/>
                </a:solidFill>
                <a:latin typeface="Calibri"/>
              </a:rPr>
              <a:t>Normatieve communicatie’ is de communicatie die inspeelt op de sociale en persoonlijke normen, op naleving die voorkomt uit normbesef of plichtsgevoel. Mensen doen iets omdat ze vinden dat het zo hoort, omdat ze dit gedrag juist vinden of omdat dit gebruikelijk is. Deze vorm richt zich op het benadrukken van de heersende norm en kan deze in verband brengen met al bestaande waarden van een bepaalde doelgroep. Ook het communiceren over de rechtvaardigheid van de regelgeving valt onder dit kopje. Voorbeelden van normatieve communicatie zijn: ‘de meerderheid leeft de regels na’, ‘overtreders zijn een afwijkende minderheid’, ‘ons soort mensen houdt zich aan de regels’, ‘regels zijn eerlijk’, ‘handhaving verloopt eerlijk en rechtvaardig’. </a:t>
            </a:r>
            <a:endParaRPr b="0" lang="en-US" sz="1000" spc="-1" strike="noStrike">
              <a:solidFill>
                <a:srgbClr val="000000"/>
              </a:solidFill>
              <a:latin typeface="Calibri"/>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4131-1E4C-477D-B867-C92E981363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en einde aan creativeteit. Wat werkt en niet werkt hangt af van omstandigheden en analyse van het probleem. Gaat het om wettelijk of bovenwettelijk. Cultuur, Juridisch kader (vb America) . Ontmoet je welwillendheid. Is er een verleden.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langrijk: betekent niet een of het ander. Zit allemaal in de toolbox. Alleen niet op lineaire manier formele ladder aflo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Onderzoek: Effect van handhavingmaatregelen AFM</a:t>
            </a:r>
            <a:br>
              <a:rPr sz="1100"/>
            </a:b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ypothese 1: </a:t>
            </a:r>
            <a:r>
              <a:rPr b="0" i="1" lang="nl-NL" sz="1100" spc="-1" strike="noStrike">
                <a:solidFill>
                  <a:srgbClr val="000000"/>
                </a:solidFill>
                <a:latin typeface="Calibri"/>
              </a:rPr>
              <a:t>zwaardere maatregelen zijn effectiever </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Wat is het effect? </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straffende maatregelen</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rstellende maatregelen</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Formele maatregelen</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formele maatregelen</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Conclusie; Informele maatregelen beïnvloeden het aantal signalen na een maatregel significa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Op dit moment zijn we niet goed in staat te beoordelen welke handhavingmaatregelen het grootste effect hebben in het beïnvloeden van instellingen. Om inzicht te verkrijgen in de vraag of onze inspanningen effectief zijn, zijn twee onderzoeken gedaa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eerste onderzoek is een kwantitatief onderzoek waarbij binnen de bemiddelaarmarkt is bekeken of een opgelegde maatregel invloed heeft gehad op de bestrafte instelling. Er is nagegaan of een maatregel het aantal signalen wat ontvangen wordt beïnvloed wordt door de maatregel. Het aantal signalen voor en na een maatregel zijn met elkaar vergele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Voor verdere details verwijs ik jullie naar het memo hierover. Voor nu wil ik heel kort ingaan op de resultate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Om na te gaan welke categorie maatregelen meer effectief zou zijn in het beïnvloeden van instellingen is een verdeling gemaakt in (informeel/formeel) en daarna is binnen de categorie formeel nog een onderscheid gemaakt in herstellend en bestraffen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Bestraffende maatregelen hadden in geen enkele categorie invloed op de signal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rstellende maatregelen hadden wel invloed, als we kijken naar welke maatregelen binnen die categorie zien we dat alleen de aanwijzing een significante daling in het signalen daarna laat zi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nneer we de formele categorie in zijn geheel beschouwen kunnen we stellen dat geen enkele maatregel de signalen beïnvloed na de maatregel behalve de aanwijzing.</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 informele categorie bestaat uit drie verschillende maatregelen waarvan 2 maatregelen een positieve invloed laten zien op de signalen. De trend die hieruit op te maken valt is dat de informele maatregelen effectiever zijn in het beïnvloeden van de signalen na de maatregel en daarmee veelbelovender zijn als gedragsbeïnvloeding dan formeel.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Elk onderzoek heeft zijn beperkingen maar de uitkomsten laten een duidelijke trend zi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Onderzoek:  Effect van handhavingmaatregelen AFM</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ypothese 2: </a:t>
            </a:r>
            <a:r>
              <a:rPr b="0" i="1" lang="nl-NL" sz="1100" spc="-1" strike="noStrike">
                <a:solidFill>
                  <a:srgbClr val="000000"/>
                </a:solidFill>
                <a:latin typeface="Calibri"/>
              </a:rPr>
              <a:t>Publiceren van formele maatregelen zorgt voor uitstraling</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Wat gebeurt er met: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kendheid</a:t>
            </a:r>
            <a:r>
              <a:rPr b="0" lang="nl-NL" sz="1100" spc="-1" strike="noStrike">
                <a:solidFill>
                  <a:srgbClr val="000000"/>
                </a:solidFill>
                <a:latin typeface="Calibri"/>
              </a:rPr>
              <a:t>	</a:t>
            </a:r>
            <a:r>
              <a:rPr b="0" lang="nl-NL" sz="1100" spc="-1" strike="noStrike">
                <a:solidFill>
                  <a:srgbClr val="000000"/>
                </a:solidFill>
                <a:latin typeface="Calibri"/>
              </a:rPr>
              <a:t>	</a:t>
            </a:r>
            <a:r>
              <a:rPr b="0" lang="nl-NL" sz="1100" spc="-1" strike="noStrike">
                <a:solidFill>
                  <a:srgbClr val="000000"/>
                </a:solidFill>
                <a:latin typeface="Calibri"/>
              </a:rPr>
              <a:t>75% is bekend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Aandacht  </a:t>
            </a:r>
            <a:r>
              <a:rPr b="0" lang="nl-NL" sz="1100" spc="-1" strike="noStrike">
                <a:solidFill>
                  <a:srgbClr val="000000"/>
                </a:solidFill>
                <a:latin typeface="Calibri"/>
              </a:rPr>
              <a:t>	</a:t>
            </a:r>
            <a:r>
              <a:rPr b="0" lang="nl-NL" sz="1100" spc="-1" strike="noStrike">
                <a:solidFill>
                  <a:srgbClr val="000000"/>
                </a:solidFill>
                <a:latin typeface="Calibri"/>
              </a:rPr>
              <a:t>	</a:t>
            </a:r>
            <a:r>
              <a:rPr b="0" lang="nl-NL" sz="1100" spc="-1" strike="noStrike">
                <a:solidFill>
                  <a:srgbClr val="000000"/>
                </a:solidFill>
                <a:latin typeface="Calibri"/>
              </a:rPr>
              <a:t>0% actief op zoek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ouding AFM</a:t>
            </a:r>
            <a:r>
              <a:rPr b="0" lang="nl-NL" sz="1100" spc="-1" strike="noStrike">
                <a:solidFill>
                  <a:srgbClr val="000000"/>
                </a:solidFill>
                <a:latin typeface="Calibri"/>
              </a:rPr>
              <a:t>	</a:t>
            </a:r>
            <a:r>
              <a:rPr b="0" lang="nl-NL" sz="1100" spc="-1" strike="noStrike">
                <a:solidFill>
                  <a:srgbClr val="000000"/>
                </a:solidFill>
                <a:latin typeface="Calibri"/>
              </a:rPr>
              <a:t>60% -&gt; 27% positief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eren</a:t>
            </a:r>
            <a:r>
              <a:rPr b="0" lang="nl-NL" sz="1100" spc="-1" strike="noStrike">
                <a:solidFill>
                  <a:srgbClr val="000000"/>
                </a:solidFill>
                <a:latin typeface="Calibri"/>
              </a:rPr>
              <a:t>	</a:t>
            </a:r>
            <a:r>
              <a:rPr b="0" lang="nl-NL" sz="1100" spc="-1" strike="noStrike">
                <a:solidFill>
                  <a:srgbClr val="000000"/>
                </a:solidFill>
                <a:latin typeface="Calibri"/>
              </a:rPr>
              <a:t>	</a:t>
            </a:r>
            <a:r>
              <a:rPr b="0" lang="nl-NL" sz="1100" spc="-1" strike="noStrike">
                <a:solidFill>
                  <a:srgbClr val="000000"/>
                </a:solidFill>
                <a:latin typeface="Calibri"/>
              </a:rPr>
              <a:t>75% leert nie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Conclusie; Er is geen indicatie om aan te nemen dat een uitstralingseffect optreed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tweede onderzoek betreft de vraag of er sprake is van een uitstralings effect. Het publiceren van opgelegde maatregelen beïnvloed andere niet bestrafte instellingen. Informele maatregelen kunnen per definitie geen preventief effect hebben, aangezien over deze maatregelen geen publicaties gedaan (mogen) worden. Daarom is in een kwalitatief onderzoek nagegaan of er sprake is van het uitstralingseffec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Voor dit onderzoek zijn vier boetes (eerste helft van 2010) genomen. Aan de hand van de activiteiten van de instelling die de boete opgelegd heeft gekregen zijn instellingen geselecteerd die ‘gelijkwaardig’ zouden zijn aan de instelling die een boete opgelegd heeft gekregen. In totaal zijn 15 instellingen gebel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Bekendheid; </a:t>
            </a:r>
            <a:r>
              <a:rPr b="0" lang="nl-NL" sz="1100" spc="-1" strike="noStrike">
                <a:solidFill>
                  <a:srgbClr val="000000"/>
                </a:solidFill>
                <a:latin typeface="Arial"/>
                <a:ea typeface="ＭＳ Ｐゴシック"/>
              </a:rPr>
              <a:t>Voordat er een uitstralingseffect kan optreden (oftewel een instelling wordt beïnvloed door het openbaar maken van een boete), moet de te beïnvloeden instelling bekend zijn met de opgelegde boe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75% geeft aan bekend te zijn met de opgelegde boe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dacht; </a:t>
            </a:r>
            <a:r>
              <a:rPr b="0" lang="nl-NL" sz="1100" spc="-1" strike="noStrike">
                <a:solidFill>
                  <a:srgbClr val="000000"/>
                </a:solidFill>
                <a:latin typeface="Arial"/>
                <a:ea typeface="ＭＳ Ｐゴシック"/>
              </a:rPr>
              <a:t>Vervolgens is het belangrijk dat ze aandacht hebben gehad voor de boete en gelezen hebben waarom de boete is opgeleg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Niemand gaat actief op zoek naar een publicatie, dit is een sterke indicator voor hoe de inhoud van de informatie verwerkt wordt (komen we later op terug).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Houding t.a.v. AFM; </a:t>
            </a:r>
            <a:r>
              <a:rPr b="0" lang="nl-NL" sz="1100" spc="-1" strike="noStrike">
                <a:solidFill>
                  <a:srgbClr val="000000"/>
                </a:solidFill>
                <a:latin typeface="Arial"/>
                <a:ea typeface="ＭＳ Ｐゴシック"/>
              </a:rPr>
              <a:t>Verder is het van belang te weten wat de houding is van de instelling ten opzichte van de AFM. Dit kan namelijk de aandacht voor de boete, maar ook de interpretatie van de boete beïnvloed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ze vraag staat sterk open voor sociale wenselijkheid, daarom is deze vraag op twee momenten in het interview gestel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In eerste instantie was 60% positief over de AFM, naarmate het gesprek vorderde was nog 27% positief over de AFM.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Leren; </a:t>
            </a:r>
            <a:r>
              <a:rPr b="0" lang="nl-NL" sz="1100" spc="-1" strike="noStrike">
                <a:solidFill>
                  <a:srgbClr val="000000"/>
                </a:solidFill>
                <a:latin typeface="Arial"/>
                <a:ea typeface="ＭＳ Ｐゴシック"/>
              </a:rPr>
              <a:t>Ten slotte is het van belang of de instelling iets geleerd heeft van de boe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75% geeft aan niets te leren van de boet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Waarom is onze intuïtie onjuist?</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1: Zwaardere maatregelen zijn effectiever en H2: Publiceren van formele maatregelen zorgt voor een uitstralingseffec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Beide hypothesen worden niet bevestigd in de onderzoeken. De beïnvloedingsmethoden die we gebruiken werken anders dan we verwachten. Hoe komt dat? Omdat we hebben aangenomen dat informatie via een bewuste route verwerkt wordt. Wanneer we iemand willen overtuigen met informatie moeten we goed nadenken over de omstandigheden waarin ze deze informatie verwerken en gebruiken. In de meeste omstandigheden ontbreekt het aan motivatie en of capaciteit (tijd) om een boodschap volledig door te nemen en te verwerken. In die gevallen wordt gebruik gemaakt van de onbewuste route -&gt; Heuristie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Gevolg van de huidige dreigende communicatie (boetepublicatie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Leren door sociale vergelijking: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gedrag van anderen kan dienen als voorbeeld om zo te leren. Imitatieleren werkt doormiddel van sociale vergelijking. Sociale vergelijking is iets wat mensen veel doen en wat op twee manieren kan. We kunnen onszelf vergelijken met anderen die het beter doen dan wij en met anderen die het slechter doen dan wij. (daarnaast kunnen we onszelf ook nog vergelijken met gelijkwaardige anderen om te kijken hoe we het do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arom Upward comparison? -&gt; om iets te leren -&gt; imitere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arom Downward comparison? -&gt; om onszelf beter te voel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Bij de publicatie van een boete vragen we instellingen zichzelf te vergelijken met slechte voorbeelden, maar daar kunnen we dus niets van leren, daardoor voelen we onszelf alleen maar beter! Dit ondermijnd bovendien de bereidheid en de behoefte aan leren. Om iets te kunnen leren van sociale voorbeelden kan alleen door onszelf te vergelijken met iemand die het beter doet, daar wordt gedrag getoond wat je kunt overnemen van de ander (imiteren). Bij het publiceren van de boetes doen we eigenlijk precies het omgekeerd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Gevolg voor andere vormen van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Educatiev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 behoefte en bereidheid van ondernemingen om iets te leren wordt negatief beïnvloed. Een negatieve bereidheid heeft invloed op de verwerking van informatie die voortkomt uit educatieve communicati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oor enkel dreigend te communiceren kan dit opgevat worden als de sociale norm (zeker wanneer aanbieders de fout in gaan, als zij het al niet kunnen hoe kunnen wij dan ook voldoen). Kortom niemand houdt zich aan de regel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beveling:</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Minder nadruk op negatieve voorbeelden, omdat downward comparison averechts werkt bij onbewuste informatieverwerking. De onderneming vergelijkt zichzelf enkel met slechte voorbeelden en voelen zich daardoor beter, er gaat dan ook een averechtse werking vanui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Noodzaak van dreigend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Kunnen we dan maar beter stoppen met het publiceren van formele maatregelen? NEE, Afschrikken is noodzakelijk, er zal altijd een groep bewuste overtreders zijn die afgeschrikt moeten worden. Het blijft dan ook nodig om publicaties te doen over formele handhaving. Wel moet rekening gehouden worden met de route van informatieverwerking. De huidige wijze van informatieverstrekking past niet bij de gekozen rou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Cognitieve dissonan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Cognitieve dissonantie staat een leereffect in de weg. Mensen hebben een natuurlijke neiging om consistent gedrag te vertonen en consistente houdingen en attitudes te hebben. Een belangrijke en heel sterke attitude is ons zelfbeeld, wat overwegend positief i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nneer nieuwe informatie niet in overeenstemming is met de attitude die we hebben kunnen we onze attitude aan passen of de informatie. Omdat het positieve beeld van onszelf een heel sterke attitude is zullen we eerst proberen de informatie in strijd met onze attitude te negeren of veranderen; Hoe da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Selectieve perceptie; alleen te zoeken naar informatie die onze attitude ondersteunend en informatie in strijd met onze attitude te neger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Selectieve interpretatie; mensen hebben de neiging nieuwe informatie zodanig te interpreteren dat het in overeenstemming is met de eigen bestaande attitude. Eigenlijk wordt de nieuwe informatie gewoon aangepas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Selectief geheugen: we kunnen informatie die onze stelling of attitude ondersteund beter onthouden dan informatie die in strijd is met onze attitud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aarom hebben veel instellingen negatieve houding ten aanzien van de publicaties, waardeloos, onnodig enz. Niet omdat ze dat werkelijk zo vinden, maar omdat ze anders moeten accepteren dat ze het zelf wellicht niet zo goed doen als ze op dit moment van zichzelf den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beveling: Concreet zijn over negatieve voorbeeldstelling gebruik maken van de heuristiek</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oor meer concreet en begrijpelijk weer te geven waarom een onderneming is bestraft, wat de verbeterpunten zijn en wellicht handreikingen te doen over hoe die verbeteringen mogelijk te ma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Gevolg van alleen publiceren over formele handhaving (geen informele publicatie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Uit het onderzoek is de trend naar voren gekomen dat informele handhaving zeer effectief is, zo niet effectiever dan formele handhaving. De verklaring voor waarom informele handhaving een goede beinvloeder is van het gedrag van ondernemingen is het wederkerigheidsprincipe (Tit-for-tat)</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Het principe van wederkerigheid</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principe van wederkerigheid houdt in het kort in dat de houding van de ander bepaald wat de reactie wordt of ‘hoe jij tegen mij doet, zo doe ik tegen jou’. Als de AFM zich in de perceptie van de instelling bereidwillig opstelt (door niet meteen een strenge maatregel op te leggen), zal dit de houding van de onderneming beïnvloeden en bestaat er een redelijke kans dat de onderneming zich ook bereidwillig opstel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Aan informele maatregelen worden geen publicaties gewijd. Hierdoor is er een oververtegenwoordiging in de communicatie van formele handhaving. In de beeldvorming is de welwillendheid van de AFM dan ook ondervertegenwoordigd en het strenge optreden oververtegenwoordigd. De welwillendheid van de AFM zou voor meer bereidheid zorgen bij de instellingen. Het strenge optreden zorgt voor meer weerstand. Het principe van wederkerigheid werkt in dit geval tegen on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beveling; Publiceren van of over informele maatregelen.</a:t>
            </a: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it brengt meer evenwicht in de beeldvorming over de AFM zo kan het principe van wederkerigheid in het voordeel van de AFM werken -&gt; hefboom. </a:t>
            </a:r>
            <a:endParaRPr b="0" lang="en-US" sz="1100" spc="-1" strike="noStrike">
              <a:solidFill>
                <a:srgbClr val="000000"/>
              </a:solidFill>
              <a:latin typeface="Calibri"/>
            </a:endParaRPr>
          </a:p>
          <a:p>
            <a:pPr lvl="1" marL="57168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Anoniem; Kan zo bleek uit de interviews dat het onderwerp bepaald of het relevant of interessant is om te lezen. </a:t>
            </a:r>
            <a:endParaRPr b="0" lang="en-US" sz="1100" spc="-1" strike="noStrike">
              <a:solidFill>
                <a:srgbClr val="000000"/>
              </a:solidFill>
              <a:latin typeface="Calibri"/>
            </a:endParaRPr>
          </a:p>
          <a:p>
            <a:pPr lvl="1" marL="57168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Perceptie van de machtsvorm zou hierdoor bijgesteld kunnen word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Dreigende communicati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Communicatie over pakkans en controlekan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Educatiev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Een publicatie over een informele maatregel is wellicht meer effectief in het proces van sociale vergelijking. Het zijn geen hele ernstige overtredingen dus neerwaartse vergelijking heeft minder negatieve uitwerkingen. Bovendien zullen de onderwerpen van overtreding wellicht meer relevant bevonden worden door de onderneminge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Normatiev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 uitkomsten van informele maatregelen lenen zich bij uitstek voor publicaties in de normatieve zin. Het zijn voorbeelden en onderwerpen die veel spelen in de markt (we leggen veel meer informele maatregelen op). In die zin zijn ze relevanter en door concrete verbeterpunten in de publicaties op te nemen lenen ze zich uitstekend voor normatieve communicati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ED9E-C6C2-41B5-8487-226A073C5A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en einde aan creativeteit. Wat werkt en niet werkt hangt af van omstandigheden en analyse van het probleem. Gaat het om wettelijk of bovenwettelijk. Cultuur, Juridisch kader (vb America) . Ontmoet je welwillendheid. Is er een verleden.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langrijk: betekent niet een of het ander. Zit allemaal in de toolbox. Alleen niet op lineaire manier formele ladder aflo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Onderzoek: Effect van handhavingmaatregelen AFM</a:t>
            </a:r>
            <a:br>
              <a:rPr sz="1100"/>
            </a:b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ypothese 1: </a:t>
            </a:r>
            <a:r>
              <a:rPr b="0" i="1" lang="nl-NL" sz="1100" spc="-1" strike="noStrike">
                <a:solidFill>
                  <a:srgbClr val="000000"/>
                </a:solidFill>
                <a:latin typeface="Calibri"/>
              </a:rPr>
              <a:t>zwaardere maatregelen zijn effectiever </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Wat is het effect? </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straffende maatregelen</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rstellende maatregelen</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Formele maatregelen</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formele maatregelen</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Conclusie; Informele maatregelen beïnvloeden het aantal signalen na een maatregel significa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Op dit moment zijn we niet goed in staat te beoordelen welke handhavingmaatregelen het grootste effect hebben in het beïnvloeden van instellingen. Om inzicht te verkrijgen in de vraag of onze inspanningen effectief zijn, zijn twee onderzoeken gedaa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eerste onderzoek is een kwantitatief onderzoek waarbij binnen de bemiddelaarmarkt is bekeken of een opgelegde maatregel invloed heeft gehad op de bestrafte instelling. Er is nagegaan of een maatregel het aantal signalen wat ontvangen wordt beïnvloed wordt door de maatregel. Het aantal signalen voor en na een maatregel zijn met elkaar vergele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Voor verdere details verwijs ik jullie naar het memo hierover. Voor nu wil ik heel kort ingaan op de resultate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Om na te gaan welke categorie maatregelen meer effectief zou zijn in het beïnvloeden van instellingen is een verdeling gemaakt in (informeel/formeel) en daarna is binnen de categorie formeel nog een onderscheid gemaakt in herstellend en bestraffen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Bestraffende maatregelen hadden in geen enkele categorie invloed op de signal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rstellende maatregelen hadden wel invloed, als we kijken naar welke maatregelen binnen die categorie zien we dat alleen de aanwijzing een significante daling in het signalen daarna laat zi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nneer we de formele categorie in zijn geheel beschouwen kunnen we stellen dat geen enkele maatregel de signalen beïnvloed na de maatregel behalve de aanwijzing.</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 informele categorie bestaat uit drie verschillende maatregelen waarvan 2 maatregelen een positieve invloed laten zien op de signalen. De trend die hieruit op te maken valt is dat de informele maatregelen effectiever zijn in het beïnvloeden van de signalen na de maatregel en daarmee veelbelovender zijn als gedragsbeïnvloeding dan formeel.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Elk onderzoek heeft zijn beperkingen maar de uitkomsten laten een duidelijke trend zi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Onderzoek:  Effect van handhavingmaatregelen AFM</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ypothese 2: </a:t>
            </a:r>
            <a:r>
              <a:rPr b="0" i="1" lang="nl-NL" sz="1100" spc="-1" strike="noStrike">
                <a:solidFill>
                  <a:srgbClr val="000000"/>
                </a:solidFill>
                <a:latin typeface="Calibri"/>
              </a:rPr>
              <a:t>Publiceren van formele maatregelen zorgt voor uitstraling</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Wat gebeurt er met: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kendheid</a:t>
            </a:r>
            <a:r>
              <a:rPr b="0" lang="nl-NL" sz="1100" spc="-1" strike="noStrike">
                <a:solidFill>
                  <a:srgbClr val="000000"/>
                </a:solidFill>
                <a:latin typeface="Calibri"/>
              </a:rPr>
              <a:t>	</a:t>
            </a:r>
            <a:r>
              <a:rPr b="0" lang="nl-NL" sz="1100" spc="-1" strike="noStrike">
                <a:solidFill>
                  <a:srgbClr val="000000"/>
                </a:solidFill>
                <a:latin typeface="Calibri"/>
              </a:rPr>
              <a:t>	</a:t>
            </a:r>
            <a:r>
              <a:rPr b="0" lang="nl-NL" sz="1100" spc="-1" strike="noStrike">
                <a:solidFill>
                  <a:srgbClr val="000000"/>
                </a:solidFill>
                <a:latin typeface="Calibri"/>
              </a:rPr>
              <a:t>75% is bekend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Aandacht  </a:t>
            </a:r>
            <a:r>
              <a:rPr b="0" lang="nl-NL" sz="1100" spc="-1" strike="noStrike">
                <a:solidFill>
                  <a:srgbClr val="000000"/>
                </a:solidFill>
                <a:latin typeface="Calibri"/>
              </a:rPr>
              <a:t>	</a:t>
            </a:r>
            <a:r>
              <a:rPr b="0" lang="nl-NL" sz="1100" spc="-1" strike="noStrike">
                <a:solidFill>
                  <a:srgbClr val="000000"/>
                </a:solidFill>
                <a:latin typeface="Calibri"/>
              </a:rPr>
              <a:t>	</a:t>
            </a:r>
            <a:r>
              <a:rPr b="0" lang="nl-NL" sz="1100" spc="-1" strike="noStrike">
                <a:solidFill>
                  <a:srgbClr val="000000"/>
                </a:solidFill>
                <a:latin typeface="Calibri"/>
              </a:rPr>
              <a:t>0% actief op zoek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ouding AFM</a:t>
            </a:r>
            <a:r>
              <a:rPr b="0" lang="nl-NL" sz="1100" spc="-1" strike="noStrike">
                <a:solidFill>
                  <a:srgbClr val="000000"/>
                </a:solidFill>
                <a:latin typeface="Calibri"/>
              </a:rPr>
              <a:t>	</a:t>
            </a:r>
            <a:r>
              <a:rPr b="0" lang="nl-NL" sz="1100" spc="-1" strike="noStrike">
                <a:solidFill>
                  <a:srgbClr val="000000"/>
                </a:solidFill>
                <a:latin typeface="Calibri"/>
              </a:rPr>
              <a:t>60% -&gt; 27% positief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eren</a:t>
            </a:r>
            <a:r>
              <a:rPr b="0" lang="nl-NL" sz="1100" spc="-1" strike="noStrike">
                <a:solidFill>
                  <a:srgbClr val="000000"/>
                </a:solidFill>
                <a:latin typeface="Calibri"/>
              </a:rPr>
              <a:t>	</a:t>
            </a:r>
            <a:r>
              <a:rPr b="0" lang="nl-NL" sz="1100" spc="-1" strike="noStrike">
                <a:solidFill>
                  <a:srgbClr val="000000"/>
                </a:solidFill>
                <a:latin typeface="Calibri"/>
              </a:rPr>
              <a:t>	</a:t>
            </a:r>
            <a:r>
              <a:rPr b="0" lang="nl-NL" sz="1100" spc="-1" strike="noStrike">
                <a:solidFill>
                  <a:srgbClr val="000000"/>
                </a:solidFill>
                <a:latin typeface="Calibri"/>
              </a:rPr>
              <a:t>75% leert nie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Conclusie; Er is geen indicatie om aan te nemen dat een uitstralingseffect optreed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tweede onderzoek betreft de vraag of er sprake is van een uitstralings effect. Het publiceren van opgelegde maatregelen beïnvloed andere niet bestrafte instellingen. Informele maatregelen kunnen per definitie geen preventief effect hebben, aangezien over deze maatregelen geen publicaties gedaan (mogen) worden. Daarom is in een kwalitatief onderzoek nagegaan of er sprake is van het uitstralingseffec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Voor dit onderzoek zijn vier boetes (eerste helft van 2010) genomen. Aan de hand van de activiteiten van de instelling die de boete opgelegd heeft gekregen zijn instellingen geselecteerd die ‘gelijkwaardig’ zouden zijn aan de instelling die een boete opgelegd heeft gekregen. In totaal zijn 15 instellingen gebel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Bekendheid; </a:t>
            </a:r>
            <a:r>
              <a:rPr b="0" lang="nl-NL" sz="1100" spc="-1" strike="noStrike">
                <a:solidFill>
                  <a:srgbClr val="000000"/>
                </a:solidFill>
                <a:latin typeface="Arial"/>
                <a:ea typeface="ＭＳ Ｐゴシック"/>
              </a:rPr>
              <a:t>Voordat er een uitstralingseffect kan optreden (oftewel een instelling wordt beïnvloed door het openbaar maken van een boete), moet de te beïnvloeden instelling bekend zijn met de opgelegde boe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75% geeft aan bekend te zijn met de opgelegde boe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dacht; </a:t>
            </a:r>
            <a:r>
              <a:rPr b="0" lang="nl-NL" sz="1100" spc="-1" strike="noStrike">
                <a:solidFill>
                  <a:srgbClr val="000000"/>
                </a:solidFill>
                <a:latin typeface="Arial"/>
                <a:ea typeface="ＭＳ Ｐゴシック"/>
              </a:rPr>
              <a:t>Vervolgens is het belangrijk dat ze aandacht hebben gehad voor de boete en gelezen hebben waarom de boete is opgeleg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Niemand gaat actief op zoek naar een publicatie, dit is een sterke indicator voor hoe de inhoud van de informatie verwerkt wordt (komen we later op terug).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Houding t.a.v. AFM; </a:t>
            </a:r>
            <a:r>
              <a:rPr b="0" lang="nl-NL" sz="1100" spc="-1" strike="noStrike">
                <a:solidFill>
                  <a:srgbClr val="000000"/>
                </a:solidFill>
                <a:latin typeface="Arial"/>
                <a:ea typeface="ＭＳ Ｐゴシック"/>
              </a:rPr>
              <a:t>Verder is het van belang te weten wat de houding is van de instelling ten opzichte van de AFM. Dit kan namelijk de aandacht voor de boete, maar ook de interpretatie van de boete beïnvloed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ze vraag staat sterk open voor sociale wenselijkheid, daarom is deze vraag op twee momenten in het interview gestel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In eerste instantie was 60% positief over de AFM, naarmate het gesprek vorderde was nog 27% positief over de AFM.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Leren; </a:t>
            </a:r>
            <a:r>
              <a:rPr b="0" lang="nl-NL" sz="1100" spc="-1" strike="noStrike">
                <a:solidFill>
                  <a:srgbClr val="000000"/>
                </a:solidFill>
                <a:latin typeface="Arial"/>
                <a:ea typeface="ＭＳ Ｐゴシック"/>
              </a:rPr>
              <a:t>Ten slotte is het van belang of de instelling iets geleerd heeft van de boe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75% geeft aan niets te leren van de boet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Waarom is onze intuïtie onjuist?</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1: Zwaardere maatregelen zijn effectiever en H2: Publiceren van formele maatregelen zorgt voor een uitstralingseffec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Beide hypothesen worden niet bevestigd in de onderzoeken. De beïnvloedingsmethoden die we gebruiken werken anders dan we verwachten. Hoe komt dat? Omdat we hebben aangenomen dat informatie via een bewuste route verwerkt wordt. Wanneer we iemand willen overtuigen met informatie moeten we goed nadenken over de omstandigheden waarin ze deze informatie verwerken en gebruiken. In de meeste omstandigheden ontbreekt het aan motivatie en of capaciteit (tijd) om een boodschap volledig door te nemen en te verwerken. In die gevallen wordt gebruik gemaakt van de onbewuste route -&gt; Heuristie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Gevolg van de huidige dreigende communicatie (boetepublicatie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Leren door sociale vergelijking: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gedrag van anderen kan dienen als voorbeeld om zo te leren. Imitatieleren werkt doormiddel van sociale vergelijking. Sociale vergelijking is iets wat mensen veel doen en wat op twee manieren kan. We kunnen onszelf vergelijken met anderen die het beter doen dan wij en met anderen die het slechter doen dan wij. (daarnaast kunnen we onszelf ook nog vergelijken met gelijkwaardige anderen om te kijken hoe we het do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arom Upward comparison? -&gt; om iets te leren -&gt; imitere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arom Downward comparison? -&gt; om onszelf beter te voel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Bij de publicatie van een boete vragen we instellingen zichzelf te vergelijken met slechte voorbeelden, maar daar kunnen we dus niets van leren, daardoor voelen we onszelf alleen maar beter! Dit ondermijnd bovendien de bereidheid en de behoefte aan leren. Om iets te kunnen leren van sociale voorbeelden kan alleen door onszelf te vergelijken met iemand die het beter doet, daar wordt gedrag getoond wat je kunt overnemen van de ander (imiteren). Bij het publiceren van de boetes doen we eigenlijk precies het omgekeerd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Gevolg voor andere vormen van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Educatiev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 behoefte en bereidheid van ondernemingen om iets te leren wordt negatief beïnvloed. Een negatieve bereidheid heeft invloed op de verwerking van informatie die voortkomt uit educatieve communicati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oor enkel dreigend te communiceren kan dit opgevat worden als de sociale norm (zeker wanneer aanbieders de fout in gaan, als zij het al niet kunnen hoe kunnen wij dan ook voldoen). Kortom niemand houdt zich aan de regel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beveling:</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Minder nadruk op negatieve voorbeelden, omdat downward comparison averechts werkt bij onbewuste informatieverwerking. De onderneming vergelijkt zichzelf enkel met slechte voorbeelden en voelen zich daardoor beter, er gaat dan ook een averechtse werking vanui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Noodzaak van dreigend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Kunnen we dan maar beter stoppen met het publiceren van formele maatregelen? NEE, Afschrikken is noodzakelijk, er zal altijd een groep bewuste overtreders zijn die afgeschrikt moeten worden. Het blijft dan ook nodig om publicaties te doen over formele handhaving. Wel moet rekening gehouden worden met de route van informatieverwerking. De huidige wijze van informatieverstrekking past niet bij de gekozen rou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Cognitieve dissonan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Cognitieve dissonantie staat een leereffect in de weg. Mensen hebben een natuurlijke neiging om consistent gedrag te vertonen en consistente houdingen en attitudes te hebben. Een belangrijke en heel sterke attitude is ons zelfbeeld, wat overwegend positief i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nneer nieuwe informatie niet in overeenstemming is met de attitude die we hebben kunnen we onze attitude aan passen of de informatie. Omdat het positieve beeld van onszelf een heel sterke attitude is zullen we eerst proberen de informatie in strijd met onze attitude te negeren of veranderen; Hoe da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Selectieve perceptie; alleen te zoeken naar informatie die onze attitude ondersteunend en informatie in strijd met onze attitude te neger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Selectieve interpretatie; mensen hebben de neiging nieuwe informatie zodanig te interpreteren dat het in overeenstemming is met de eigen bestaande attitude. Eigenlijk wordt de nieuwe informatie gewoon aangepas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Selectief geheugen: we kunnen informatie die onze stelling of attitude ondersteund beter onthouden dan informatie die in strijd is met onze attitud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aarom hebben veel instellingen negatieve houding ten aanzien van de publicaties, waardeloos, onnodig enz. Niet omdat ze dat werkelijk zo vinden, maar omdat ze anders moeten accepteren dat ze het zelf wellicht niet zo goed doen als ze op dit moment van zichzelf den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beveling: Concreet zijn over negatieve voorbeeldstelling gebruik maken van de heuristiek</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oor meer concreet en begrijpelijk weer te geven waarom een onderneming is bestraft, wat de verbeterpunten zijn en wellicht handreikingen te doen over hoe die verbeteringen mogelijk te ma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Gevolg van alleen publiceren over formele handhaving (geen informele publicatie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Uit het onderzoek is de trend naar voren gekomen dat informele handhaving zeer effectief is, zo niet effectiever dan formele handhaving. De verklaring voor waarom informele handhaving een goede beinvloeder is van het gedrag van ondernemingen is het wederkerigheidsprincipe (Tit-for-tat)</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Het principe van wederkerigheid</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principe van wederkerigheid houdt in het kort in dat de houding van de ander bepaald wat de reactie wordt of ‘hoe jij tegen mij doet, zo doe ik tegen jou’. Als de AFM zich in de perceptie van de instelling bereidwillig opstelt (door niet meteen een strenge maatregel op te leggen), zal dit de houding van de onderneming beïnvloeden en bestaat er een redelijke kans dat de onderneming zich ook bereidwillig opstel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Aan informele maatregelen worden geen publicaties gewijd. Hierdoor is er een oververtegenwoordiging in de communicatie van formele handhaving. In de beeldvorming is de welwillendheid van de AFM dan ook ondervertegenwoordigd en het strenge optreden oververtegenwoordigd. De welwillendheid van de AFM zou voor meer bereidheid zorgen bij de instellingen. Het strenge optreden zorgt voor meer weerstand. Het principe van wederkerigheid werkt in dit geval tegen on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beveling; Publiceren van of over informele maatregelen.</a:t>
            </a: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it brengt meer evenwicht in de beeldvorming over de AFM zo kan het principe van wederkerigheid in het voordeel van de AFM werken -&gt; hefboom. </a:t>
            </a:r>
            <a:endParaRPr b="0" lang="en-US" sz="1100" spc="-1" strike="noStrike">
              <a:solidFill>
                <a:srgbClr val="000000"/>
              </a:solidFill>
              <a:latin typeface="Calibri"/>
            </a:endParaRPr>
          </a:p>
          <a:p>
            <a:pPr lvl="1" marL="57168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Anoniem; Kan zo bleek uit de interviews dat het onderwerp bepaald of het relevant of interessant is om te lezen. </a:t>
            </a:r>
            <a:endParaRPr b="0" lang="en-US" sz="1100" spc="-1" strike="noStrike">
              <a:solidFill>
                <a:srgbClr val="000000"/>
              </a:solidFill>
              <a:latin typeface="Calibri"/>
            </a:endParaRPr>
          </a:p>
          <a:p>
            <a:pPr lvl="1" marL="57168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Perceptie van de machtsvorm zou hierdoor bijgesteld kunnen word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Dreigende communicati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Communicatie over pakkans en controlekan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Educatiev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Een publicatie over een informele maatregel is wellicht meer effectief in het proces van sociale vergelijking. Het zijn geen hele ernstige overtredingen dus neerwaartse vergelijking heeft minder negatieve uitwerkingen. Bovendien zullen de onderwerpen van overtreding wellicht meer relevant bevonden worden door de onderneminge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Normatiev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 uitkomsten van informele maatregelen lenen zich bij uitstek voor publicaties in de normatieve zin. Het zijn voorbeelden en onderwerpen die veel spelen in de markt (we leggen veel meer informele maatregelen op). In die zin zijn ze relevanter en door concrete verbeterpunten in de publicaties op te nemen lenen ze zich uitstekend voor normatieve communicati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615F-C133-4990-90F5-8475F2DC6A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ganisatie financieel toezicht, Twin peaks mode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20BA-03C6-4DFA-9A8E-399C5CFFB38E}" type="slidenum">
              <a:rPr b="0" lang="nl-NL"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en einde aan creativeteit. Wat werkt en niet werkt hangt af van omstandigheden en analyse van het probleem. Gaat het om wettelijk of bovenwettelijk. Cultuur, Juridisch kader (vb America) . Ontmoet je welwillendheid. Is er een verleden.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langrijk: betekent niet een of het ander. Zit allemaal in de toolbox. Alleen niet op lineaire manier formele ladder aflo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Onderzoek: Effect van handhavingmaatregelen AFM</a:t>
            </a:r>
            <a:br>
              <a:rPr sz="1100"/>
            </a:b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ypothese 1: </a:t>
            </a:r>
            <a:r>
              <a:rPr b="0" i="1" lang="nl-NL" sz="1100" spc="-1" strike="noStrike">
                <a:solidFill>
                  <a:srgbClr val="000000"/>
                </a:solidFill>
                <a:latin typeface="Calibri"/>
              </a:rPr>
              <a:t>zwaardere maatregelen zijn effectiever </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Wat is het effect? </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straffende maatregelen</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rstellende maatregelen</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Formele maatregelen</a:t>
            </a:r>
            <a:endParaRPr b="0" lang="en-US" sz="1100" spc="-1" strike="noStrike">
              <a:solidFill>
                <a:srgbClr val="000000"/>
              </a:solidFill>
              <a:latin typeface="Calibri"/>
            </a:endParaRPr>
          </a:p>
          <a:p>
            <a:pPr lvl="1" marL="571680" indent="-457200">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formele maatregelen</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Conclusie; Informele maatregelen beïnvloeden het aantal signalen na een maatregel significa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Op dit moment zijn we niet goed in staat te beoordelen welke handhavingmaatregelen het grootste effect hebben in het beïnvloeden van instellingen. Om inzicht te verkrijgen in de vraag of onze inspanningen effectief zijn, zijn twee onderzoeken gedaa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eerste onderzoek is een kwantitatief onderzoek waarbij binnen de bemiddelaarmarkt is bekeken of een opgelegde maatregel invloed heeft gehad op de bestrafte instelling. Er is nagegaan of een maatregel het aantal signalen wat ontvangen wordt beïnvloed wordt door de maatregel. Het aantal signalen voor en na een maatregel zijn met elkaar vergele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Voor verdere details verwijs ik jullie naar het memo hierover. Voor nu wil ik heel kort ingaan op de resultate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Om na te gaan welke categorie maatregelen meer effectief zou zijn in het beïnvloeden van instellingen is een verdeling gemaakt in (informeel/formeel) en daarna is binnen de categorie formeel nog een onderscheid gemaakt in herstellend en bestraffen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Bestraffende maatregelen hadden in geen enkele categorie invloed op de signal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rstellende maatregelen hadden wel invloed, als we kijken naar welke maatregelen binnen die categorie zien we dat alleen de aanwijzing een significante daling in het signalen daarna laat zi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nneer we de formele categorie in zijn geheel beschouwen kunnen we stellen dat geen enkele maatregel de signalen beïnvloed na de maatregel behalve de aanwijzing.</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 informele categorie bestaat uit drie verschillende maatregelen waarvan 2 maatregelen een positieve invloed laten zien op de signalen. De trend die hieruit op te maken valt is dat de informele maatregelen effectiever zijn in het beïnvloeden van de signalen na de maatregel en daarmee veelbelovender zijn als gedragsbeïnvloeding dan formeel.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Elk onderzoek heeft zijn beperkingen maar de uitkomsten laten een duidelijke trend zi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Onderzoek:  Effect van handhavingmaatregelen AFM</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ypothese 2: </a:t>
            </a:r>
            <a:r>
              <a:rPr b="0" i="1" lang="nl-NL" sz="1100" spc="-1" strike="noStrike">
                <a:solidFill>
                  <a:srgbClr val="000000"/>
                </a:solidFill>
                <a:latin typeface="Calibri"/>
              </a:rPr>
              <a:t>Publiceren van formele maatregelen zorgt voor uitstraling</a:t>
            </a: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Wat gebeurt er met: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kendheid</a:t>
            </a:r>
            <a:r>
              <a:rPr b="0" lang="nl-NL" sz="1100" spc="-1" strike="noStrike">
                <a:solidFill>
                  <a:srgbClr val="000000"/>
                </a:solidFill>
                <a:latin typeface="Calibri"/>
              </a:rPr>
              <a:t>	</a:t>
            </a:r>
            <a:r>
              <a:rPr b="0" lang="nl-NL" sz="1100" spc="-1" strike="noStrike">
                <a:solidFill>
                  <a:srgbClr val="000000"/>
                </a:solidFill>
                <a:latin typeface="Calibri"/>
              </a:rPr>
              <a:t>	</a:t>
            </a:r>
            <a:r>
              <a:rPr b="0" lang="nl-NL" sz="1100" spc="-1" strike="noStrike">
                <a:solidFill>
                  <a:srgbClr val="000000"/>
                </a:solidFill>
                <a:latin typeface="Calibri"/>
              </a:rPr>
              <a:t>75% is bekend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Aandacht  </a:t>
            </a:r>
            <a:r>
              <a:rPr b="0" lang="nl-NL" sz="1100" spc="-1" strike="noStrike">
                <a:solidFill>
                  <a:srgbClr val="000000"/>
                </a:solidFill>
                <a:latin typeface="Calibri"/>
              </a:rPr>
              <a:t>	</a:t>
            </a:r>
            <a:r>
              <a:rPr b="0" lang="nl-NL" sz="1100" spc="-1" strike="noStrike">
                <a:solidFill>
                  <a:srgbClr val="000000"/>
                </a:solidFill>
                <a:latin typeface="Calibri"/>
              </a:rPr>
              <a:t>	</a:t>
            </a:r>
            <a:r>
              <a:rPr b="0" lang="nl-NL" sz="1100" spc="-1" strike="noStrike">
                <a:solidFill>
                  <a:srgbClr val="000000"/>
                </a:solidFill>
                <a:latin typeface="Calibri"/>
              </a:rPr>
              <a:t>0% actief op zoek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ouding AFM</a:t>
            </a:r>
            <a:r>
              <a:rPr b="0" lang="nl-NL" sz="1100" spc="-1" strike="noStrike">
                <a:solidFill>
                  <a:srgbClr val="000000"/>
                </a:solidFill>
                <a:latin typeface="Calibri"/>
              </a:rPr>
              <a:t>	</a:t>
            </a:r>
            <a:r>
              <a:rPr b="0" lang="nl-NL" sz="1100" spc="-1" strike="noStrike">
                <a:solidFill>
                  <a:srgbClr val="000000"/>
                </a:solidFill>
                <a:latin typeface="Calibri"/>
              </a:rPr>
              <a:t>60% -&gt; 27% positief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eren</a:t>
            </a:r>
            <a:r>
              <a:rPr b="0" lang="nl-NL" sz="1100" spc="-1" strike="noStrike">
                <a:solidFill>
                  <a:srgbClr val="000000"/>
                </a:solidFill>
                <a:latin typeface="Calibri"/>
              </a:rPr>
              <a:t>	</a:t>
            </a:r>
            <a:r>
              <a:rPr b="0" lang="nl-NL" sz="1100" spc="-1" strike="noStrike">
                <a:solidFill>
                  <a:srgbClr val="000000"/>
                </a:solidFill>
                <a:latin typeface="Calibri"/>
              </a:rPr>
              <a:t>	</a:t>
            </a:r>
            <a:r>
              <a:rPr b="0" lang="nl-NL" sz="1100" spc="-1" strike="noStrike">
                <a:solidFill>
                  <a:srgbClr val="000000"/>
                </a:solidFill>
                <a:latin typeface="Calibri"/>
              </a:rPr>
              <a:t>75% leert nie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5716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Conclusie; Er is geen indicatie om aan te nemen dat een uitstralingseffect optreed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tweede onderzoek betreft de vraag of er sprake is van een uitstralings effect. Het publiceren van opgelegde maatregelen beïnvloed andere niet bestrafte instellingen. Informele maatregelen kunnen per definitie geen preventief effect hebben, aangezien over deze maatregelen geen publicaties gedaan (mogen) worden. Daarom is in een kwalitatief onderzoek nagegaan of er sprake is van het uitstralingseffec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Voor dit onderzoek zijn vier boetes (eerste helft van 2010) genomen. Aan de hand van de activiteiten van de instelling die de boete opgelegd heeft gekregen zijn instellingen geselecteerd die ‘gelijkwaardig’ zouden zijn aan de instelling die een boete opgelegd heeft gekregen. In totaal zijn 15 instellingen gebel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Bekendheid; </a:t>
            </a:r>
            <a:r>
              <a:rPr b="0" lang="nl-NL" sz="1100" spc="-1" strike="noStrike">
                <a:solidFill>
                  <a:srgbClr val="000000"/>
                </a:solidFill>
                <a:latin typeface="Arial"/>
                <a:ea typeface="ＭＳ Ｐゴシック"/>
              </a:rPr>
              <a:t>Voordat er een uitstralingseffect kan optreden (oftewel een instelling wordt beïnvloed door het openbaar maken van een boete), moet de te beïnvloeden instelling bekend zijn met de opgelegde boe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75% geeft aan bekend te zijn met de opgelegde boe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dacht; </a:t>
            </a:r>
            <a:r>
              <a:rPr b="0" lang="nl-NL" sz="1100" spc="-1" strike="noStrike">
                <a:solidFill>
                  <a:srgbClr val="000000"/>
                </a:solidFill>
                <a:latin typeface="Arial"/>
                <a:ea typeface="ＭＳ Ｐゴシック"/>
              </a:rPr>
              <a:t>Vervolgens is het belangrijk dat ze aandacht hebben gehad voor de boete en gelezen hebben waarom de boete is opgeleg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Niemand gaat actief op zoek naar een publicatie, dit is een sterke indicator voor hoe de inhoud van de informatie verwerkt wordt (komen we later op terug).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Houding t.a.v. AFM; </a:t>
            </a:r>
            <a:r>
              <a:rPr b="0" lang="nl-NL" sz="1100" spc="-1" strike="noStrike">
                <a:solidFill>
                  <a:srgbClr val="000000"/>
                </a:solidFill>
                <a:latin typeface="Arial"/>
                <a:ea typeface="ＭＳ Ｐゴシック"/>
              </a:rPr>
              <a:t>Verder is het van belang te weten wat de houding is van de instelling ten opzichte van de AFM. Dit kan namelijk de aandacht voor de boete, maar ook de interpretatie van de boete beïnvloed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ze vraag staat sterk open voor sociale wenselijkheid, daarom is deze vraag op twee momenten in het interview gestel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In eerste instantie was 60% positief over de AFM, naarmate het gesprek vorderde was nog 27% positief over de AFM.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Leren; </a:t>
            </a:r>
            <a:r>
              <a:rPr b="0" lang="nl-NL" sz="1100" spc="-1" strike="noStrike">
                <a:solidFill>
                  <a:srgbClr val="000000"/>
                </a:solidFill>
                <a:latin typeface="Arial"/>
                <a:ea typeface="ＭＳ Ｐゴシック"/>
              </a:rPr>
              <a:t>Ten slotte is het van belang of de instelling iets geleerd heeft van de boe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75% geeft aan niets te leren van de boet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Waarom is onze intuïtie onjuist?</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1: Zwaardere maatregelen zijn effectiever en H2: Publiceren van formele maatregelen zorgt voor een uitstralingseffec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Beide hypothesen worden niet bevestigd in de onderzoeken. De beïnvloedingsmethoden die we gebruiken werken anders dan we verwachten. Hoe komt dat? Omdat we hebben aangenomen dat informatie via een bewuste route verwerkt wordt. Wanneer we iemand willen overtuigen met informatie moeten we goed nadenken over de omstandigheden waarin ze deze informatie verwerken en gebruiken. In de meeste omstandigheden ontbreekt het aan motivatie en of capaciteit (tijd) om een boodschap volledig door te nemen en te verwerken. In die gevallen wordt gebruik gemaakt van de onbewuste route -&gt; Heuristie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Gevolg van de huidige dreigende communicatie (boetepublicatie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Leren door sociale vergelijking: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gedrag van anderen kan dienen als voorbeeld om zo te leren. Imitatieleren werkt doormiddel van sociale vergelijking. Sociale vergelijking is iets wat mensen veel doen en wat op twee manieren kan. We kunnen onszelf vergelijken met anderen die het beter doen dan wij en met anderen die het slechter doen dan wij. (daarnaast kunnen we onszelf ook nog vergelijken met gelijkwaardige anderen om te kijken hoe we het do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arom Upward comparison? -&gt; om iets te leren -&gt; imitere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arom Downward comparison? -&gt; om onszelf beter te voel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Bij de publicatie van een boete vragen we instellingen zichzelf te vergelijken met slechte voorbeelden, maar daar kunnen we dus niets van leren, daardoor voelen we onszelf alleen maar beter! Dit ondermijnd bovendien de bereidheid en de behoefte aan leren. Om iets te kunnen leren van sociale voorbeelden kan alleen door onszelf te vergelijken met iemand die het beter doet, daar wordt gedrag getoond wat je kunt overnemen van de ander (imiteren). Bij het publiceren van de boetes doen we eigenlijk precies het omgekeerd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Gevolg voor andere vormen van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Educatiev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 behoefte en bereidheid van ondernemingen om iets te leren wordt negatief beïnvloed. Een negatieve bereidheid heeft invloed op de verwerking van informatie die voortkomt uit educatieve communicati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oor enkel dreigend te communiceren kan dit opgevat worden als de sociale norm (zeker wanneer aanbieders de fout in gaan, als zij het al niet kunnen hoe kunnen wij dan ook voldoen). Kortom niemand houdt zich aan de regel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beveling:</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Minder nadruk op negatieve voorbeelden, omdat downward comparison averechts werkt bij onbewuste informatieverwerking. De onderneming vergelijkt zichzelf enkel met slechte voorbeelden en voelen zich daardoor beter, er gaat dan ook een averechtse werking vanui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Noodzaak van dreigend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Kunnen we dan maar beter stoppen met het publiceren van formele maatregelen? NEE, Afschrikken is noodzakelijk, er zal altijd een groep bewuste overtreders zijn die afgeschrikt moeten worden. Het blijft dan ook nodig om publicaties te doen over formele handhaving. Wel moet rekening gehouden worden met de route van informatieverwerking. De huidige wijze van informatieverstrekking past niet bij de gekozen rout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Cognitieve dissonan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Cognitieve dissonantie staat een leereffect in de weg. Mensen hebben een natuurlijke neiging om consistent gedrag te vertonen en consistente houdingen en attitudes te hebben. Een belangrijke en heel sterke attitude is ons zelfbeeld, wat overwegend positief i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Wanneer nieuwe informatie niet in overeenstemming is met de attitude die we hebben kunnen we onze attitude aan passen of de informatie. Omdat het positieve beeld van onszelf een heel sterke attitude is zullen we eerst proberen de informatie in strijd met onze attitude te negeren of veranderen; Hoe da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Selectieve perceptie; alleen te zoeken naar informatie die onze attitude ondersteunend en informatie in strijd met onze attitude te neger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Selectieve interpretatie; mensen hebben de neiging nieuwe informatie zodanig te interpreteren dat het in overeenstemming is met de eigen bestaande attitude. Eigenlijk wordt de nieuwe informatie gewoon aangepas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Selectief geheugen: we kunnen informatie die onze stelling of attitude ondersteund beter onthouden dan informatie die in strijd is met onze attitud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aarom hebben veel instellingen negatieve houding ten aanzien van de publicaties, waardeloos, onnodig enz. Niet omdat ze dat werkelijk zo vinden, maar omdat ze anders moeten accepteren dat ze het zelf wellicht niet zo goed doen als ze op dit moment van zichzelf den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beveling: Concreet zijn over negatieve voorbeeldstelling gebruik maken van de heuristiek</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oor meer concreet en begrijpelijk weer te geven waarom een onderneming is bestraft, wat de verbeterpunten zijn en wellicht handreikingen te doen over hoe die verbeteringen mogelijk te mak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Gevolg van alleen publiceren over formele handhaving (geen informele publicatie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Uit het onderzoek is de trend naar voren gekomen dat informele handhaving zeer effectief is, zo niet effectiever dan formele handhaving. De verklaring voor waarom informele handhaving een goede beinvloeder is van het gedrag van ondernemingen is het wederkerigheidsprincipe (Tit-for-tat)</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Het principe van wederkerigheid</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Het principe van wederkerigheid houdt in het kort in dat de houding van de ander bepaald wat de reactie wordt of ‘hoe jij tegen mij doet, zo doe ik tegen jou’. Als de AFM zich in de perceptie van de instelling bereidwillig opstelt (door niet meteen een strenge maatregel op te leggen), zal dit de houding van de onderneming beïnvloeden en bestaat er een redelijke kans dat de onderneming zich ook bereidwillig opstel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Aan informele maatregelen worden geen publicaties gewijd. Hierdoor is er een oververtegenwoordiging in de communicatie van formele handhaving. In de beeldvorming is de welwillendheid van de AFM dan ook ondervertegenwoordigd en het strenge optreden oververtegenwoordigd. De welwillendheid van de AFM zou voor meer bereidheid zorgen bij de instellingen. Het strenge optreden zorgt voor meer weerstand. Het principe van wederkerigheid werkt in dit geval tegen on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Aanbeveling; Publiceren van of over informele maatregelen.</a:t>
            </a:r>
            <a:r>
              <a:rPr b="0" lang="nl-NL" sz="1100" spc="-1" strike="noStrike">
                <a:solidFill>
                  <a:srgbClr val="000000"/>
                </a:solidFill>
                <a:latin typeface="Arial"/>
                <a:ea typeface="ＭＳ Ｐゴシック"/>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it brengt meer evenwicht in de beeldvorming over de AFM zo kan het principe van wederkerigheid in het voordeel van de AFM werken -&gt; hefboom. </a:t>
            </a:r>
            <a:endParaRPr b="0" lang="en-US" sz="1100" spc="-1" strike="noStrike">
              <a:solidFill>
                <a:srgbClr val="000000"/>
              </a:solidFill>
              <a:latin typeface="Calibri"/>
            </a:endParaRPr>
          </a:p>
          <a:p>
            <a:pPr lvl="1" marL="57168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Anoniem; Kan zo bleek uit de interviews dat het onderwerp bepaald of het relevant of interessant is om te lezen. </a:t>
            </a:r>
            <a:endParaRPr b="0" lang="en-US" sz="1100" spc="-1" strike="noStrike">
              <a:solidFill>
                <a:srgbClr val="000000"/>
              </a:solidFill>
              <a:latin typeface="Calibri"/>
            </a:endParaRPr>
          </a:p>
          <a:p>
            <a:pPr lvl="1" marL="57168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Perceptie van de machtsvorm zou hierdoor bijgesteld kunnen worde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Dreigende communicatie: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Communicatie over pakkans en controlekan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Educatiev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Een publicatie over een informele maatregel is wellicht meer effectief in het proces van sociale vergelijking. Het zijn geen hele ernstige overtredingen dus neerwaartse vergelijking heeft minder negatieve uitwerkingen. Bovendien zullen de onderwerpen van overtreding wellicht meer relevant bevonden worden door de onderneminge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ＭＳ Ｐゴシック"/>
              </a:rPr>
              <a:t>Normatieve communicati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ea typeface="ＭＳ Ｐゴシック"/>
              </a:rPr>
              <a:t>De uitkomsten van informele maatregelen lenen zich bij uitstek voor publicaties in de normatieve zin. Het zijn voorbeelden en onderwerpen die veel spelen in de markt (we leggen veel meer informele maatregelen op). In die zin zijn ze relevanter en door concrete verbeterpunten in de publicaties op te nemen lenen ze zich uitstekend voor normatieve communicati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4CB5-D37A-41ED-95D6-4AF03FC58F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D574-1BED-4CD6-B453-2385726A63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ndhaving in brede zin van het woord stelt het </a:t>
            </a:r>
            <a:r>
              <a:rPr b="1" lang="nl-NL" sz="1200" spc="-1" strike="noStrike">
                <a:solidFill>
                  <a:srgbClr val="000000"/>
                </a:solidFill>
                <a:latin typeface="Calibri"/>
              </a:rPr>
              <a:t>einddoel van het toezicht centraal</a:t>
            </a:r>
            <a:r>
              <a:rPr b="0" lang="nl-NL" sz="1200" spc="-1" strike="noStrike">
                <a:solidFill>
                  <a:srgbClr val="000000"/>
                </a:solidFill>
                <a:latin typeface="Calibri"/>
              </a:rPr>
              <a:t>. Waardoor er naast correctieve maatregelen ruimte is voor preventieve activiteiten die de naleving bevorderen. Dit betekent enerzijds dat al in een vroegtijdig stadium wordt nagedacht over hoe de opzet, uitvoering en mogelijke resultaten van een toezichtonderzoek met behulp van communicatie een zo groot mogelijk effect kunnen bewerkstelligen. Waarbij het onderzoek een middel is en geen doel op zich. En dat anderzijds wordt bekeken hoe we op aanvullende wijze vrijwillige regelnaleving kunnen stimule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Voorbeeld: </a:t>
            </a:r>
            <a:r>
              <a:rPr b="0" lang="nl-NL" sz="1200" spc="-1" strike="noStrike">
                <a:solidFill>
                  <a:srgbClr val="000000"/>
                </a:solidFill>
                <a:latin typeface="Calibri"/>
              </a:rPr>
              <a:t>welke tekst zorgt er het beste voor dat een handdoek nog een keer wordt hergebruikt door de hotelg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estal wordt het milieu genoemd. Kleine verandering in de tekst leverde 26% meer hergebruik op. Informeer mensen simpel over het feit dat de meeste hotelgasten gedurende hun verblijf de handdoek een extra dag gebruiken (social proof). Hoe specifieker de gelijkenis is met dergelijke anderen, hoe groter het eff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ialdini </a:t>
            </a:r>
            <a:r>
              <a:rPr b="0" lang="nl-NL" sz="1200" spc="-1" strike="noStrike">
                <a:solidFill>
                  <a:srgbClr val="000000"/>
                </a:solidFill>
                <a:latin typeface="Calibri"/>
              </a:rPr>
              <a:t>heeft onderzoek gedaan naar wat hij noemt ‘</a:t>
            </a:r>
            <a:r>
              <a:rPr b="0" i="1" lang="nl-NL" sz="1200" spc="-1" strike="noStrike">
                <a:solidFill>
                  <a:srgbClr val="000000"/>
                </a:solidFill>
                <a:latin typeface="Calibri"/>
              </a:rPr>
              <a:t>de psychologie van compliance</a:t>
            </a:r>
            <a:r>
              <a:rPr b="0" lang="nl-NL" sz="1200" spc="-1" strike="noStrike">
                <a:solidFill>
                  <a:srgbClr val="000000"/>
                </a:solidFill>
                <a:latin typeface="Calibri"/>
              </a:rPr>
              <a:t>’. Hij onderzocht wat de factoren zijn die ervoor zorgen dat de ene persoon ja zegt tegen het verzoek van een ander. En welke technieken daarbij het meest effectief zijn. Cialdini deed zijn onderzoek bij: verkopers, fondsenwervers, reclamebureaus en pr-bureaus: “ </a:t>
            </a:r>
            <a:r>
              <a:rPr b="0" i="1" lang="en-US" sz="1200" spc="-1" strike="noStrike">
                <a:solidFill>
                  <a:srgbClr val="000000"/>
                </a:solidFill>
                <a:latin typeface="Calibri"/>
              </a:rPr>
              <a:t>Influence; Science and Practic. </a:t>
            </a:r>
            <a:r>
              <a:rPr b="0" lang="en-US" sz="1200" spc="-1" strike="noStrike">
                <a:solidFill>
                  <a:srgbClr val="000000"/>
                </a:solidFill>
                <a:latin typeface="Calibri"/>
              </a:rPr>
              <a:t>HarperCollins College Publis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feit dat mensen bij automatisch gedrag gebruik maken van reflexmatige keuzes die telkens op dezelfde manier in vaste patronen werken, speelt hierbij een grote rol. Deze principes kunnen zowel in commerciële als in een maatschappelijke context worden ingezet om onbewust gedrag te veranderen. In zijn boek beschrijft hij zes leidende beïnvloedingsprincipes die als raamwerk worden gebruikt in deze scriptie, om te onderzoeken hoe deze zijn toe te passen in de AFM praktijk. Hieronder staan ze b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libri"/>
              </a:rPr>
              <a:t>Wederkerig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voelen ons verplicht om gunsten die ons zijn verleend ook weer terug te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libri"/>
              </a:rPr>
              <a:t>Consistentie en commit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willen consistent handelen met onze overtuigingen en wa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libri"/>
              </a:rPr>
              <a:t>Sociaal bew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kijken naar wat anderen doen om ons gedrag te gid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libri"/>
              </a:rPr>
              <a:t>Aardig vin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e aardiger we iemand vinden hoe liever we ja tegen iemand willen zeg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libri"/>
              </a:rPr>
              <a:t>Autorit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kijken naar autoriteiten om ons de weg te wijz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libri"/>
              </a:rPr>
              <a:t>Schaar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e minder iets beschikbaar is hoe meer we het wil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B01D-C778-4E3E-A422-A7C6C65A13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1BC5-5393-4EB3-B67F-03831E3718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DDAA-2160-4CD1-97A3-1641911B67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7680" y="685800"/>
            <a:ext cx="4573800" cy="3432240"/>
          </a:xfrm>
          <a:prstGeom prst="rect">
            <a:avLst/>
          </a:prstGeom>
          <a:ln w="0">
            <a:noFill/>
          </a:ln>
        </p:spPr>
      </p:sp>
      <p:sp>
        <p:nvSpPr>
          <p:cNvPr id="297" name="Notes Placeholder 3"/>
          <p:cNvSpPr/>
          <p:nvPr/>
        </p:nvSpPr>
        <p:spPr>
          <a:xfrm>
            <a:off x="914400" y="4343400"/>
            <a:ext cx="50292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DA41-C767-4D25-92CE-41F70909C8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Calibri"/>
              </a:rPr>
              <a:t>Wat de toezichthouder ma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Wat een publieke toezichthouder mag is omschreven in de wet. Zoals in 12.3 beschreven, is de wettelijke missie van DNB en de AFM vastgelegd in artikel 1:24 en 1:25 Wft. Hieraan ontleent de toezichthouder de democratische legitimiteit om te handelen. Echter, aangezien de missie in generieke bewoordingen is geformuleerd, is niet altijd eenduidig wat wel en wat niet onder de missie valt. Dit kan ertoe leiden dat de toezichthouder zijn missie anders opvat dan stakeholders dat doen. Onder toezicht staande ondernemingen kunnen bijvoorbeeld belang hebben bij een beperkte uitleg van de missie, omdat dit de speelruimte van de toezichthouder beperkt en meer ruimte geeft aan de markt. Daarentegen, als de maatschappelijke verwachtingen ten aanzien van de toezichthouder hooggespannen zijn, kan de toezichthouder de noodzaak kunnen voelen de missie ruimer te interpreteren om aan deze verwachtingen te voldo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Naast de wettelijke missie wordt de cirkel van wat de toezichthouder mag, bepaald door de in de wet vastgelegde formele instrumenten. De toezichthouder kan deze instrumenten inzetten om het gedrag van ondernemingen te beïnvloeden, bijvoorbeeld door het opleggen van een last onder dwangsom of boete en het intrekken van de vergunning. Aan het handelen van de toezichthouder zijn echter wel beperkingen verbonden. Om onder toezicht staande ondernemingen te beschermen tegen de macht van een toezichthouder gelden de algemene beginselen van behoorlijk bestuur. Een belangrijk beginsel is dat de toezichthouder de aan hem toebedeelde bevoegdheden enkel mag gebruiken voor het doel waarvoor die bevoegdheid is gegeven. Dit beginsel wordt ook wel het verbod op détournement de pouvoir genoemd. De algemene beginselen van behoorlijk bestuur beperken dus het terrein van wat de toezichthouder ma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Calibri"/>
              </a:rPr>
              <a:t>Waartoe de toezichthouder in staat i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Naast het ‘mogen handelen’ is de dimensie van het ‘kunnen handelen’ van belang. Dit is de cirkel die omvat waartoe de toezichthouder in staat is. Of een toezichthouder in staat is in de markt effect te sorteren en zijn missie te volbrengen, is deels afhankelijk van organisatorische factoren. Voorbeelden hiervan zijn de hoeveelheid capaciteit die de toezichthouder kan inzetten, de kennis en vaardigheden die binnen de organisatie aanwezig zijn en de methoden en systemen die de toezichthouder kan gebruiken om risico’s en problemen in de markt te signaleren. Maar ook de effectiviteit waarmee de toezichthouder formele (oftewel: wettelijke) toezichtinstrumenten inzet, valt hieronder. Voor een ander deel wordt het ‘kunnen’ van de toezichthouder bepaald door de mate waarin onder toezicht staande ondernemingen en andere stakeholders de toezichthouder geloofwaardig vinden en beschouwen als autoriteit. Een toezichthouder die wordt beschouwd als autoriteit zal meer gedaan kunnen krijgen met informele beïnvloeding (dus: zonder de inzet van wettelijke toezichtinstrument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Calibri"/>
              </a:rPr>
              <a:t>Wat van de toezichthouder wordt verwach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Alle stakeholders hebben verwachtingen ten aanzien van de rol die de toezichthouder vervult, of het nu gaat om consumenten, ondernemingen, belangenverengingen, de politiek of andere toezichthouders. Deze verwachtingen worden beïnvloed door de tijdgeest en kunnen redelijk met elkaar in lijn zijn, maar ook sterk uiteenlopen. Zo woedt er al enige tijd een maatschappelijke discussie over de vraag in hoeverre toezichthouders verder mogen kijken dan een wettelijke overtreding van de norm. Sommige auteurs menen van wel, zolang dit in het verlengde ligt van de wettelijke missie van de toezichthouder (bijvoorbeeld Maatman en Azahaf 2010). Andere auteurs menen dat het primaat voor het bepalen van onwenselijk gedrag bij de wetgever ligt en dat de toezichthouder alleen in actie kan komen als wettelijke norm wordt overtreden (bijvoorbeeld Van den Berg en Pars 201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Verwachtingen ten aanzien van het functioneren van de toezichthouder blijken heel nadrukkelijk uit de uitkomsten van toezichtevaluaties. Zo onderzocht de commissie Scheltema in 2010</a:t>
            </a:r>
            <a:r>
              <a:rPr b="0" lang="nl-NL" sz="1000" spc="-1" strike="noStrike" baseline="30000">
                <a:solidFill>
                  <a:srgbClr val="000000"/>
                </a:solidFill>
                <a:latin typeface="Calibri"/>
              </a:rPr>
              <a:t> </a:t>
            </a:r>
            <a:r>
              <a:rPr b="0" lang="nl-NL" sz="1000" spc="-1" strike="noStrike">
                <a:solidFill>
                  <a:srgbClr val="000000"/>
                </a:solidFill>
                <a:latin typeface="Calibri"/>
              </a:rPr>
              <a:t>de ondergang van DSB Bank, waarna zij concludeerde dat de AFM en DNB doortastender hadden moeten ingrijpen in de governance</a:t>
            </a:r>
            <a:r>
              <a:rPr b="0" i="1" lang="nl-NL" sz="1000" spc="-1" strike="noStrike">
                <a:solidFill>
                  <a:srgbClr val="000000"/>
                </a:solidFill>
                <a:latin typeface="Calibri"/>
              </a:rPr>
              <a:t> </a:t>
            </a:r>
            <a:r>
              <a:rPr b="0" lang="nl-NL" sz="1000" spc="-1" strike="noStrike">
                <a:solidFill>
                  <a:srgbClr val="000000"/>
                </a:solidFill>
                <a:latin typeface="Calibri"/>
              </a:rPr>
              <a:t>van DSB Bank. Ook het rapport van het IMF (Viñals 2010) over de eisen die aan goed toezicht kunnen worden gesteld, bevat verwachtingen ten aanzien van de rol van de toezichthouder. </a:t>
            </a:r>
            <a:r>
              <a:rPr b="0" lang="en-US" sz="1000" spc="-1" strike="noStrike">
                <a:solidFill>
                  <a:srgbClr val="000000"/>
                </a:solidFill>
                <a:latin typeface="Calibri"/>
              </a:rPr>
              <a:t>Volgens het IMF is goed toezicht “skeptical but proactive, comprehensive, adaptive and conclusiv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Hoe gaat de toezichthouder om met discrepanties in verwachtingen en mogelijkheden? Een toezichthouder zal het liefst optreden op het snijvlak van de drie cirkels (vlak 1), oftewel: daar waar hij de bevoegdheid heeft en in staat is om te handelen en ook beantwoordt aan de verwachtingen van de stakeholders. De rol van de toezichthouder is op dit terrein onomstred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In de praktijk zal een toezichthouder echter regelmatig geconfronteerd worden met marktproblemen die niet netjes passen binnen vlak 1. In de vlakken 2, 3 en 4 zal de toezichthouder steeds weer een inspanning moeten leveren om de cirkels met elkaar in evenwicht te brengen en zijn effectiviteit aan te ton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Optreden in vlak 2 is juridisch toegestaan en ook mogelijk, maar beantwoordt niet zonder meer aan de verwachtingen van de stakeholders. De toezichthouder zal bij het afleggen van verantwoording door zijn stakeholders worden uitgedaagd om toe te lichten waarom op deze terreinen überhaupt wordt ingegrepen of waarom het prioriteit krijgt boven iets anders. Volgens hen houdt de toezichthouder zich met de verkeerde dingen bezig, ondanks het feit dat de wetgever hem wel heeft uitgerust om zich met die dingen bezig te houden. Een veranderende tijdgeest kan ertoe leiden dat wetgeving echter achterhaald is. Overigens kunnen er goede redenen zijn waarom een toezichthouder ingrijpt op een terrein waar stakeholders dat niet verwachten. Het kenmerk van een goede toezichthouder is namelijk ook dat zij autonoom en tegen de stroom in durft op te tred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Als marktproblemen zich voordoen in vlak 3 zal de toezichthouder niet bij machte zijn om deze problemen aan te pakken, hoewel hij daartoe juridisch wel gelegitimeerd is. De kans is groot dat de toezichthouder in dat geval het verwijt krijgt onjuist beleid te voeren(wellicht gaat dit zo ver dat mismanagement wordt verweten). Het lukt hem tenslotte niet om het juridisch instrumentarium op zo’n manier in te zetten dat aan de verwachtingen van stakeholders wordt voldaan. Een toezichthouder die hiermee te maken heeft, zal eenvoudig bestempeld kunnen worden als onvoldoende effectief.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Op het moment dat een toezichthouder zich begeeft in vlak 4 beantwoordt hij aan de verwachtingen van zijn stakeholders. Het lastige is echter dat democratische legitimiteit voor dit handelen ontbreekt. De toezichthouder zal zich genoodzaakt voelen bij de wetgever aan te geven dat zijn wettelijke missie en/of zijn bevoegdheden ontoereikend zij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Naast de vier vlakken waar de cirkels overlappen, zijn er ook drie niet-overlappende terreinen in bovenstaande figuur. Ook hier is een inspanning van de toezichthouder nodig, in ieder geval om te voorkomen dat hij door de buitenwereld wordt gezien als onvoldoende effectie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r>
              <a:rPr b="0" lang="nl-NL" sz="1000" spc="-1" strike="noStrike">
                <a:solidFill>
                  <a:srgbClr val="000000"/>
                </a:solidFill>
                <a:latin typeface="Calibri"/>
              </a:rPr>
              <a:t>Helemaal links in het plaatje – daar waar er verwachtingen van stakeholders bestaan, maar deze verwachtingen niet stroken met wat de toezichthouder kan en mag – zal de toezichthouder moeten beoordelen hoe reëel de verwachtingen zijn. Bij irreële verwachtingen zal beter verwachtingenmanagement een oplossing kunnen zijn. Als de verwachtingen echter wel reëel zijn, bijvoorbeeld omdat sprake is van een marktprobleem dat in het verlengde ligt van de missie van de toezichthouder, zal de toezichthouder zich moeten inspannen om het probleem aan te kunnen pakken (Gerritse 2012). Om hiertoe ook juridisch gelegitimeerd te zijn, zal de toezichthouder het probleem ook bij de wetgever moeten aankaarten en moeten vragen om meer bevoegdhed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r>
              <a:rPr b="0" lang="nl-NL" sz="1000" spc="-1" strike="noStrike">
                <a:solidFill>
                  <a:srgbClr val="000000"/>
                </a:solidFill>
                <a:latin typeface="Calibri"/>
              </a:rPr>
              <a:t>Volledig rechts in het plaatje is het ‘kunnen’ van de toezichthouder niet in lijn met wat van de toezichthouder wordt verwacht en wat de toezichthouder mag. Dit kan bijvoorbeeld het geval zijn als toezichttaken worden ‘weggehaald’ bij een nationale toezichthouder om op internationaal niveau te worden belegd.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Ten slotte, helemaal bovenin in het plaatje kan sprake zijn van verouderde wetgeving, waardoor de toezichthouder iets mag wat niet langer in lijn is met de verwachtingen ten aanzien van de rol van de toezichthouder en datgene wat de toezichthouder kan. Maar het is ook mogelijk dat juist sprake is van nieuwe wettelijke bevoegdheden waarop de toezichthouder onvoldoende heeft geanticipeerd en die de buitenwereld ook nog niet duidelijk op het netvlies heeft staa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Bovenstaande beschrijving van wat de toezichthouder mag en kan en wat van hem wordt verwacht, geeft de dynamiek weer van het speelveld waarop een toezichthouder zich begeeft. Hij kan zijn prioriteiten nooit in een ivoren toren vaststellen en zal steeds moeten nadenken over de mate waarin een veranderend juridisch kader en dynamische verwachtingen van stakeholders nieuwe eisen stellen aan de organisatie en uitvoering van het toezicht. Van de toezichthouder wordt verwacht dat hij verantwoording aflegt over de wijze waarop hij dit doet en hoe succesvol hij hierin is. Om effectief te zijn in de ogen van de buitenwereld is het voor een toezichthouder van groot belang de dynamiek van het speelveld te beheersen.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p:txBody>
      </p:sp>
      <p:sp>
        <p:nvSpPr>
          <p:cNvPr id="3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5158-C6CF-4A61-9704-DFB8752DE8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E2F69-22D2-43DE-86B7-CDABE354B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1F5BF-CA48-4A9E-A0EC-21C295810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9C432-05A6-41BE-AD98-72CA26248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AF0C1-F830-41FC-884C-E592E0442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C2EFE91-BAF8-4F5A-85EB-F397C310FE1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B8DB25A-CE57-4A5A-AA36-79795D6A70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1C4E1327-7447-47E7-90F4-4E3BFC7BC5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7397152-AAFF-4B4E-BB01-CB9F059747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7C578C6-27DE-4A8F-9B70-36E7592A98D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BA7A66E-C600-420A-8CA7-276567905FC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E2E2305-B0CD-464E-A992-F66983B5222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19E30-9548-4F24-B74D-ABEB1279E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57573B1-2FE4-4FD6-960D-AB9912CE95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979C2AD-EA68-45F1-999F-ACA2A6C631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417D7DE-4FDF-4502-8C9B-B35D7432071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52D477C9-EE02-4488-8ACD-5D9ACF00932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1B5FA75-7613-4053-A4A1-5F953D32FB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5A904-E453-4866-991D-4CA4E522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76967-2D7C-4EAD-B6A6-B366B21A6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706D9-B999-40FD-90A4-BD6919272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777CF-D2B5-422F-93B1-16E0F9754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698F-191E-495D-9B31-E33973258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66CAC-0CF5-47D4-B794-6535873F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AB50-3638-4E1E-AD99-06D3A2C33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AEA1-42DC-4F98-914F-7CF913B711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nSpc>
                <a:spcPts val="141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Calibri"/>
              </a:defRPr>
            </a:lvl1pPr>
          </a:lstStyle>
          <a:p>
            <a:pPr indent="0">
              <a:lnSpc>
                <a:spcPts val="141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Pagina </a:t>
            </a:r>
            <a:fld id="{586ED9AF-2530-480E-A567-1085B3952DEF}" type="slidenum">
              <a:rPr b="0" lang="nl-NL" sz="900" spc="-1" strike="noStrike">
                <a:solidFill>
                  <a:srgbClr val="000000"/>
                </a:solidFill>
                <a:latin typeface="Calibri"/>
              </a:rPr>
              <a:t>&lt;number&gt;</a:t>
            </a:fld>
            <a:endParaRPr b="0" lang="en-US" sz="900" spc="-1" strike="noStrike">
              <a:solidFill>
                <a:srgbClr val="000000"/>
              </a:solidFill>
              <a:latin typeface="Arial"/>
            </a:endParaRPr>
          </a:p>
        </p:txBody>
      </p:sp>
      <p:sp>
        <p:nvSpPr>
          <p:cNvPr id="44"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Hogeschool van Amsterdam 7 december</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oogle.nl/url?sa=i&amp;rct=j&amp;q=&amp;esrc=s&amp;frm=1&amp;source=images&amp;cd=&amp;cad=rja&amp;docid=aySxgMLRALcZwM&amp;tbnid=fkPciLaqtlCjMM:&amp;ved=0CAUQjRw&amp;url=http%3A%2F%2Fcoursedesign.uidaho.edu%2Fweb-2-0%2F&amp;ei=ZP1gUtvwHpHu9ASU0IH4Bw&amp;bvm=bv.54176721,d.eWU&amp;psig=AFQjCNGcR1DnCr0a07aoYzKasynu29_VpA&amp;ust=1382174376144640"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000000"/>
                </a:solidFill>
                <a:latin typeface="Calibri"/>
              </a:rPr>
              <a:t>Consumer Protection:</a:t>
            </a:r>
            <a:br>
              <a:rPr sz="5400"/>
            </a:br>
            <a:r>
              <a:rPr b="1" lang="nl-NL" sz="5400" spc="-1" strike="noStrike">
                <a:solidFill>
                  <a:srgbClr val="000000"/>
                </a:solidFill>
                <a:latin typeface="Calibri"/>
              </a:rPr>
              <a:t>A supervisor’s perspective</a:t>
            </a:r>
            <a:endParaRPr b="0" lang="en-US" sz="5400" spc="-1" strike="noStrike">
              <a:solidFill>
                <a:srgbClr val="000000"/>
              </a:solidFill>
              <a:latin typeface="Calibri"/>
            </a:endParaRPr>
          </a:p>
        </p:txBody>
      </p:sp>
      <p:sp>
        <p:nvSpPr>
          <p:cNvPr id="90" name="PlaceHolder 2"/>
          <p:cNvSpPr>
            <a:spLocks noGrp="1"/>
          </p:cNvSpPr>
          <p:nvPr>
            <p:ph type="subTitle"/>
          </p:nvPr>
        </p:nvSpPr>
        <p:spPr>
          <a:xfrm>
            <a:off x="1371600" y="3979440"/>
            <a:ext cx="640080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898989"/>
                </a:solidFill>
                <a:latin typeface="Calibri"/>
              </a:rPr>
              <a:t>Regional Conference on Consumer Protection and Financial Literac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898989"/>
                </a:solidFill>
                <a:latin typeface="Calibri"/>
              </a:rPr>
              <a:t>Sofia, 10-11 June 2014</a:t>
            </a:r>
            <a:endParaRPr b="0" lang="en-US" sz="20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91" name="Picture 9" descr="logo_afm"/>
          <p:cNvPicPr/>
          <p:nvPr/>
        </p:nvPicPr>
        <p:blipFill>
          <a:blip r:embed="rId1"/>
          <a:stretch/>
        </p:blipFill>
        <p:spPr>
          <a:xfrm>
            <a:off x="380880" y="5654520"/>
            <a:ext cx="1866960" cy="11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4600" y="2151000"/>
            <a:ext cx="8501040" cy="1206720"/>
          </a:xfrm>
          <a:prstGeom prst="rect">
            <a:avLst/>
          </a:prstGeom>
          <a:noFill/>
          <a:ln w="0">
            <a:noFill/>
          </a:ln>
        </p:spPr>
        <p:txBody>
          <a:bodyPr anchor="t">
            <a:normAutofit fontScale="83000"/>
          </a:bodyPr>
          <a:p>
            <a:pPr marL="284400" indent="-284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200" spc="-1" strike="noStrike">
                <a:solidFill>
                  <a:srgbClr val="000000"/>
                </a:solidFill>
                <a:latin typeface="Calibri"/>
              </a:rPr>
              <a:t>SOLVING PROBLEMS    = </a:t>
            </a:r>
            <a:br>
              <a:rPr sz="3200"/>
            </a:br>
            <a:r>
              <a:rPr b="1" lang="en-GB" sz="3200" spc="-1" strike="noStrike">
                <a:solidFill>
                  <a:srgbClr val="000000"/>
                </a:solidFill>
                <a:latin typeface="Calibri"/>
              </a:rPr>
              <a:t>CHANGING BEHAVIOR SUSTAINABLY</a:t>
            </a:r>
            <a:endParaRPr b="0" lang="en-US" sz="3200" spc="-1" strike="noStrike">
              <a:solidFill>
                <a:srgbClr val="000000"/>
              </a:solidFill>
              <a:latin typeface="Calibri"/>
            </a:endParaRPr>
          </a:p>
        </p:txBody>
      </p:sp>
      <p:sp>
        <p:nvSpPr>
          <p:cNvPr id="1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Pagina </a:t>
            </a:r>
            <a:fld id="{E94FC801-37CC-423D-9702-89F391C98066}" type="slidenum">
              <a:rPr b="0" lang="nl-NL" sz="900" spc="-1" strike="noStrike">
                <a:solidFill>
                  <a:srgbClr val="000000"/>
                </a:solidFill>
                <a:latin typeface="Calibri"/>
              </a:rPr>
              <a:t>&lt;number&gt;</a:t>
            </a:fld>
            <a:endParaRPr b="0" lang="en-US" sz="900" spc="-1" strike="noStrike">
              <a:solidFill>
                <a:srgbClr val="000000"/>
              </a:solidFill>
              <a:latin typeface="Arial"/>
            </a:endParaRPr>
          </a:p>
        </p:txBody>
      </p:sp>
      <p:sp>
        <p:nvSpPr>
          <p:cNvPr id="166" name="Footer Placeholder 7"/>
          <p:cNvSpPr/>
          <p:nvPr/>
        </p:nvSpPr>
        <p:spPr>
          <a:xfrm>
            <a:off x="6072120" y="6500880"/>
            <a:ext cx="3252960" cy="357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28760" y="1700280"/>
            <a:ext cx="2143080" cy="8571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428760" y="2629080"/>
            <a:ext cx="2143080" cy="8571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6"/>
          <p:cNvSpPr/>
          <p:nvPr/>
        </p:nvSpPr>
        <p:spPr>
          <a:xfrm>
            <a:off x="428760" y="3557520"/>
            <a:ext cx="2143080" cy="8571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7"/>
          <p:cNvSpPr/>
          <p:nvPr/>
        </p:nvSpPr>
        <p:spPr>
          <a:xfrm>
            <a:off x="428760" y="4486320"/>
            <a:ext cx="2143080" cy="8571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2"/>
          <p:cNvSpPr/>
          <p:nvPr/>
        </p:nvSpPr>
        <p:spPr>
          <a:xfrm>
            <a:off x="105840" y="1843200"/>
            <a:ext cx="2861640" cy="50544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rinsic norms</a:t>
            </a:r>
            <a:endParaRPr b="0" lang="en-US" sz="1800" spc="-1" strike="noStrike">
              <a:solidFill>
                <a:srgbClr val="000000"/>
              </a:solidFill>
              <a:latin typeface="Arial"/>
            </a:endParaRPr>
          </a:p>
        </p:txBody>
      </p:sp>
      <p:sp>
        <p:nvSpPr>
          <p:cNvPr id="172" name="Rectangle 13"/>
          <p:cNvSpPr/>
          <p:nvPr/>
        </p:nvSpPr>
        <p:spPr>
          <a:xfrm>
            <a:off x="176040" y="2784600"/>
            <a:ext cx="2518560" cy="50544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al norm</a:t>
            </a:r>
            <a:endParaRPr b="0" lang="en-US" sz="1800" spc="-1" strike="noStrike">
              <a:solidFill>
                <a:srgbClr val="000000"/>
              </a:solidFill>
              <a:latin typeface="Arial"/>
            </a:endParaRPr>
          </a:p>
        </p:txBody>
      </p:sp>
      <p:sp>
        <p:nvSpPr>
          <p:cNvPr id="173" name="Rectangle 14"/>
          <p:cNvSpPr/>
          <p:nvPr/>
        </p:nvSpPr>
        <p:spPr>
          <a:xfrm>
            <a:off x="554040" y="3645000"/>
            <a:ext cx="17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ility to comply</a:t>
            </a:r>
            <a:endParaRPr b="0" lang="en-US" sz="1800" spc="-1" strike="noStrike">
              <a:solidFill>
                <a:srgbClr val="000000"/>
              </a:solidFill>
              <a:latin typeface="Arial"/>
            </a:endParaRPr>
          </a:p>
        </p:txBody>
      </p:sp>
      <p:sp>
        <p:nvSpPr>
          <p:cNvPr id="174" name="Rectangle 15"/>
          <p:cNvSpPr/>
          <p:nvPr/>
        </p:nvSpPr>
        <p:spPr>
          <a:xfrm>
            <a:off x="263160" y="4641840"/>
            <a:ext cx="2399760" cy="50544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terrence</a:t>
            </a:r>
            <a:endParaRPr b="0" lang="en-US" sz="1800" spc="-1" strike="noStrike">
              <a:solidFill>
                <a:srgbClr val="000000"/>
              </a:solidFill>
              <a:latin typeface="Arial"/>
            </a:endParaRPr>
          </a:p>
        </p:txBody>
      </p:sp>
      <p:sp>
        <p:nvSpPr>
          <p:cNvPr id="175" name="Rectangle 16"/>
          <p:cNvSpPr/>
          <p:nvPr/>
        </p:nvSpPr>
        <p:spPr>
          <a:xfrm>
            <a:off x="6014880" y="1771560"/>
            <a:ext cx="255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t>
            </a:r>
            <a:r>
              <a:rPr b="1" i="1" lang="en-GB" sz="1600" spc="-1" strike="noStrike">
                <a:solidFill>
                  <a:srgbClr val="000000"/>
                </a:solidFill>
                <a:latin typeface="Arial"/>
              </a:rPr>
              <a:t>This doesn’t feel right”</a:t>
            </a:r>
            <a:endParaRPr b="0" lang="en-US" sz="1600" spc="-1" strike="noStrike">
              <a:solidFill>
                <a:srgbClr val="000000"/>
              </a:solidFill>
              <a:latin typeface="Arial"/>
            </a:endParaRPr>
          </a:p>
        </p:txBody>
      </p:sp>
      <p:sp>
        <p:nvSpPr>
          <p:cNvPr id="176" name="Rectangle 17"/>
          <p:cNvSpPr/>
          <p:nvPr/>
        </p:nvSpPr>
        <p:spPr>
          <a:xfrm>
            <a:off x="6000840" y="2728800"/>
            <a:ext cx="3038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t>
            </a:r>
            <a:r>
              <a:rPr b="1" i="1" lang="en-GB" sz="1600" spc="-1" strike="noStrike">
                <a:solidFill>
                  <a:srgbClr val="000000"/>
                </a:solidFill>
                <a:latin typeface="Arial"/>
              </a:rPr>
              <a:t>This is not how we do things around here”</a:t>
            </a:r>
            <a:endParaRPr b="0" lang="en-US" sz="1600" spc="-1" strike="noStrike">
              <a:solidFill>
                <a:srgbClr val="000000"/>
              </a:solidFill>
              <a:latin typeface="Arial"/>
            </a:endParaRPr>
          </a:p>
        </p:txBody>
      </p:sp>
      <p:sp>
        <p:nvSpPr>
          <p:cNvPr id="177" name="Rectangle 18"/>
          <p:cNvSpPr/>
          <p:nvPr/>
        </p:nvSpPr>
        <p:spPr>
          <a:xfrm>
            <a:off x="5996160" y="3732120"/>
            <a:ext cx="288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t>
            </a:r>
            <a:r>
              <a:rPr b="1" i="1" lang="en-GB" sz="1600" spc="-1" strike="noStrike">
                <a:solidFill>
                  <a:srgbClr val="000000"/>
                </a:solidFill>
                <a:latin typeface="Arial"/>
              </a:rPr>
              <a:t>I do not know what this norm requires of me”</a:t>
            </a:r>
            <a:endParaRPr b="0" lang="en-US" sz="1600" spc="-1" strike="noStrike">
              <a:solidFill>
                <a:srgbClr val="000000"/>
              </a:solidFill>
              <a:latin typeface="Arial"/>
            </a:endParaRPr>
          </a:p>
        </p:txBody>
      </p:sp>
      <p:sp>
        <p:nvSpPr>
          <p:cNvPr id="178" name="Rectangle 19"/>
          <p:cNvSpPr/>
          <p:nvPr/>
        </p:nvSpPr>
        <p:spPr>
          <a:xfrm>
            <a:off x="6000840" y="4616280"/>
            <a:ext cx="271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t>
            </a:r>
            <a:r>
              <a:rPr b="1" i="1" lang="en-GB" sz="1600" spc="-1" strike="noStrike">
                <a:solidFill>
                  <a:srgbClr val="000000"/>
                </a:solidFill>
                <a:latin typeface="Arial"/>
              </a:rPr>
              <a:t>We will loose my license if we continue with these practices”</a:t>
            </a:r>
            <a:endParaRPr b="0" lang="en-US" sz="1600" spc="-1" strike="noStrike">
              <a:solidFill>
                <a:srgbClr val="000000"/>
              </a:solidFill>
              <a:latin typeface="Arial"/>
            </a:endParaRPr>
          </a:p>
        </p:txBody>
      </p:sp>
      <p:sp>
        <p:nvSpPr>
          <p:cNvPr id="179" name="Rectangle 20"/>
          <p:cNvSpPr/>
          <p:nvPr/>
        </p:nvSpPr>
        <p:spPr>
          <a:xfrm>
            <a:off x="2948040" y="1706400"/>
            <a:ext cx="26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What an individual or institution itself believes to be right”</a:t>
            </a:r>
            <a:endParaRPr b="0" lang="en-US" sz="1600" spc="-1" strike="noStrike">
              <a:solidFill>
                <a:srgbClr val="000000"/>
              </a:solidFill>
              <a:latin typeface="Arial"/>
            </a:endParaRPr>
          </a:p>
        </p:txBody>
      </p:sp>
      <p:sp>
        <p:nvSpPr>
          <p:cNvPr id="180" name="Rectangle 21"/>
          <p:cNvSpPr/>
          <p:nvPr/>
        </p:nvSpPr>
        <p:spPr>
          <a:xfrm>
            <a:off x="2933640" y="2728800"/>
            <a:ext cx="2781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What people think the groups finds to be right”</a:t>
            </a:r>
            <a:endParaRPr b="0" lang="en-US" sz="1600" spc="-1" strike="noStrike">
              <a:solidFill>
                <a:srgbClr val="000000"/>
              </a:solidFill>
              <a:latin typeface="Arial"/>
            </a:endParaRPr>
          </a:p>
        </p:txBody>
      </p:sp>
      <p:sp>
        <p:nvSpPr>
          <p:cNvPr id="181" name="Rectangle 22"/>
          <p:cNvSpPr/>
          <p:nvPr/>
        </p:nvSpPr>
        <p:spPr>
          <a:xfrm>
            <a:off x="2928960" y="3708360"/>
            <a:ext cx="2886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Barriers that inhibit the ability to comply with the norms</a:t>
            </a:r>
            <a:r>
              <a:rPr b="1" lang="en-GB" sz="1600" spc="-1" strike="noStrike">
                <a:solidFill>
                  <a:srgbClr val="000000"/>
                </a:solidFill>
                <a:latin typeface="Arial"/>
              </a:rPr>
              <a:t>”</a:t>
            </a:r>
            <a:endParaRPr b="0" lang="en-US" sz="1600" spc="-1" strike="noStrike">
              <a:solidFill>
                <a:srgbClr val="000000"/>
              </a:solidFill>
              <a:latin typeface="Arial"/>
            </a:endParaRPr>
          </a:p>
        </p:txBody>
      </p:sp>
      <p:sp>
        <p:nvSpPr>
          <p:cNvPr id="182" name="Rectangle 23"/>
          <p:cNvSpPr/>
          <p:nvPr/>
        </p:nvSpPr>
        <p:spPr>
          <a:xfrm>
            <a:off x="2928960" y="4616280"/>
            <a:ext cx="2852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The perception of the change of being caught and the damage that then follows”</a:t>
            </a:r>
            <a:endParaRPr b="0" lang="en-US" sz="1600" spc="-1" strike="noStrike">
              <a:solidFill>
                <a:srgbClr val="000000"/>
              </a:solidFill>
              <a:latin typeface="Arial"/>
            </a:endParaRPr>
          </a:p>
        </p:txBody>
      </p:sp>
      <p:sp>
        <p:nvSpPr>
          <p:cNvPr id="183" name="Titel 1"/>
          <p:cNvSpPr/>
          <p:nvPr/>
        </p:nvSpPr>
        <p:spPr>
          <a:xfrm>
            <a:off x="755640" y="414360"/>
            <a:ext cx="777240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hat drives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74600" y="2151000"/>
            <a:ext cx="8501040" cy="1206720"/>
          </a:xfrm>
          <a:prstGeom prst="rect">
            <a:avLst/>
          </a:prstGeom>
          <a:noFill/>
          <a:ln w="0">
            <a:noFill/>
          </a:ln>
        </p:spPr>
        <p:txBody>
          <a:bodyPr anchor="t">
            <a:normAutofit fontScale="91000"/>
          </a:bodyPr>
          <a:p>
            <a:pPr marL="312120" indent="-312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200" spc="-1" strike="noStrike">
                <a:solidFill>
                  <a:srgbClr val="000000"/>
                </a:solidFill>
                <a:latin typeface="Calibri"/>
              </a:rPr>
              <a:t>CHANGING BEHAVIOR SUSTAINABLY  ≠  ENFORCING</a:t>
            </a:r>
            <a:endParaRPr b="0" lang="en-US" sz="32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Pagina </a:t>
            </a:r>
            <a:fld id="{7BE7AF96-8865-4D2B-821E-20204F9FF209}" type="slidenum">
              <a:rPr b="0" lang="nl-NL" sz="900" spc="-1" strike="noStrike">
                <a:solidFill>
                  <a:srgbClr val="000000"/>
                </a:solidFill>
                <a:latin typeface="Calibri"/>
              </a:rPr>
              <a:t>&lt;number&gt;</a:t>
            </a:fld>
            <a:endParaRPr b="0" lang="en-US" sz="900" spc="-1" strike="noStrike">
              <a:solidFill>
                <a:srgbClr val="000000"/>
              </a:solidFill>
              <a:latin typeface="Arial"/>
            </a:endParaRPr>
          </a:p>
        </p:txBody>
      </p:sp>
      <p:sp>
        <p:nvSpPr>
          <p:cNvPr id="186" name="Footer Placeholder 7"/>
          <p:cNvSpPr/>
          <p:nvPr/>
        </p:nvSpPr>
        <p:spPr>
          <a:xfrm>
            <a:off x="6072120" y="6500880"/>
            <a:ext cx="3252960" cy="357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4"/>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6"/>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8"/>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0" descr="http://uicoursedesign.files.wordpress.com/2011/01/toolkit-2.jpg">
            <a:hlinkClick r:id="rId1"/>
          </p:cNvPr>
          <p:cNvPicPr/>
          <p:nvPr/>
        </p:nvPicPr>
        <p:blipFill>
          <a:blip r:embed="rId2"/>
          <a:stretch/>
        </p:blipFill>
        <p:spPr>
          <a:xfrm>
            <a:off x="1476360" y="1125360"/>
            <a:ext cx="6048360" cy="5267520"/>
          </a:xfrm>
          <a:prstGeom prst="rect">
            <a:avLst/>
          </a:prstGeom>
          <a:ln w="0">
            <a:noFill/>
          </a:ln>
        </p:spPr>
      </p:pic>
      <p:sp>
        <p:nvSpPr>
          <p:cNvPr id="191"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old supervisor’s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https://encrypted-tbn0.gstatic.com/images?q=tbn:ANd9GcTrjGiILtfA1wAxB8cpSAQ34q8XhDwm39h_l6q2YXt1HXPPP2aoWg"/>
          <p:cNvPicPr/>
          <p:nvPr/>
        </p:nvPicPr>
        <p:blipFill>
          <a:blip r:embed="rId1"/>
          <a:stretch/>
        </p:blipFill>
        <p:spPr>
          <a:xfrm>
            <a:off x="1547640" y="1341360"/>
            <a:ext cx="6696360" cy="5016600"/>
          </a:xfrm>
          <a:prstGeom prst="rect">
            <a:avLst/>
          </a:prstGeom>
          <a:ln w="0">
            <a:noFill/>
          </a:ln>
        </p:spPr>
      </p:pic>
      <p:sp>
        <p:nvSpPr>
          <p:cNvPr id="193" name="AutoShape 4"/>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8"/>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itel 1"/>
          <p:cNvSpPr/>
          <p:nvPr/>
        </p:nvSpPr>
        <p:spPr>
          <a:xfrm>
            <a:off x="468360" y="333360"/>
            <a:ext cx="777240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old supervisor’s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Group 16" descr=""/>
          <p:cNvPicPr/>
          <p:nvPr/>
        </p:nvPicPr>
        <p:blipFill>
          <a:blip r:embed="rId1"/>
          <a:stretch/>
        </p:blipFill>
        <p:spPr>
          <a:xfrm>
            <a:off x="1036800" y="1127160"/>
            <a:ext cx="7503840" cy="5035680"/>
          </a:xfrm>
          <a:prstGeom prst="rect">
            <a:avLst/>
          </a:prstGeom>
          <a:ln w="0">
            <a:noFill/>
          </a:ln>
        </p:spPr>
      </p:pic>
      <p:sp>
        <p:nvSpPr>
          <p:cNvPr id="199"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The old supervisor’s toolb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14"/>
          <p:cNvSpPr/>
          <p:nvPr/>
        </p:nvSpPr>
        <p:spPr>
          <a:xfrm>
            <a:off x="1835280" y="2554200"/>
            <a:ext cx="5976720" cy="350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voking license</a:t>
            </a:r>
            <a:endParaRPr b="0" lang="en-US" sz="16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moving executives</a:t>
            </a:r>
            <a:endParaRPr b="0" lang="en-US" sz="16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sing criminal charges</a:t>
            </a:r>
            <a:endParaRPr b="0" lang="en-US" sz="16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utting ward</a:t>
            </a:r>
            <a:endParaRPr b="0" lang="en-US" sz="16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ublic notice or warning</a:t>
            </a:r>
            <a:endParaRPr b="0" lang="en-US" sz="16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ublic fining</a:t>
            </a:r>
            <a:endParaRPr b="0" lang="en-US" sz="16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Ordering</a:t>
            </a:r>
            <a:endParaRPr b="0" lang="en-US" sz="16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quiring</a:t>
            </a:r>
            <a:endParaRPr b="0" lang="en-US" sz="16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warning</a:t>
            </a:r>
            <a:endParaRPr b="0" lang="en-US" sz="1600" spc="-1" strike="noStrike">
              <a:solidFill>
                <a:srgbClr val="000000"/>
              </a:solidFill>
              <a:latin typeface="Arial"/>
            </a:endParaRPr>
          </a:p>
        </p:txBody>
      </p:sp>
      <p:sp>
        <p:nvSpPr>
          <p:cNvPr id="201" name="Isosceles Triangle 17"/>
          <p:cNvSpPr/>
          <p:nvPr/>
        </p:nvSpPr>
        <p:spPr>
          <a:xfrm>
            <a:off x="1187280" y="1125360"/>
            <a:ext cx="7201080" cy="5183280"/>
          </a:xfrm>
          <a:prstGeom prst="triangle">
            <a:avLst>
              <a:gd name="adj" fmla="val 50190"/>
            </a:avLst>
          </a:prstGeom>
          <a:noFill/>
          <a:ln w="38160">
            <a:solidFill>
              <a:srgbClr val="385d8a"/>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4"/>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6"/>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8"/>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63360" y="-3841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0" descr="https://encrypted-tbn1.gstatic.com/images?q=tbn:ANd9GcT0jJjcwPZolEqv-t98Wrfy_p1EZ83gTOPG9Wol2zbbVtPo8U6y"/>
          <p:cNvPicPr/>
          <p:nvPr/>
        </p:nvPicPr>
        <p:blipFill>
          <a:blip r:embed="rId1"/>
          <a:stretch/>
        </p:blipFill>
        <p:spPr>
          <a:xfrm>
            <a:off x="1332000" y="1557360"/>
            <a:ext cx="6192720" cy="4105080"/>
          </a:xfrm>
          <a:prstGeom prst="rect">
            <a:avLst/>
          </a:prstGeom>
          <a:ln w="0">
            <a:noFill/>
          </a:ln>
        </p:spPr>
      </p:pic>
      <p:sp>
        <p:nvSpPr>
          <p:cNvPr id="208"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The new supervisors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Group 16" descr=""/>
          <p:cNvPicPr/>
          <p:nvPr/>
        </p:nvPicPr>
        <p:blipFill>
          <a:blip r:embed="rId1"/>
          <a:stretch/>
        </p:blipFill>
        <p:spPr>
          <a:xfrm>
            <a:off x="1036800" y="1127160"/>
            <a:ext cx="7503840" cy="5035680"/>
          </a:xfrm>
          <a:prstGeom prst="rect">
            <a:avLst/>
          </a:prstGeom>
          <a:ln w="0">
            <a:noFill/>
          </a:ln>
        </p:spPr>
      </p:pic>
      <p:sp>
        <p:nvSpPr>
          <p:cNvPr id="210"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The new supervisor’s toolbox…</a:t>
            </a:r>
            <a:endParaRPr b="0" lang="en-US" sz="2400" spc="-1" strike="noStrike">
              <a:solidFill>
                <a:srgbClr val="000000"/>
              </a:solidFill>
              <a:latin typeface="Arial"/>
            </a:endParaRPr>
          </a:p>
        </p:txBody>
      </p:sp>
      <p:sp>
        <p:nvSpPr>
          <p:cNvPr id="211" name="TextBox 9"/>
          <p:cNvSpPr/>
          <p:nvPr/>
        </p:nvSpPr>
        <p:spPr>
          <a:xfrm>
            <a:off x="1116000" y="4869000"/>
            <a:ext cx="3887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ublic interviews or speeches</a:t>
            </a:r>
            <a:endParaRPr b="0" lang="en-US" sz="1600" spc="-1" strike="noStrike">
              <a:solidFill>
                <a:srgbClr val="000000"/>
              </a:solidFill>
              <a:latin typeface="Arial"/>
            </a:endParaRPr>
          </a:p>
        </p:txBody>
      </p:sp>
      <p:sp>
        <p:nvSpPr>
          <p:cNvPr id="212" name="TextBox 9"/>
          <p:cNvSpPr/>
          <p:nvPr/>
        </p:nvSpPr>
        <p:spPr>
          <a:xfrm>
            <a:off x="2124000" y="3419640"/>
            <a:ext cx="165600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ing</a:t>
            </a:r>
            <a:endParaRPr b="0" lang="en-US" sz="1600" spc="-1" strike="noStrike">
              <a:solidFill>
                <a:srgbClr val="000000"/>
              </a:solidFill>
              <a:latin typeface="Arial"/>
            </a:endParaRPr>
          </a:p>
        </p:txBody>
      </p:sp>
      <p:sp>
        <p:nvSpPr>
          <p:cNvPr id="213" name="TextBox 9"/>
          <p:cNvSpPr/>
          <p:nvPr/>
        </p:nvSpPr>
        <p:spPr>
          <a:xfrm>
            <a:off x="1187280" y="2492280"/>
            <a:ext cx="38894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lf-assessment</a:t>
            </a:r>
            <a:endParaRPr b="0" lang="en-US" sz="1600" spc="-1" strike="noStrike">
              <a:solidFill>
                <a:srgbClr val="000000"/>
              </a:solidFill>
              <a:latin typeface="Arial"/>
            </a:endParaRPr>
          </a:p>
        </p:txBody>
      </p:sp>
      <p:sp>
        <p:nvSpPr>
          <p:cNvPr id="214" name="TextBox 9"/>
          <p:cNvSpPr/>
          <p:nvPr/>
        </p:nvSpPr>
        <p:spPr>
          <a:xfrm>
            <a:off x="2987640" y="4508640"/>
            <a:ext cx="482436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mart communicating enforcements</a:t>
            </a:r>
            <a:endParaRPr b="0" lang="en-US" sz="1600" spc="-1" strike="noStrike">
              <a:solidFill>
                <a:srgbClr val="000000"/>
              </a:solidFill>
              <a:latin typeface="Arial"/>
            </a:endParaRPr>
          </a:p>
        </p:txBody>
      </p:sp>
      <p:sp>
        <p:nvSpPr>
          <p:cNvPr id="215" name="TextBox 9"/>
          <p:cNvSpPr/>
          <p:nvPr/>
        </p:nvSpPr>
        <p:spPr>
          <a:xfrm>
            <a:off x="1979640" y="5394240"/>
            <a:ext cx="3887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haming</a:t>
            </a:r>
            <a:endParaRPr b="0" lang="en-US" sz="1600" spc="-1" strike="noStrike">
              <a:solidFill>
                <a:srgbClr val="000000"/>
              </a:solidFill>
              <a:latin typeface="Arial"/>
            </a:endParaRPr>
          </a:p>
        </p:txBody>
      </p:sp>
      <p:sp>
        <p:nvSpPr>
          <p:cNvPr id="216" name="TextBox 9"/>
          <p:cNvSpPr/>
          <p:nvPr/>
        </p:nvSpPr>
        <p:spPr>
          <a:xfrm>
            <a:off x="5580000" y="4005360"/>
            <a:ext cx="295272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roduct analysis</a:t>
            </a:r>
            <a:endParaRPr b="0" lang="en-US" sz="1600" spc="-1" strike="noStrike">
              <a:solidFill>
                <a:srgbClr val="000000"/>
              </a:solidFill>
              <a:latin typeface="Arial"/>
            </a:endParaRPr>
          </a:p>
        </p:txBody>
      </p:sp>
      <p:sp>
        <p:nvSpPr>
          <p:cNvPr id="217" name="TextBox 9"/>
          <p:cNvSpPr/>
          <p:nvPr/>
        </p:nvSpPr>
        <p:spPr>
          <a:xfrm>
            <a:off x="1763640" y="2924280"/>
            <a:ext cx="388800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oundtable with industry</a:t>
            </a:r>
            <a:endParaRPr b="0" lang="en-US" sz="1600" spc="-1" strike="noStrike">
              <a:solidFill>
                <a:srgbClr val="000000"/>
              </a:solidFill>
              <a:latin typeface="Arial"/>
            </a:endParaRPr>
          </a:p>
        </p:txBody>
      </p:sp>
      <p:sp>
        <p:nvSpPr>
          <p:cNvPr id="218" name="TextBox 9"/>
          <p:cNvSpPr/>
          <p:nvPr/>
        </p:nvSpPr>
        <p:spPr>
          <a:xfrm>
            <a:off x="3924360" y="3284640"/>
            <a:ext cx="3887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Conversation with executives</a:t>
            </a:r>
            <a:endParaRPr b="0" lang="en-US" sz="1600" spc="-1" strike="noStrike">
              <a:solidFill>
                <a:srgbClr val="000000"/>
              </a:solidFill>
              <a:latin typeface="Arial"/>
            </a:endParaRPr>
          </a:p>
        </p:txBody>
      </p:sp>
      <p:sp>
        <p:nvSpPr>
          <p:cNvPr id="219" name="TextBox 9"/>
          <p:cNvSpPr/>
          <p:nvPr/>
        </p:nvSpPr>
        <p:spPr>
          <a:xfrm>
            <a:off x="1042920" y="3645000"/>
            <a:ext cx="38894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aming</a:t>
            </a:r>
            <a:endParaRPr b="0" lang="en-US" sz="1600" spc="-1" strike="noStrike">
              <a:solidFill>
                <a:srgbClr val="000000"/>
              </a:solidFill>
              <a:latin typeface="Arial"/>
            </a:endParaRPr>
          </a:p>
        </p:txBody>
      </p:sp>
      <p:sp>
        <p:nvSpPr>
          <p:cNvPr id="220" name="TextBox 25"/>
          <p:cNvSpPr/>
          <p:nvPr/>
        </p:nvSpPr>
        <p:spPr>
          <a:xfrm>
            <a:off x="5003640" y="2637000"/>
            <a:ext cx="3889440" cy="580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Conversation with non executive directors</a:t>
            </a:r>
            <a:endParaRPr b="0" lang="en-US" sz="1600" spc="-1" strike="noStrike">
              <a:solidFill>
                <a:srgbClr val="000000"/>
              </a:solidFill>
              <a:latin typeface="Arial"/>
            </a:endParaRPr>
          </a:p>
        </p:txBody>
      </p:sp>
      <p:sp>
        <p:nvSpPr>
          <p:cNvPr id="221" name="TextBox 26"/>
          <p:cNvSpPr/>
          <p:nvPr/>
        </p:nvSpPr>
        <p:spPr>
          <a:xfrm>
            <a:off x="2987640" y="5826240"/>
            <a:ext cx="540072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ctivating industry associations</a:t>
            </a:r>
            <a:endParaRPr b="0" lang="en-US" sz="1600" spc="-1" strike="noStrike">
              <a:solidFill>
                <a:srgbClr val="000000"/>
              </a:solidFill>
              <a:latin typeface="Arial"/>
            </a:endParaRPr>
          </a:p>
        </p:txBody>
      </p:sp>
      <p:sp>
        <p:nvSpPr>
          <p:cNvPr id="222" name="TextBox 27"/>
          <p:cNvSpPr/>
          <p:nvPr/>
        </p:nvSpPr>
        <p:spPr>
          <a:xfrm>
            <a:off x="1332000" y="4076640"/>
            <a:ext cx="4103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upporting self correcting mechanisms</a:t>
            </a:r>
            <a:endParaRPr b="0" lang="en-US" sz="1600" spc="-1" strike="noStrike">
              <a:solidFill>
                <a:srgbClr val="000000"/>
              </a:solidFill>
              <a:latin typeface="Arial"/>
            </a:endParaRPr>
          </a:p>
        </p:txBody>
      </p:sp>
      <p:sp>
        <p:nvSpPr>
          <p:cNvPr id="223" name="TextBox 28"/>
          <p:cNvSpPr/>
          <p:nvPr/>
        </p:nvSpPr>
        <p:spPr>
          <a:xfrm>
            <a:off x="5256360" y="4941720"/>
            <a:ext cx="3887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arning consumers</a:t>
            </a:r>
            <a:endParaRPr b="0" lang="en-US" sz="1600" spc="-1" strike="noStrike">
              <a:solidFill>
                <a:srgbClr val="000000"/>
              </a:solidFill>
              <a:latin typeface="Arial"/>
            </a:endParaRPr>
          </a:p>
        </p:txBody>
      </p:sp>
      <p:sp>
        <p:nvSpPr>
          <p:cNvPr id="224" name="TextBox 9"/>
          <p:cNvSpPr/>
          <p:nvPr/>
        </p:nvSpPr>
        <p:spPr>
          <a:xfrm>
            <a:off x="4859280" y="3645000"/>
            <a:ext cx="277200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it and proper testing</a:t>
            </a:r>
            <a:endParaRPr b="0" lang="en-US" sz="1600" spc="-1" strike="noStrike">
              <a:solidFill>
                <a:srgbClr val="000000"/>
              </a:solidFill>
              <a:latin typeface="Arial"/>
            </a:endParaRPr>
          </a:p>
        </p:txBody>
      </p:sp>
      <p:sp>
        <p:nvSpPr>
          <p:cNvPr id="225" name="TextBox 9"/>
          <p:cNvSpPr/>
          <p:nvPr/>
        </p:nvSpPr>
        <p:spPr>
          <a:xfrm>
            <a:off x="3492360" y="5229360"/>
            <a:ext cx="4248360" cy="580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luecing third parties, e.g. consultants and software develop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3"/>
          <p:cNvSpPr/>
          <p:nvPr/>
        </p:nvSpPr>
        <p:spPr>
          <a:xfrm>
            <a:off x="428760" y="3071880"/>
            <a:ext cx="2143080" cy="29764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428760" y="1484280"/>
            <a:ext cx="2143080" cy="133992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285480" y="1836720"/>
            <a:ext cx="2485800" cy="604800"/>
          </a:xfrm>
          <a:prstGeom prst="rect">
            <a:avLst/>
          </a:prstGeom>
          <a:noFill/>
          <a:ln w="0">
            <a:noFill/>
          </a:ln>
        </p:spPr>
        <p:txBody>
          <a:bodyPr anchor="ctr">
            <a:noAutofit/>
          </a:bodyPr>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What was</a:t>
            </a:r>
            <a:br>
              <a:rPr sz="2000"/>
            </a:br>
            <a:r>
              <a:rPr b="1" lang="nl-NL" sz="2000" spc="-1" strike="noStrike">
                <a:solidFill>
                  <a:srgbClr val="000000"/>
                </a:solidFill>
                <a:latin typeface="Calibri"/>
              </a:rPr>
              <a:t>the problem?</a:t>
            </a:r>
            <a:endParaRPr b="0" lang="en-US" sz="2000" spc="-1" strike="noStrike">
              <a:solidFill>
                <a:srgbClr val="000000"/>
              </a:solidFill>
              <a:latin typeface="Calibri"/>
            </a:endParaRPr>
          </a:p>
        </p:txBody>
      </p:sp>
      <p:sp>
        <p:nvSpPr>
          <p:cNvPr id="229" name="Title 6"/>
          <p:cNvSpPr/>
          <p:nvPr/>
        </p:nvSpPr>
        <p:spPr>
          <a:xfrm>
            <a:off x="272880" y="3681360"/>
            <a:ext cx="2486160" cy="604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ea typeface="ＭＳ Ｐゴシック"/>
              </a:rPr>
              <a:t>What did we do?</a:t>
            </a:r>
            <a:endParaRPr b="0" lang="en-US" sz="2000" spc="-1" strike="noStrike">
              <a:solidFill>
                <a:srgbClr val="000000"/>
              </a:solidFill>
              <a:latin typeface="Arial"/>
            </a:endParaRPr>
          </a:p>
        </p:txBody>
      </p:sp>
      <p:sp>
        <p:nvSpPr>
          <p:cNvPr id="230" name="Title 6"/>
          <p:cNvSpPr/>
          <p:nvPr/>
        </p:nvSpPr>
        <p:spPr>
          <a:xfrm>
            <a:off x="428760" y="5000760"/>
            <a:ext cx="2085840" cy="6048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11"/>
          <p:cNvSpPr/>
          <p:nvPr/>
        </p:nvSpPr>
        <p:spPr>
          <a:xfrm>
            <a:off x="2927520" y="3068640"/>
            <a:ext cx="5715000" cy="29610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rtgageadvice project (2007) confirmed our hypotheses. AFM made a mix of interventions:</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estrict amount of mortgage credit provisioning</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rong enforcement of worst advisors</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ublish Guidelines on good mortgage advice</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ublish online check list tool for consumers</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gage software-developers</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ocus on banks to improve products</a:t>
            </a:r>
            <a:br>
              <a:rPr sz="1800"/>
            </a:b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232" name="TextBox 12"/>
          <p:cNvSpPr/>
          <p:nvPr/>
        </p:nvSpPr>
        <p:spPr>
          <a:xfrm>
            <a:off x="2927520" y="1484280"/>
            <a:ext cx="5715000" cy="13284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286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sumers borrowing too much</a:t>
            </a:r>
            <a:endParaRPr b="0" lang="en-US" sz="1800" spc="-1" strike="noStrike">
              <a:solidFill>
                <a:srgbClr val="000000"/>
              </a:solidFill>
              <a:latin typeface="Arial"/>
            </a:endParaRPr>
          </a:p>
          <a:p>
            <a:pPr marL="2286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oor quality of advice leading to misselling</a:t>
            </a:r>
            <a:br>
              <a:rPr sz="1800"/>
            </a:b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233"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ase: Mortgage provisio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mezzo: Role of guidelines and enforcement</a:t>
            </a:r>
            <a:endParaRPr b="0" lang="en-US" sz="2400" spc="-1" strike="noStrike">
              <a:solidFill>
                <a:srgbClr val="000000"/>
              </a:solidFill>
              <a:latin typeface="Arial"/>
            </a:endParaRPr>
          </a:p>
        </p:txBody>
      </p:sp>
      <p:sp>
        <p:nvSpPr>
          <p:cNvPr id="235" name="TextBox 11"/>
          <p:cNvSpPr/>
          <p:nvPr/>
        </p:nvSpPr>
        <p:spPr>
          <a:xfrm>
            <a:off x="471600" y="1700280"/>
            <a:ext cx="8170920" cy="33253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66760" indent="-2667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w provided the principle of “appropriate advice”</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hat does that then means in individual cases?</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 fined advisors with too many files of </a:t>
            </a:r>
            <a:r>
              <a:rPr b="0" lang="nl-NL" sz="2400" spc="-1" strike="noStrike" u="sng">
                <a:solidFill>
                  <a:srgbClr val="000000"/>
                </a:solidFill>
                <a:uFillTx/>
                <a:latin typeface="Arial"/>
              </a:rPr>
              <a:t>evident</a:t>
            </a:r>
            <a:r>
              <a:rPr b="0" lang="nl-NL" sz="2400" spc="-1" strike="noStrike">
                <a:solidFill>
                  <a:srgbClr val="000000"/>
                </a:solidFill>
                <a:latin typeface="Arial"/>
              </a:rPr>
              <a:t> misselling</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 published guidelines and examples of good and bad practices</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quently we could where necessary fine advisors with too many files of inappropriate ad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jdelijke aanduiding voor inhoud 6" descr="twin-peaks[1].jpg"/>
          <p:cNvPicPr/>
          <p:nvPr/>
        </p:nvPicPr>
        <p:blipFill>
          <a:blip r:embed="rId1"/>
          <a:stretch/>
        </p:blipFill>
        <p:spPr>
          <a:xfrm>
            <a:off x="0" y="1143000"/>
            <a:ext cx="9144000" cy="5715000"/>
          </a:xfrm>
          <a:prstGeom prst="rect">
            <a:avLst/>
          </a:prstGeom>
          <a:ln w="0">
            <a:noFill/>
          </a:ln>
        </p:spPr>
      </p:pic>
      <p:sp>
        <p:nvSpPr>
          <p:cNvPr id="93" name="Tijdelijke aanduiding voor dianumm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ea typeface="ＭＳ Ｐゴシック"/>
              </a:rPr>
              <a:t>Pagina </a:t>
            </a:r>
            <a:fld id="{DB6BE9F1-18B5-4D3A-8A70-6E35F8CD14C6}" type="slidenum">
              <a:rPr b="0" lang="nl-NL"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94" name="Tijdelijke aanduiding voor datum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CA8C-BA31-42E7-9370-8BAE3BBCDF64}" type="datetime3">
              <a:rPr b="0" lang="nl-NL" sz="900" spc="-1" strike="noStrike">
                <a:solidFill>
                  <a:srgbClr val="000000"/>
                </a:solidFill>
                <a:latin typeface="Arial"/>
                <a:ea typeface="ＭＳ Ｐゴシック"/>
              </a:rPr>
              <a:t>31 juli 2026</a:t>
            </a:fld>
            <a:endParaRPr b="0" lang="en-US" sz="900" spc="-1" strike="noStrike">
              <a:solidFill>
                <a:srgbClr val="000000"/>
              </a:solidFill>
              <a:latin typeface="Arial"/>
            </a:endParaRPr>
          </a:p>
        </p:txBody>
      </p:sp>
      <p:sp>
        <p:nvSpPr>
          <p:cNvPr id="95" name="TextBox 16"/>
          <p:cNvSpPr/>
          <p:nvPr/>
        </p:nvSpPr>
        <p:spPr>
          <a:xfrm>
            <a:off x="1285920" y="3000240"/>
            <a:ext cx="2928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ff0000"/>
                </a:solidFill>
                <a:latin typeface="Arial Black"/>
                <a:ea typeface="ＭＳ Ｐゴシック"/>
              </a:rPr>
              <a:t>AFM</a:t>
            </a:r>
            <a:endParaRPr b="0" lang="en-US" sz="6000" spc="-1" strike="noStrike">
              <a:solidFill>
                <a:srgbClr val="000000"/>
              </a:solidFill>
              <a:latin typeface="Arial"/>
            </a:endParaRPr>
          </a:p>
        </p:txBody>
      </p:sp>
      <p:sp>
        <p:nvSpPr>
          <p:cNvPr id="96" name="TextBox 17"/>
          <p:cNvSpPr/>
          <p:nvPr/>
        </p:nvSpPr>
        <p:spPr>
          <a:xfrm>
            <a:off x="5143680" y="2984400"/>
            <a:ext cx="2928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70c0"/>
                </a:solidFill>
                <a:latin typeface="Arial Black"/>
                <a:ea typeface="ＭＳ Ｐゴシック"/>
              </a:rPr>
              <a:t>DNB</a:t>
            </a:r>
            <a:endParaRPr b="0" lang="en-US" sz="6000" spc="-1" strike="noStrike">
              <a:solidFill>
                <a:srgbClr val="000000"/>
              </a:solidFill>
              <a:latin typeface="Arial"/>
            </a:endParaRPr>
          </a:p>
        </p:txBody>
      </p:sp>
      <p:sp>
        <p:nvSpPr>
          <p:cNvPr id="97" name="Rectangle 20"/>
          <p:cNvSpPr/>
          <p:nvPr/>
        </p:nvSpPr>
        <p:spPr>
          <a:xfrm>
            <a:off x="1143000" y="4000680"/>
            <a:ext cx="3429000" cy="107136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1"/>
          <p:cNvSpPr/>
          <p:nvPr/>
        </p:nvSpPr>
        <p:spPr>
          <a:xfrm>
            <a:off x="1428840" y="4071960"/>
            <a:ext cx="2928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ea typeface="ＭＳ Ｐゴシック"/>
              </a:rPr>
              <a:t>How is a financial institution treating its customers?</a:t>
            </a:r>
            <a:endParaRPr b="0" lang="en-US" sz="1800" spc="-1" strike="noStrike">
              <a:solidFill>
                <a:srgbClr val="000000"/>
              </a:solidFill>
              <a:latin typeface="Arial"/>
            </a:endParaRPr>
          </a:p>
        </p:txBody>
      </p:sp>
      <p:sp>
        <p:nvSpPr>
          <p:cNvPr id="99" name="Rectangle 22"/>
          <p:cNvSpPr/>
          <p:nvPr/>
        </p:nvSpPr>
        <p:spPr>
          <a:xfrm>
            <a:off x="1143000" y="5214960"/>
            <a:ext cx="3429000" cy="107172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23"/>
          <p:cNvSpPr/>
          <p:nvPr/>
        </p:nvSpPr>
        <p:spPr>
          <a:xfrm>
            <a:off x="1428840" y="542592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ea typeface="ＭＳ Ｐゴシック"/>
              </a:rPr>
              <a:t>Consumer: am I treated fairly?</a:t>
            </a:r>
            <a:endParaRPr b="0" lang="en-US" sz="1800" spc="-1" strike="noStrike">
              <a:solidFill>
                <a:srgbClr val="000000"/>
              </a:solidFill>
              <a:latin typeface="Arial"/>
            </a:endParaRPr>
          </a:p>
        </p:txBody>
      </p:sp>
      <p:sp>
        <p:nvSpPr>
          <p:cNvPr id="101" name="Rectangle 24"/>
          <p:cNvSpPr/>
          <p:nvPr/>
        </p:nvSpPr>
        <p:spPr>
          <a:xfrm>
            <a:off x="5000760" y="4000680"/>
            <a:ext cx="3429000" cy="107136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5"/>
          <p:cNvSpPr/>
          <p:nvPr/>
        </p:nvSpPr>
        <p:spPr>
          <a:xfrm>
            <a:off x="5286240" y="4071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70c0"/>
                </a:solidFill>
                <a:latin typeface="Arial"/>
                <a:ea typeface="ＭＳ Ｐゴシック"/>
              </a:rPr>
              <a:t>Is the financial institution sound?</a:t>
            </a:r>
            <a:endParaRPr b="0" lang="en-US" sz="1800" spc="-1" strike="noStrike">
              <a:solidFill>
                <a:srgbClr val="000000"/>
              </a:solidFill>
              <a:latin typeface="Arial"/>
            </a:endParaRPr>
          </a:p>
        </p:txBody>
      </p:sp>
      <p:sp>
        <p:nvSpPr>
          <p:cNvPr id="103" name="Rectangle 26"/>
          <p:cNvSpPr/>
          <p:nvPr/>
        </p:nvSpPr>
        <p:spPr>
          <a:xfrm>
            <a:off x="5000760" y="5214960"/>
            <a:ext cx="3429000" cy="107172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27"/>
          <p:cNvSpPr/>
          <p:nvPr/>
        </p:nvSpPr>
        <p:spPr>
          <a:xfrm>
            <a:off x="5286240" y="542592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70c0"/>
                </a:solidFill>
                <a:latin typeface="Arial"/>
                <a:ea typeface="ＭＳ Ｐゴシック"/>
              </a:rPr>
              <a:t>Consumer: is my money safe?</a:t>
            </a:r>
            <a:endParaRPr b="0" lang="en-US" sz="1800" spc="-1" strike="noStrike">
              <a:solidFill>
                <a:srgbClr val="000000"/>
              </a:solidFill>
              <a:latin typeface="Arial"/>
            </a:endParaRPr>
          </a:p>
        </p:txBody>
      </p:sp>
      <p:sp>
        <p:nvSpPr>
          <p:cNvPr id="105" name="Titel 1"/>
          <p:cNvSpPr/>
          <p:nvPr/>
        </p:nvSpPr>
        <p:spPr>
          <a:xfrm>
            <a:off x="539640" y="189000"/>
            <a:ext cx="7772400" cy="1143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FM is the conduct of business regulator of</a:t>
            </a:r>
            <a:br>
              <a:rPr sz="2400"/>
            </a:br>
            <a:r>
              <a:rPr b="1" lang="en-US" sz="2400" spc="-1" strike="noStrike">
                <a:solidFill>
                  <a:srgbClr val="000000"/>
                </a:solidFill>
                <a:latin typeface="Calibri"/>
              </a:rPr>
              <a:t>the Netherl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442800" y="1671480"/>
            <a:ext cx="2143080" cy="2971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itle 6"/>
          <p:cNvSpPr/>
          <p:nvPr/>
        </p:nvSpPr>
        <p:spPr>
          <a:xfrm>
            <a:off x="457200" y="2492280"/>
            <a:ext cx="2085840" cy="604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ea typeface="ＭＳ Ｐゴシック"/>
              </a:rPr>
              <a:t>What has be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ea typeface="ＭＳ Ｐゴシック"/>
              </a:rPr>
              <a:t> </a:t>
            </a:r>
            <a:r>
              <a:rPr b="1" lang="nl-NL" sz="2000" spc="-1" strike="noStrike">
                <a:solidFill>
                  <a:srgbClr val="000000"/>
                </a:solidFill>
                <a:latin typeface="Calibri"/>
                <a:ea typeface="ＭＳ Ｐゴシック"/>
              </a:rPr>
              <a:t>the impact of our actions?</a:t>
            </a:r>
            <a:endParaRPr b="0" lang="en-US" sz="2000" spc="-1" strike="noStrike">
              <a:solidFill>
                <a:srgbClr val="000000"/>
              </a:solidFill>
              <a:latin typeface="Arial"/>
            </a:endParaRPr>
          </a:p>
        </p:txBody>
      </p:sp>
      <p:sp>
        <p:nvSpPr>
          <p:cNvPr id="238" name="TextBox 12"/>
          <p:cNvSpPr/>
          <p:nvPr/>
        </p:nvSpPr>
        <p:spPr>
          <a:xfrm>
            <a:off x="3000240" y="1643040"/>
            <a:ext cx="5715000" cy="29743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rtgageadvice project 2010:</a:t>
            </a:r>
            <a:endParaRPr b="0" lang="en-US" sz="1800" spc="-1" strike="noStrike">
              <a:solidFill>
                <a:srgbClr val="000000"/>
              </a:solidFill>
              <a:latin typeface="Arial"/>
            </a:endParaRPr>
          </a:p>
          <a:p>
            <a:pPr marL="2286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ercentage moderate and inadequate advice declined from 24% to 15%</a:t>
            </a:r>
            <a:endParaRPr b="0" lang="en-US" sz="1800" spc="-1" strike="noStrike">
              <a:solidFill>
                <a:srgbClr val="000000"/>
              </a:solidFill>
              <a:latin typeface="Arial"/>
            </a:endParaRPr>
          </a:p>
          <a:p>
            <a:pPr marL="2286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ss irresponsible borrowing</a:t>
            </a:r>
            <a:endParaRPr b="0" lang="en-US" sz="1800" spc="-1" strike="noStrike">
              <a:solidFill>
                <a:srgbClr val="000000"/>
              </a:solidFill>
              <a:latin typeface="Arial"/>
            </a:endParaRPr>
          </a:p>
          <a:p>
            <a:pPr marL="2286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re attention for risks regarding loss of income </a:t>
            </a:r>
            <a:endParaRPr b="0" lang="en-US" sz="1800" spc="-1" strike="noStrike">
              <a:solidFill>
                <a:srgbClr val="000000"/>
              </a:solidFill>
              <a:latin typeface="Arial"/>
            </a:endParaRPr>
          </a:p>
          <a:p>
            <a:pPr marL="2286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erm and conditions of certain products have (almost collectively) been improved</a:t>
            </a:r>
            <a:endParaRPr b="0" lang="en-US" sz="1800" spc="-1" strike="noStrike">
              <a:solidFill>
                <a:srgbClr val="000000"/>
              </a:solidFill>
              <a:latin typeface="Arial"/>
            </a:endParaRPr>
          </a:p>
        </p:txBody>
      </p:sp>
      <p:sp>
        <p:nvSpPr>
          <p:cNvPr id="239"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ase: Mortgage provisio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7" descr=""/>
          <p:cNvPicPr/>
          <p:nvPr/>
        </p:nvPicPr>
        <p:blipFill>
          <a:blip r:embed="rId1"/>
          <a:stretch/>
        </p:blipFill>
        <p:spPr>
          <a:xfrm>
            <a:off x="971640" y="1679400"/>
            <a:ext cx="7488000" cy="4094280"/>
          </a:xfrm>
          <a:prstGeom prst="rect">
            <a:avLst/>
          </a:prstGeom>
          <a:ln w="0">
            <a:noFill/>
          </a:ln>
        </p:spPr>
      </p:pic>
      <p:sp>
        <p:nvSpPr>
          <p:cNvPr id="241" name="Rechthoek 6"/>
          <p:cNvSpPr/>
          <p:nvPr/>
        </p:nvSpPr>
        <p:spPr>
          <a:xfrm>
            <a:off x="1000080" y="5516640"/>
            <a:ext cx="2924280" cy="21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kstvak 5"/>
          <p:cNvSpPr/>
          <p:nvPr/>
        </p:nvSpPr>
        <p:spPr>
          <a:xfrm>
            <a:off x="976320" y="5425920"/>
            <a:ext cx="307188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ting Customers Fairly total</a:t>
            </a:r>
            <a:endParaRPr b="0" lang="en-US" sz="1600" spc="-1" strike="noStrike">
              <a:solidFill>
                <a:srgbClr val="000000"/>
              </a:solidFill>
              <a:latin typeface="Arial"/>
            </a:endParaRPr>
          </a:p>
        </p:txBody>
      </p:sp>
      <p:sp>
        <p:nvSpPr>
          <p:cNvPr id="243" name="Tekstvak 4"/>
          <p:cNvSpPr/>
          <p:nvPr/>
        </p:nvSpPr>
        <p:spPr>
          <a:xfrm>
            <a:off x="1000080" y="3467160"/>
            <a:ext cx="2736720" cy="180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tgage advice</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 products</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services</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advice</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quality</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aints handling</a:t>
            </a:r>
            <a:endParaRPr b="0" lang="en-US" sz="1600" spc="-1" strike="noStrike">
              <a:solidFill>
                <a:srgbClr val="000000"/>
              </a:solidFill>
              <a:latin typeface="Arial"/>
            </a:endParaRPr>
          </a:p>
        </p:txBody>
      </p:sp>
      <p:sp>
        <p:nvSpPr>
          <p:cNvPr id="244" name="Rechthoek 7"/>
          <p:cNvSpPr/>
          <p:nvPr/>
        </p:nvSpPr>
        <p:spPr>
          <a:xfrm>
            <a:off x="1000080" y="1700280"/>
            <a:ext cx="2924280" cy="1728720"/>
          </a:xfrm>
          <a:prstGeom prst="rect">
            <a:avLst/>
          </a:prstGeom>
          <a:solidFill>
            <a:srgbClr val="8064a2"/>
          </a:solidFill>
          <a:ln w="1152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kstvak 8"/>
          <p:cNvSpPr/>
          <p:nvPr/>
        </p:nvSpPr>
        <p:spPr>
          <a:xfrm>
            <a:off x="1042920" y="1773360"/>
            <a:ext cx="280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ing Customers Fairly: overall perspective </a:t>
            </a:r>
            <a:endParaRPr b="0" lang="en-US" sz="2400" spc="-1" strike="noStrike">
              <a:solidFill>
                <a:srgbClr val="000000"/>
              </a:solidFill>
              <a:latin typeface="Arial"/>
            </a:endParaRPr>
          </a:p>
        </p:txBody>
      </p:sp>
      <p:sp>
        <p:nvSpPr>
          <p:cNvPr id="246" name="Tekstvak 9"/>
          <p:cNvSpPr/>
          <p:nvPr/>
        </p:nvSpPr>
        <p:spPr>
          <a:xfrm rot="16200000">
            <a:off x="7137000" y="2395800"/>
            <a:ext cx="172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64a2"/>
                </a:solidFill>
                <a:latin typeface="Arial"/>
              </a:rPr>
              <a:t>Average score</a:t>
            </a:r>
            <a:endParaRPr b="0" lang="en-US" sz="1600" spc="-1" strike="noStrike">
              <a:solidFill>
                <a:srgbClr val="000000"/>
              </a:solidFill>
              <a:latin typeface="Arial"/>
            </a:endParaRPr>
          </a:p>
        </p:txBody>
      </p:sp>
      <p:sp>
        <p:nvSpPr>
          <p:cNvPr id="247" name="Tekstvak 10"/>
          <p:cNvSpPr/>
          <p:nvPr/>
        </p:nvSpPr>
        <p:spPr>
          <a:xfrm rot="16200000">
            <a:off x="3371400" y="2395800"/>
            <a:ext cx="172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64a2"/>
                </a:solidFill>
                <a:latin typeface="Arial"/>
              </a:rPr>
              <a:t># institutions</a:t>
            </a:r>
            <a:endParaRPr b="0" lang="en-US" sz="1600" spc="-1" strike="noStrike">
              <a:solidFill>
                <a:srgbClr val="000000"/>
              </a:solidFill>
              <a:latin typeface="Arial"/>
            </a:endParaRPr>
          </a:p>
        </p:txBody>
      </p:sp>
      <p:sp>
        <p:nvSpPr>
          <p:cNvPr id="248" name="Tekstvak 11"/>
          <p:cNvSpPr/>
          <p:nvPr/>
        </p:nvSpPr>
        <p:spPr>
          <a:xfrm>
            <a:off x="5508720" y="3090960"/>
            <a:ext cx="1727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64a2"/>
                </a:solidFill>
                <a:latin typeface="Arial"/>
              </a:rPr>
              <a:t>Spread</a:t>
            </a:r>
            <a:endParaRPr b="0" lang="en-US" sz="1600" spc="-1" strike="noStrike">
              <a:solidFill>
                <a:srgbClr val="000000"/>
              </a:solidFill>
              <a:latin typeface="Arial"/>
            </a:endParaRPr>
          </a:p>
        </p:txBody>
      </p:sp>
      <p:sp>
        <p:nvSpPr>
          <p:cNvPr id="249"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ase: Benchmarking Treating Customers Fair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10"/>
          <p:cNvSpPr/>
          <p:nvPr/>
        </p:nvSpPr>
        <p:spPr>
          <a:xfrm>
            <a:off x="468360" y="1341360"/>
            <a:ext cx="8286840" cy="48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4f81bd"/>
                </a:solidFill>
                <a:latin typeface="Arial"/>
              </a:rPr>
              <a:t>Targetting symptoms of harmful behavior</a:t>
            </a:r>
            <a:br>
              <a:rPr sz="2000"/>
            </a:br>
            <a:r>
              <a:rPr b="0" lang="nl-NL" sz="1800" spc="-1" strike="noStrike">
                <a:solidFill>
                  <a:srgbClr val="000000"/>
                </a:solidFill>
                <a:latin typeface="Arial"/>
              </a:rPr>
              <a:t>- In most of the items on the dashboard elements concerning illegal as well as harmful (yet not illegal) behavior are targetted. </a:t>
            </a:r>
            <a:br>
              <a:rPr sz="1800"/>
            </a:br>
            <a:br>
              <a:rPr sz="1800"/>
            </a:br>
            <a:r>
              <a:rPr b="1" i="1" lang="nl-NL" sz="2000" spc="-1" strike="noStrike">
                <a:solidFill>
                  <a:srgbClr val="4f81bd"/>
                </a:solidFill>
                <a:latin typeface="Arial"/>
              </a:rPr>
              <a:t>Engage in dialogue; clarify as well as make norms explicit</a:t>
            </a:r>
            <a:br>
              <a:rPr sz="2000"/>
            </a:br>
            <a:r>
              <a:rPr b="0" lang="nl-NL" sz="1800" spc="-1" strike="noStrike">
                <a:solidFill>
                  <a:srgbClr val="000000"/>
                </a:solidFill>
                <a:latin typeface="Arial"/>
              </a:rPr>
              <a:t>- Benchmarking definitions are determined and defined in some detail after discussions with industry</a:t>
            </a:r>
            <a:br>
              <a:rPr sz="1800"/>
            </a:br>
            <a:br>
              <a:rPr sz="1800"/>
            </a:br>
            <a:r>
              <a:rPr b="1" i="1" lang="nl-NL" sz="2000" spc="-1" strike="noStrike">
                <a:solidFill>
                  <a:srgbClr val="4f81bd"/>
                </a:solidFill>
                <a:latin typeface="Arial"/>
              </a:rPr>
              <a:t>Stimulate and facilitate accelerated change process with large institutions towards Treating Customers Fairly</a:t>
            </a:r>
            <a:br>
              <a:rPr sz="2000"/>
            </a:br>
            <a:r>
              <a:rPr b="0" lang="nl-NL" sz="1800" spc="-1" strike="noStrike">
                <a:solidFill>
                  <a:srgbClr val="000000"/>
                </a:solidFill>
                <a:latin typeface="Arial"/>
              </a:rPr>
              <a:t>- Dashboard: benchmarking is very effective in accelerating lagg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Results are discussed in detail bilaterally on C-suite level</a:t>
            </a:r>
            <a:br>
              <a:rPr sz="1800"/>
            </a:br>
            <a:r>
              <a:rPr b="0" lang="nl-NL" sz="1800" spc="-1" strike="noStrike">
                <a:solidFill>
                  <a:srgbClr val="000000"/>
                </a:solidFill>
                <a:latin typeface="Arial"/>
              </a:rPr>
              <a:t>- The dashboard serves for institutions as an important change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tool internally</a:t>
            </a:r>
            <a:br>
              <a:rPr sz="1800"/>
            </a:br>
            <a:r>
              <a:rPr b="0" lang="nl-NL" sz="1800" spc="-1" strike="noStrike">
                <a:solidFill>
                  <a:srgbClr val="000000"/>
                </a:solidFill>
                <a:latin typeface="Arial"/>
              </a:rPr>
              <a:t>- Annual discussions with CEO’s of all benchmarked institutions facilit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dialogue as well as stimulates peer pressure</a:t>
            </a:r>
            <a:br>
              <a:rPr sz="1800"/>
            </a:br>
            <a:endParaRPr b="0" lang="en-US" sz="1800" spc="-1" strike="noStrike">
              <a:solidFill>
                <a:srgbClr val="000000"/>
              </a:solidFill>
              <a:latin typeface="Arial"/>
            </a:endParaRPr>
          </a:p>
        </p:txBody>
      </p:sp>
      <p:sp>
        <p:nvSpPr>
          <p:cNvPr id="251"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ase: Benchmarking Treating Customers Fair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7" descr=""/>
          <p:cNvPicPr/>
          <p:nvPr/>
        </p:nvPicPr>
        <p:blipFill>
          <a:blip r:embed="rId1"/>
          <a:stretch/>
        </p:blipFill>
        <p:spPr>
          <a:xfrm>
            <a:off x="971640" y="1679400"/>
            <a:ext cx="7488000" cy="4094280"/>
          </a:xfrm>
          <a:prstGeom prst="rect">
            <a:avLst/>
          </a:prstGeom>
          <a:ln w="0">
            <a:noFill/>
          </a:ln>
        </p:spPr>
      </p:pic>
      <p:sp>
        <p:nvSpPr>
          <p:cNvPr id="253" name="Rechthoek 6"/>
          <p:cNvSpPr/>
          <p:nvPr/>
        </p:nvSpPr>
        <p:spPr>
          <a:xfrm>
            <a:off x="1000080" y="5516640"/>
            <a:ext cx="2924280" cy="21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kstvak 5"/>
          <p:cNvSpPr/>
          <p:nvPr/>
        </p:nvSpPr>
        <p:spPr>
          <a:xfrm>
            <a:off x="976320" y="5425920"/>
            <a:ext cx="307188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ting Customers Fairly total</a:t>
            </a:r>
            <a:endParaRPr b="0" lang="en-US" sz="1600" spc="-1" strike="noStrike">
              <a:solidFill>
                <a:srgbClr val="000000"/>
              </a:solidFill>
              <a:latin typeface="Arial"/>
            </a:endParaRPr>
          </a:p>
        </p:txBody>
      </p:sp>
      <p:sp>
        <p:nvSpPr>
          <p:cNvPr id="255" name="Tekstvak 4"/>
          <p:cNvSpPr/>
          <p:nvPr/>
        </p:nvSpPr>
        <p:spPr>
          <a:xfrm>
            <a:off x="1000080" y="3467160"/>
            <a:ext cx="2736720" cy="180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tgage advice</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 products</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services</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advice</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quality</a:t>
            </a:r>
            <a:endParaRPr b="0" lang="en-US" sz="16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aints handling</a:t>
            </a:r>
            <a:endParaRPr b="0" lang="en-US" sz="1600" spc="-1" strike="noStrike">
              <a:solidFill>
                <a:srgbClr val="000000"/>
              </a:solidFill>
              <a:latin typeface="Arial"/>
            </a:endParaRPr>
          </a:p>
        </p:txBody>
      </p:sp>
      <p:sp>
        <p:nvSpPr>
          <p:cNvPr id="256" name="Rechthoek 7"/>
          <p:cNvSpPr/>
          <p:nvPr/>
        </p:nvSpPr>
        <p:spPr>
          <a:xfrm>
            <a:off x="1000080" y="1700280"/>
            <a:ext cx="2924280" cy="1728720"/>
          </a:xfrm>
          <a:prstGeom prst="rect">
            <a:avLst/>
          </a:prstGeom>
          <a:solidFill>
            <a:srgbClr val="8064a2"/>
          </a:solidFill>
          <a:ln w="1152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kstvak 8"/>
          <p:cNvSpPr/>
          <p:nvPr/>
        </p:nvSpPr>
        <p:spPr>
          <a:xfrm>
            <a:off x="1042920" y="1773360"/>
            <a:ext cx="280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ing Customers Fairly: overall perspective </a:t>
            </a:r>
            <a:endParaRPr b="0" lang="en-US" sz="2400" spc="-1" strike="noStrike">
              <a:solidFill>
                <a:srgbClr val="000000"/>
              </a:solidFill>
              <a:latin typeface="Arial"/>
            </a:endParaRPr>
          </a:p>
        </p:txBody>
      </p:sp>
      <p:sp>
        <p:nvSpPr>
          <p:cNvPr id="258" name="Tekstvak 9"/>
          <p:cNvSpPr/>
          <p:nvPr/>
        </p:nvSpPr>
        <p:spPr>
          <a:xfrm rot="16200000">
            <a:off x="7137000" y="2395800"/>
            <a:ext cx="172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64a2"/>
                </a:solidFill>
                <a:latin typeface="Arial"/>
              </a:rPr>
              <a:t>Average score</a:t>
            </a:r>
            <a:endParaRPr b="0" lang="en-US" sz="1600" spc="-1" strike="noStrike">
              <a:solidFill>
                <a:srgbClr val="000000"/>
              </a:solidFill>
              <a:latin typeface="Arial"/>
            </a:endParaRPr>
          </a:p>
        </p:txBody>
      </p:sp>
      <p:sp>
        <p:nvSpPr>
          <p:cNvPr id="259" name="Tekstvak 10"/>
          <p:cNvSpPr/>
          <p:nvPr/>
        </p:nvSpPr>
        <p:spPr>
          <a:xfrm rot="16200000">
            <a:off x="3371400" y="2395800"/>
            <a:ext cx="172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64a2"/>
                </a:solidFill>
                <a:latin typeface="Arial"/>
              </a:rPr>
              <a:t># institutions</a:t>
            </a:r>
            <a:endParaRPr b="0" lang="en-US" sz="1600" spc="-1" strike="noStrike">
              <a:solidFill>
                <a:srgbClr val="000000"/>
              </a:solidFill>
              <a:latin typeface="Arial"/>
            </a:endParaRPr>
          </a:p>
        </p:txBody>
      </p:sp>
      <p:sp>
        <p:nvSpPr>
          <p:cNvPr id="260" name="Tekstvak 11"/>
          <p:cNvSpPr/>
          <p:nvPr/>
        </p:nvSpPr>
        <p:spPr>
          <a:xfrm>
            <a:off x="5508720" y="3090960"/>
            <a:ext cx="1727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64a2"/>
                </a:solidFill>
                <a:latin typeface="Arial"/>
              </a:rPr>
              <a:t>Spread</a:t>
            </a:r>
            <a:endParaRPr b="0" lang="en-US" sz="1600" spc="-1" strike="noStrike">
              <a:solidFill>
                <a:srgbClr val="000000"/>
              </a:solidFill>
              <a:latin typeface="Arial"/>
            </a:endParaRPr>
          </a:p>
        </p:txBody>
      </p:sp>
      <p:sp>
        <p:nvSpPr>
          <p:cNvPr id="261"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ase: Benchmarking Treating Customers Fairly</a:t>
            </a:r>
            <a:endParaRPr b="0" lang="en-US" sz="2400" spc="-1" strike="noStrike">
              <a:solidFill>
                <a:srgbClr val="000000"/>
              </a:solidFill>
              <a:latin typeface="Arial"/>
            </a:endParaRPr>
          </a:p>
        </p:txBody>
      </p:sp>
      <p:sp>
        <p:nvSpPr>
          <p:cNvPr id="262" name="Ovale toelichting 1"/>
          <p:cNvSpPr/>
          <p:nvPr/>
        </p:nvSpPr>
        <p:spPr>
          <a:xfrm>
            <a:off x="2513160" y="2133720"/>
            <a:ext cx="4795560" cy="2808000"/>
          </a:xfrm>
          <a:prstGeom prst="wedgeEllipseCallout">
            <a:avLst>
              <a:gd name="adj1" fmla="val 60574"/>
              <a:gd name="adj2" fmla="val 70347"/>
            </a:avLst>
          </a:prstGeom>
          <a:solidFill>
            <a:srgbClr val="8064a2"/>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core has moved up from 2.7 in 2010, to 3.0 in 2011, 3.3 in 2012 and 3.5 in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Group 16" descr=""/>
          <p:cNvPicPr/>
          <p:nvPr/>
        </p:nvPicPr>
        <p:blipFill>
          <a:blip r:embed="rId1"/>
          <a:stretch/>
        </p:blipFill>
        <p:spPr>
          <a:xfrm>
            <a:off x="1036800" y="1127160"/>
            <a:ext cx="7503840" cy="5035680"/>
          </a:xfrm>
          <a:prstGeom prst="rect">
            <a:avLst/>
          </a:prstGeom>
          <a:ln w="0">
            <a:noFill/>
          </a:ln>
        </p:spPr>
      </p:pic>
      <p:sp>
        <p:nvSpPr>
          <p:cNvPr id="264" name="Titel 1"/>
          <p:cNvSpPr/>
          <p:nvPr/>
        </p:nvSpPr>
        <p:spPr>
          <a:xfrm>
            <a:off x="471600" y="343080"/>
            <a:ext cx="777240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The new supervisor’s toolbox…</a:t>
            </a:r>
            <a:endParaRPr b="0" lang="en-US" sz="2400" spc="-1" strike="noStrike">
              <a:solidFill>
                <a:srgbClr val="000000"/>
              </a:solidFill>
              <a:latin typeface="Arial"/>
            </a:endParaRPr>
          </a:p>
        </p:txBody>
      </p:sp>
      <p:sp>
        <p:nvSpPr>
          <p:cNvPr id="265" name="TextBox 9"/>
          <p:cNvSpPr/>
          <p:nvPr/>
        </p:nvSpPr>
        <p:spPr>
          <a:xfrm>
            <a:off x="1116000" y="4869000"/>
            <a:ext cx="3887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ublic interviews or speeches</a:t>
            </a:r>
            <a:endParaRPr b="0" lang="en-US" sz="1600" spc="-1" strike="noStrike">
              <a:solidFill>
                <a:srgbClr val="000000"/>
              </a:solidFill>
              <a:latin typeface="Arial"/>
            </a:endParaRPr>
          </a:p>
        </p:txBody>
      </p:sp>
      <p:sp>
        <p:nvSpPr>
          <p:cNvPr id="266" name="TextBox 9"/>
          <p:cNvSpPr/>
          <p:nvPr/>
        </p:nvSpPr>
        <p:spPr>
          <a:xfrm>
            <a:off x="2124000" y="3419640"/>
            <a:ext cx="165600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ing</a:t>
            </a:r>
            <a:endParaRPr b="0" lang="en-US" sz="1600" spc="-1" strike="noStrike">
              <a:solidFill>
                <a:srgbClr val="000000"/>
              </a:solidFill>
              <a:latin typeface="Arial"/>
            </a:endParaRPr>
          </a:p>
        </p:txBody>
      </p:sp>
      <p:sp>
        <p:nvSpPr>
          <p:cNvPr id="267" name="TextBox 9"/>
          <p:cNvSpPr/>
          <p:nvPr/>
        </p:nvSpPr>
        <p:spPr>
          <a:xfrm>
            <a:off x="1187280" y="2492280"/>
            <a:ext cx="38894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lf-assessment</a:t>
            </a:r>
            <a:endParaRPr b="0" lang="en-US" sz="1600" spc="-1" strike="noStrike">
              <a:solidFill>
                <a:srgbClr val="000000"/>
              </a:solidFill>
              <a:latin typeface="Arial"/>
            </a:endParaRPr>
          </a:p>
        </p:txBody>
      </p:sp>
      <p:sp>
        <p:nvSpPr>
          <p:cNvPr id="268" name="TextBox 9"/>
          <p:cNvSpPr/>
          <p:nvPr/>
        </p:nvSpPr>
        <p:spPr>
          <a:xfrm>
            <a:off x="2987640" y="4508640"/>
            <a:ext cx="482436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mart communicating enforcements</a:t>
            </a:r>
            <a:endParaRPr b="0" lang="en-US" sz="1600" spc="-1" strike="noStrike">
              <a:solidFill>
                <a:srgbClr val="000000"/>
              </a:solidFill>
              <a:latin typeface="Arial"/>
            </a:endParaRPr>
          </a:p>
        </p:txBody>
      </p:sp>
      <p:sp>
        <p:nvSpPr>
          <p:cNvPr id="269" name="TextBox 9"/>
          <p:cNvSpPr/>
          <p:nvPr/>
        </p:nvSpPr>
        <p:spPr>
          <a:xfrm>
            <a:off x="1979640" y="5394240"/>
            <a:ext cx="3887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haming</a:t>
            </a:r>
            <a:endParaRPr b="0" lang="en-US" sz="1600" spc="-1" strike="noStrike">
              <a:solidFill>
                <a:srgbClr val="000000"/>
              </a:solidFill>
              <a:latin typeface="Arial"/>
            </a:endParaRPr>
          </a:p>
        </p:txBody>
      </p:sp>
      <p:sp>
        <p:nvSpPr>
          <p:cNvPr id="270" name="TextBox 9"/>
          <p:cNvSpPr/>
          <p:nvPr/>
        </p:nvSpPr>
        <p:spPr>
          <a:xfrm>
            <a:off x="5580000" y="4005360"/>
            <a:ext cx="295272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roduct analysis</a:t>
            </a:r>
            <a:endParaRPr b="0" lang="en-US" sz="1600" spc="-1" strike="noStrike">
              <a:solidFill>
                <a:srgbClr val="000000"/>
              </a:solidFill>
              <a:latin typeface="Arial"/>
            </a:endParaRPr>
          </a:p>
        </p:txBody>
      </p:sp>
      <p:sp>
        <p:nvSpPr>
          <p:cNvPr id="271" name="TextBox 9"/>
          <p:cNvSpPr/>
          <p:nvPr/>
        </p:nvSpPr>
        <p:spPr>
          <a:xfrm>
            <a:off x="1763640" y="2924280"/>
            <a:ext cx="388800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oundtable with industry</a:t>
            </a:r>
            <a:endParaRPr b="0" lang="en-US" sz="1600" spc="-1" strike="noStrike">
              <a:solidFill>
                <a:srgbClr val="000000"/>
              </a:solidFill>
              <a:latin typeface="Arial"/>
            </a:endParaRPr>
          </a:p>
        </p:txBody>
      </p:sp>
      <p:sp>
        <p:nvSpPr>
          <p:cNvPr id="272" name="TextBox 9"/>
          <p:cNvSpPr/>
          <p:nvPr/>
        </p:nvSpPr>
        <p:spPr>
          <a:xfrm>
            <a:off x="3924360" y="3284640"/>
            <a:ext cx="3887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Conversation with executives</a:t>
            </a:r>
            <a:endParaRPr b="0" lang="en-US" sz="1600" spc="-1" strike="noStrike">
              <a:solidFill>
                <a:srgbClr val="000000"/>
              </a:solidFill>
              <a:latin typeface="Arial"/>
            </a:endParaRPr>
          </a:p>
        </p:txBody>
      </p:sp>
      <p:sp>
        <p:nvSpPr>
          <p:cNvPr id="273" name="TextBox 9"/>
          <p:cNvSpPr/>
          <p:nvPr/>
        </p:nvSpPr>
        <p:spPr>
          <a:xfrm>
            <a:off x="1042920" y="3645000"/>
            <a:ext cx="38894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aming</a:t>
            </a:r>
            <a:endParaRPr b="0" lang="en-US" sz="1600" spc="-1" strike="noStrike">
              <a:solidFill>
                <a:srgbClr val="000000"/>
              </a:solidFill>
              <a:latin typeface="Arial"/>
            </a:endParaRPr>
          </a:p>
        </p:txBody>
      </p:sp>
      <p:sp>
        <p:nvSpPr>
          <p:cNvPr id="274" name="TextBox 25"/>
          <p:cNvSpPr/>
          <p:nvPr/>
        </p:nvSpPr>
        <p:spPr>
          <a:xfrm>
            <a:off x="5003640" y="2637000"/>
            <a:ext cx="3889440" cy="580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Conversation with non executive directors</a:t>
            </a:r>
            <a:endParaRPr b="0" lang="en-US" sz="1600" spc="-1" strike="noStrike">
              <a:solidFill>
                <a:srgbClr val="000000"/>
              </a:solidFill>
              <a:latin typeface="Arial"/>
            </a:endParaRPr>
          </a:p>
        </p:txBody>
      </p:sp>
      <p:sp>
        <p:nvSpPr>
          <p:cNvPr id="275" name="TextBox 26"/>
          <p:cNvSpPr/>
          <p:nvPr/>
        </p:nvSpPr>
        <p:spPr>
          <a:xfrm>
            <a:off x="2987640" y="5826240"/>
            <a:ext cx="540072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ctivating industry associations</a:t>
            </a:r>
            <a:endParaRPr b="0" lang="en-US" sz="1600" spc="-1" strike="noStrike">
              <a:solidFill>
                <a:srgbClr val="000000"/>
              </a:solidFill>
              <a:latin typeface="Arial"/>
            </a:endParaRPr>
          </a:p>
        </p:txBody>
      </p:sp>
      <p:sp>
        <p:nvSpPr>
          <p:cNvPr id="276" name="TextBox 27"/>
          <p:cNvSpPr/>
          <p:nvPr/>
        </p:nvSpPr>
        <p:spPr>
          <a:xfrm>
            <a:off x="1332000" y="4076640"/>
            <a:ext cx="4103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upporting self correcting mechanisms</a:t>
            </a:r>
            <a:endParaRPr b="0" lang="en-US" sz="1600" spc="-1" strike="noStrike">
              <a:solidFill>
                <a:srgbClr val="000000"/>
              </a:solidFill>
              <a:latin typeface="Arial"/>
            </a:endParaRPr>
          </a:p>
        </p:txBody>
      </p:sp>
      <p:sp>
        <p:nvSpPr>
          <p:cNvPr id="277" name="TextBox 28"/>
          <p:cNvSpPr/>
          <p:nvPr/>
        </p:nvSpPr>
        <p:spPr>
          <a:xfrm>
            <a:off x="5256360" y="4941720"/>
            <a:ext cx="388764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arning consumers</a:t>
            </a:r>
            <a:endParaRPr b="0" lang="en-US" sz="1600" spc="-1" strike="noStrike">
              <a:solidFill>
                <a:srgbClr val="000000"/>
              </a:solidFill>
              <a:latin typeface="Arial"/>
            </a:endParaRPr>
          </a:p>
        </p:txBody>
      </p:sp>
      <p:sp>
        <p:nvSpPr>
          <p:cNvPr id="278" name="TextBox 9"/>
          <p:cNvSpPr/>
          <p:nvPr/>
        </p:nvSpPr>
        <p:spPr>
          <a:xfrm>
            <a:off x="4859280" y="3645000"/>
            <a:ext cx="2772000" cy="33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it and proper testing</a:t>
            </a:r>
            <a:endParaRPr b="0" lang="en-US" sz="1600" spc="-1" strike="noStrike">
              <a:solidFill>
                <a:srgbClr val="000000"/>
              </a:solidFill>
              <a:latin typeface="Arial"/>
            </a:endParaRPr>
          </a:p>
        </p:txBody>
      </p:sp>
      <p:sp>
        <p:nvSpPr>
          <p:cNvPr id="279" name="TextBox 9"/>
          <p:cNvSpPr/>
          <p:nvPr/>
        </p:nvSpPr>
        <p:spPr>
          <a:xfrm>
            <a:off x="3492360" y="5229360"/>
            <a:ext cx="4248360" cy="580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luecing third parties, e.g. consultants and software developers</a:t>
            </a:r>
            <a:endParaRPr b="0" lang="en-US" sz="1600" spc="-1" strike="noStrike">
              <a:solidFill>
                <a:srgbClr val="000000"/>
              </a:solidFill>
              <a:latin typeface="Arial"/>
            </a:endParaRPr>
          </a:p>
        </p:txBody>
      </p:sp>
      <p:sp>
        <p:nvSpPr>
          <p:cNvPr id="280" name="Ovale toelichting 23"/>
          <p:cNvSpPr/>
          <p:nvPr/>
        </p:nvSpPr>
        <p:spPr>
          <a:xfrm>
            <a:off x="3160800" y="765000"/>
            <a:ext cx="4795920" cy="2808360"/>
          </a:xfrm>
          <a:prstGeom prst="wedgeEllipseCallout">
            <a:avLst>
              <a:gd name="adj1" fmla="val -16490"/>
              <a:gd name="adj2" fmla="val 68314"/>
            </a:avLst>
          </a:prstGeom>
          <a:solidFill>
            <a:srgbClr val="8064a2"/>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ease have a look at the G20/OECD Task Force on Financial Consumer Protection report, that contains a wide range of ‘effective approa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50920" y="1196640"/>
            <a:ext cx="8501040" cy="5143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Pagina </a:t>
            </a:r>
            <a:fld id="{5C8B5A69-F1B6-475A-B7AB-B6BDD63727B8}" type="slidenum">
              <a:rPr b="0" lang="nl-NL" sz="900" spc="-1" strike="noStrike">
                <a:solidFill>
                  <a:srgbClr val="000000"/>
                </a:solidFill>
                <a:latin typeface="Calibri"/>
              </a:rPr>
              <a:t>&lt;number&gt;</a:t>
            </a:fld>
            <a:endParaRPr b="0" lang="en-US" sz="900" spc="-1" strike="noStrike">
              <a:solidFill>
                <a:srgbClr val="000000"/>
              </a:solidFill>
              <a:latin typeface="Arial"/>
            </a:endParaRPr>
          </a:p>
        </p:txBody>
      </p:sp>
      <p:sp>
        <p:nvSpPr>
          <p:cNvPr id="108" name="Footer Placeholder 7"/>
          <p:cNvSpPr/>
          <p:nvPr/>
        </p:nvSpPr>
        <p:spPr>
          <a:xfrm>
            <a:off x="6072120" y="6500880"/>
            <a:ext cx="3252960" cy="357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1119240" y="2349360"/>
            <a:ext cx="7989840" cy="792360"/>
          </a:xfrm>
          <a:prstGeom prst="rect">
            <a:avLst/>
          </a:prstGeom>
          <a:noFill/>
          <a:ln w="0">
            <a:noFill/>
          </a:ln>
        </p:spPr>
        <p:style>
          <a:lnRef idx="0"/>
          <a:fillRef idx="0"/>
          <a:effectRef idx="0"/>
          <a:fontRef idx="minor"/>
        </p:style>
        <p:txBody>
          <a:bodyPr lIns="90000" rIns="90000" tIns="46800" bIns="46800" anchor="t">
            <a:normAutofit/>
          </a:bodyPr>
          <a:p>
            <a:pPr>
              <a:lnSpc>
                <a:spcPts val="4799"/>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In which:</a:t>
            </a:r>
            <a:endParaRPr b="0" lang="en-US" sz="2400" spc="-1" strike="noStrike">
              <a:solidFill>
                <a:srgbClr val="000000"/>
              </a:solidFill>
              <a:latin typeface="Arial"/>
            </a:endParaRPr>
          </a:p>
        </p:txBody>
      </p:sp>
      <p:sp>
        <p:nvSpPr>
          <p:cNvPr id="110" name="Rectangle 3"/>
          <p:cNvSpPr/>
          <p:nvPr/>
        </p:nvSpPr>
        <p:spPr>
          <a:xfrm>
            <a:off x="1692360" y="3213000"/>
            <a:ext cx="7989840" cy="792360"/>
          </a:xfrm>
          <a:prstGeom prst="rect">
            <a:avLst/>
          </a:prstGeom>
          <a:noFill/>
          <a:ln w="0">
            <a:noFill/>
          </a:ln>
        </p:spPr>
        <p:style>
          <a:lnRef idx="0"/>
          <a:fillRef idx="0"/>
          <a:effectRef idx="0"/>
          <a:fontRef idx="minor"/>
        </p:style>
        <p:txBody>
          <a:bodyPr lIns="90000" rIns="90000" tIns="46800" bIns="46800" anchor="t">
            <a:normAutofit/>
          </a:bodyPr>
          <a:p>
            <a:pPr>
              <a:lnSpc>
                <a:spcPts val="4799"/>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Problem  ≠  Violation of regulations</a:t>
            </a:r>
            <a:endParaRPr b="0" lang="en-US" sz="2400" spc="-1" strike="noStrike">
              <a:solidFill>
                <a:srgbClr val="000000"/>
              </a:solidFill>
              <a:latin typeface="Arial"/>
            </a:endParaRPr>
          </a:p>
          <a:p>
            <a:pPr lvl="2" marL="1143000" indent="-228600">
              <a:lnSpc>
                <a:spcPts val="1998"/>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3"/>
          <p:cNvSpPr/>
          <p:nvPr/>
        </p:nvSpPr>
        <p:spPr>
          <a:xfrm>
            <a:off x="1692360" y="3933720"/>
            <a:ext cx="7989840" cy="790560"/>
          </a:xfrm>
          <a:prstGeom prst="rect">
            <a:avLst/>
          </a:prstGeom>
          <a:noFill/>
          <a:ln w="0">
            <a:noFill/>
          </a:ln>
        </p:spPr>
        <p:style>
          <a:lnRef idx="0"/>
          <a:fillRef idx="0"/>
          <a:effectRef idx="0"/>
          <a:fontRef idx="minor"/>
        </p:style>
        <p:txBody>
          <a:bodyPr lIns="90000" rIns="90000" tIns="46800" bIns="46800" anchor="t">
            <a:normAutofit/>
          </a:bodyPr>
          <a:p>
            <a:pPr>
              <a:lnSpc>
                <a:spcPts val="4799"/>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Solving problems  =  changing behavior sustainably</a:t>
            </a:r>
            <a:endParaRPr b="0" lang="en-US" sz="2400" spc="-1" strike="noStrike">
              <a:solidFill>
                <a:srgbClr val="000000"/>
              </a:solidFill>
              <a:latin typeface="Arial"/>
            </a:endParaRPr>
          </a:p>
          <a:p>
            <a:pPr>
              <a:lnSpc>
                <a:spcPts val="4799"/>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ts val="1998"/>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2" name="Group 13"/>
          <p:cNvGrpSpPr/>
          <p:nvPr/>
        </p:nvGrpSpPr>
        <p:grpSpPr>
          <a:xfrm>
            <a:off x="1042920" y="3357720"/>
            <a:ext cx="8642520" cy="2087280"/>
            <a:chOff x="1042920" y="3357720"/>
            <a:chExt cx="8642520" cy="2087280"/>
          </a:xfrm>
        </p:grpSpPr>
        <p:sp>
          <p:nvSpPr>
            <p:cNvPr id="113" name="Rectangle 3"/>
            <p:cNvSpPr/>
            <p:nvPr/>
          </p:nvSpPr>
          <p:spPr>
            <a:xfrm>
              <a:off x="1693800" y="4653000"/>
              <a:ext cx="7991640" cy="792000"/>
            </a:xfrm>
            <a:prstGeom prst="rect">
              <a:avLst/>
            </a:prstGeom>
            <a:noFill/>
            <a:ln w="0">
              <a:noFill/>
            </a:ln>
          </p:spPr>
          <p:style>
            <a:lnRef idx="0"/>
            <a:fillRef idx="0"/>
            <a:effectRef idx="0"/>
            <a:fontRef idx="minor"/>
          </p:style>
          <p:txBody>
            <a:bodyPr lIns="90000" rIns="90000" tIns="46800" bIns="46800" anchor="t">
              <a:normAutofit/>
            </a:bodyPr>
            <a:p>
              <a:pPr>
                <a:lnSpc>
                  <a:spcPts val="4799"/>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hanging behavior sustainably ≠ enforcing</a:t>
              </a:r>
              <a:r>
                <a:rPr b="1" lang="nl-NL" sz="2400" spc="-1" strike="noStrike">
                  <a:solidFill>
                    <a:srgbClr val="000000"/>
                  </a:solidFill>
                  <a:latin typeface="Arial"/>
                </a:rPr>
                <a:t> </a:t>
              </a:r>
              <a:r>
                <a:rPr b="1" lang="nl-NL" sz="2400" spc="-1" strike="noStrike">
                  <a:solidFill>
                    <a:srgbClr val="000000"/>
                  </a:solidFill>
                  <a:latin typeface="Calibri"/>
                </a:rPr>
                <a:t> </a:t>
              </a:r>
              <a:endParaRPr b="0" lang="en-US" sz="2400" spc="-1" strike="noStrike">
                <a:solidFill>
                  <a:srgbClr val="000000"/>
                </a:solidFill>
                <a:latin typeface="Arial"/>
              </a:endParaRPr>
            </a:p>
            <a:p>
              <a:pPr>
                <a:lnSpc>
                  <a:spcPts val="4799"/>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ts val="1998"/>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Left Brace 12"/>
            <p:cNvSpPr/>
            <p:nvPr/>
          </p:nvSpPr>
          <p:spPr>
            <a:xfrm>
              <a:off x="1042920" y="3357720"/>
              <a:ext cx="720720" cy="1942920"/>
            </a:xfrm>
            <a:custGeom>
              <a:avLst/>
              <a:gdLst>
                <a:gd name="textAreaLeft" fmla="*/ 460440 w 720720"/>
                <a:gd name="textAreaRight" fmla="*/ 721080 w 720720"/>
                <a:gd name="textAreaTop" fmla="*/ 18720 h 1942920"/>
                <a:gd name="textAreaBottom" fmla="*/ 1924200 h 1942920"/>
              </a:gdLst>
              <a:ahLst/>
              <a:rect l="textAreaLeft" t="textAreaTop" r="textAreaRight" b="textAreaBottom"/>
              <a:pathLst>
                <a:path w="21600" h="21600">
                  <a:moveTo>
                    <a:pt x="21600" y="0"/>
                  </a:moveTo>
                  <a:cubicBezTo>
                    <a:pt x="16200" y="0"/>
                    <a:pt x="10800" y="334"/>
                    <a:pt x="10800" y="667"/>
                  </a:cubicBezTo>
                  <a:lnTo>
                    <a:pt x="10800" y="10133"/>
                  </a:lnTo>
                  <a:cubicBezTo>
                    <a:pt x="10800" y="10467"/>
                    <a:pt x="5400" y="10800"/>
                    <a:pt x="0" y="10800"/>
                  </a:cubicBezTo>
                  <a:cubicBezTo>
                    <a:pt x="5400" y="10800"/>
                    <a:pt x="10800" y="11134"/>
                    <a:pt x="10800" y="11467"/>
                  </a:cubicBezTo>
                  <a:lnTo>
                    <a:pt x="10800" y="20933"/>
                  </a:lnTo>
                  <a:cubicBezTo>
                    <a:pt x="10800" y="21267"/>
                    <a:pt x="16200" y="21600"/>
                    <a:pt x="21600" y="21600"/>
                  </a:cubicBezTo>
                </a:path>
              </a:pathLst>
            </a:custGeom>
            <a:noFill/>
            <a:ln w="9360">
              <a:solidFill>
                <a:srgbClr val="4f81bd"/>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15"/>
          <p:cNvGrpSpPr/>
          <p:nvPr/>
        </p:nvGrpSpPr>
        <p:grpSpPr>
          <a:xfrm>
            <a:off x="1054080" y="1197000"/>
            <a:ext cx="7607160" cy="1008000"/>
            <a:chOff x="1054080" y="1197000"/>
            <a:chExt cx="7607160" cy="1008000"/>
          </a:xfrm>
        </p:grpSpPr>
        <p:sp>
          <p:nvSpPr>
            <p:cNvPr id="116" name="Rectangle 3"/>
            <p:cNvSpPr/>
            <p:nvPr/>
          </p:nvSpPr>
          <p:spPr>
            <a:xfrm>
              <a:off x="1260360" y="1341360"/>
              <a:ext cx="7400880" cy="792360"/>
            </a:xfrm>
            <a:prstGeom prst="rect">
              <a:avLst/>
            </a:prstGeom>
            <a:noFill/>
            <a:ln w="0">
              <a:noFill/>
            </a:ln>
          </p:spPr>
          <p:style>
            <a:lnRef idx="0"/>
            <a:fillRef idx="0"/>
            <a:effectRef idx="0"/>
            <a:fontRef idx="minor"/>
          </p:style>
          <p:txBody>
            <a:bodyPr lIns="90000" rIns="90000" tIns="46800" bIns="46800" anchor="t">
              <a:normAutofit/>
            </a:bodyPr>
            <a:p>
              <a:pPr>
                <a:lnSpc>
                  <a:spcPts val="4799"/>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SUPERVISING  =  SOLVING PROBLEMS</a:t>
              </a:r>
              <a:endParaRPr b="0" lang="en-US" sz="2800" spc="-1" strike="noStrike">
                <a:solidFill>
                  <a:srgbClr val="000000"/>
                </a:solidFill>
                <a:latin typeface="Arial"/>
              </a:endParaRPr>
            </a:p>
          </p:txBody>
        </p:sp>
        <p:sp>
          <p:nvSpPr>
            <p:cNvPr id="117" name="Rectangle 14"/>
            <p:cNvSpPr/>
            <p:nvPr/>
          </p:nvSpPr>
          <p:spPr>
            <a:xfrm>
              <a:off x="1054080" y="1197000"/>
              <a:ext cx="7478640" cy="1008000"/>
            </a:xfrm>
            <a:prstGeom prst="rect">
              <a:avLst/>
            </a:prstGeom>
            <a:noFill/>
            <a:ln w="11520">
              <a:solidFill>
                <a:srgbClr val="385d8a"/>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Titel 1"/>
          <p:cNvSpPr/>
          <p:nvPr/>
        </p:nvSpPr>
        <p:spPr>
          <a:xfrm>
            <a:off x="755640" y="333360"/>
            <a:ext cx="7772400" cy="1143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The AFM’s strategic eq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74600" y="2151000"/>
            <a:ext cx="8501040" cy="1206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200" spc="-1" strike="noStrike">
                <a:solidFill>
                  <a:srgbClr val="000000"/>
                </a:solidFill>
                <a:latin typeface="Calibri"/>
              </a:rPr>
              <a:t>SUPERVISING = SOLVING PROBLEMS</a:t>
            </a:r>
            <a:endParaRPr b="0" lang="en-US" sz="3200" spc="-1" strike="noStrike">
              <a:solidFill>
                <a:srgbClr val="000000"/>
              </a:solidFill>
              <a:latin typeface="Calibri"/>
            </a:endParaRPr>
          </a:p>
        </p:txBody>
      </p:sp>
      <p:sp>
        <p:nvSpPr>
          <p:cNvPr id="1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Pagina </a:t>
            </a:r>
            <a:fld id="{8828B426-99FC-41A8-912E-4A1450B717A3}" type="slidenum">
              <a:rPr b="0" lang="nl-NL" sz="900" spc="-1" strike="noStrike">
                <a:solidFill>
                  <a:srgbClr val="000000"/>
                </a:solidFill>
                <a:latin typeface="Calibri"/>
              </a:rPr>
              <a:t>&lt;number&gt;</a:t>
            </a:fld>
            <a:endParaRPr b="0" lang="en-US" sz="900" spc="-1" strike="noStrike">
              <a:solidFill>
                <a:srgbClr val="000000"/>
              </a:solidFill>
              <a:latin typeface="Arial"/>
            </a:endParaRPr>
          </a:p>
        </p:txBody>
      </p:sp>
      <p:sp>
        <p:nvSpPr>
          <p:cNvPr id="121" name="Footer Placeholder 7"/>
          <p:cNvSpPr/>
          <p:nvPr/>
        </p:nvSpPr>
        <p:spPr>
          <a:xfrm>
            <a:off x="6072120" y="6500880"/>
            <a:ext cx="3252960" cy="357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Pagina </a:t>
            </a:r>
            <a:fld id="{D36DBACB-CAF0-402A-8600-CB11B8EC470D}" type="slidenum">
              <a:rPr b="0" lang="nl-NL" sz="900" spc="-1" strike="noStrike">
                <a:solidFill>
                  <a:srgbClr val="000000"/>
                </a:solidFill>
                <a:latin typeface="Calibri"/>
              </a:rPr>
              <a:t>&lt;number&gt;</a:t>
            </a:fld>
            <a:endParaRPr b="0" lang="en-US" sz="900" spc="-1" strike="noStrike">
              <a:solidFill>
                <a:srgbClr val="000000"/>
              </a:solidFill>
              <a:latin typeface="Arial"/>
            </a:endParaRPr>
          </a:p>
        </p:txBody>
      </p:sp>
      <p:sp>
        <p:nvSpPr>
          <p:cNvPr id="123" name="Footer Placeholder 7"/>
          <p:cNvSpPr/>
          <p:nvPr/>
        </p:nvSpPr>
        <p:spPr>
          <a:xfrm>
            <a:off x="6072120" y="6500880"/>
            <a:ext cx="3252960" cy="357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itel 1"/>
          <p:cNvSpPr/>
          <p:nvPr/>
        </p:nvSpPr>
        <p:spPr>
          <a:xfrm>
            <a:off x="755640" y="333360"/>
            <a:ext cx="7772400" cy="1143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Problem oriented supervision in a nutshell</a:t>
            </a:r>
            <a:endParaRPr b="0" lang="en-US" sz="2400" spc="-1" strike="noStrike">
              <a:solidFill>
                <a:srgbClr val="000000"/>
              </a:solidFill>
              <a:latin typeface="Arial"/>
            </a:endParaRPr>
          </a:p>
        </p:txBody>
      </p:sp>
      <p:pic>
        <p:nvPicPr>
          <p:cNvPr id="125" name="Diagram 7" descr=""/>
          <p:cNvPicPr/>
          <p:nvPr/>
        </p:nvPicPr>
        <p:blipFill>
          <a:blip r:embed="rId1"/>
          <a:stretch/>
        </p:blipFill>
        <p:spPr>
          <a:xfrm>
            <a:off x="971640" y="1484280"/>
            <a:ext cx="7200720" cy="4681440"/>
          </a:xfrm>
          <a:prstGeom prst="rect">
            <a:avLst/>
          </a:prstGeom>
          <a:ln w="0">
            <a:noFill/>
          </a:ln>
        </p:spPr>
      </p:pic>
      <p:sp>
        <p:nvSpPr>
          <p:cNvPr id="126" name="Tekstvak 1"/>
          <p:cNvSpPr/>
          <p:nvPr/>
        </p:nvSpPr>
        <p:spPr>
          <a:xfrm>
            <a:off x="1116000" y="3357720"/>
            <a:ext cx="1440000" cy="916920"/>
          </a:xfrm>
          <a:prstGeom prst="rect">
            <a:avLst/>
          </a:prstGeom>
          <a:solidFill>
            <a:srgbClr val="c050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ing and qualifying</a:t>
            </a:r>
            <a:endParaRPr b="0" lang="en-US" sz="1800" spc="-1" strike="noStrike">
              <a:solidFill>
                <a:srgbClr val="000000"/>
              </a:solidFill>
              <a:latin typeface="Arial"/>
            </a:endParaRPr>
          </a:p>
        </p:txBody>
      </p:sp>
      <p:sp>
        <p:nvSpPr>
          <p:cNvPr id="127" name="Tekstvak 6"/>
          <p:cNvSpPr/>
          <p:nvPr/>
        </p:nvSpPr>
        <p:spPr>
          <a:xfrm>
            <a:off x="2987640" y="3611520"/>
            <a:ext cx="1440000" cy="368280"/>
          </a:xfrm>
          <a:prstGeom prst="rect">
            <a:avLst/>
          </a:prstGeom>
          <a:solidFill>
            <a:srgbClr val="c050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izing</a:t>
            </a:r>
            <a:endParaRPr b="0" lang="en-US" sz="1800" spc="-1" strike="noStrike">
              <a:solidFill>
                <a:srgbClr val="000000"/>
              </a:solidFill>
              <a:latin typeface="Arial"/>
            </a:endParaRPr>
          </a:p>
        </p:txBody>
      </p:sp>
      <p:sp>
        <p:nvSpPr>
          <p:cNvPr id="128" name="Tekstvak 7"/>
          <p:cNvSpPr/>
          <p:nvPr/>
        </p:nvSpPr>
        <p:spPr>
          <a:xfrm>
            <a:off x="4759200" y="3635280"/>
            <a:ext cx="1440000" cy="368280"/>
          </a:xfrm>
          <a:prstGeom prst="rect">
            <a:avLst/>
          </a:prstGeom>
          <a:solidFill>
            <a:srgbClr val="c050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vening</a:t>
            </a:r>
            <a:endParaRPr b="0" lang="en-US" sz="1800" spc="-1" strike="noStrike">
              <a:solidFill>
                <a:srgbClr val="000000"/>
              </a:solidFill>
              <a:latin typeface="Arial"/>
            </a:endParaRPr>
          </a:p>
        </p:txBody>
      </p:sp>
      <p:sp>
        <p:nvSpPr>
          <p:cNvPr id="129" name="Tekstvak 8"/>
          <p:cNvSpPr/>
          <p:nvPr/>
        </p:nvSpPr>
        <p:spPr>
          <a:xfrm>
            <a:off x="6588000" y="3502080"/>
            <a:ext cx="136872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ing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Pagina </a:t>
            </a:r>
            <a:fld id="{CFA5C399-BA11-4357-86B1-94C4F1AA111B}" type="slidenum">
              <a:rPr b="0" lang="nl-NL" sz="900" spc="-1" strike="noStrike">
                <a:solidFill>
                  <a:srgbClr val="000000"/>
                </a:solidFill>
                <a:latin typeface="Calibri"/>
              </a:rPr>
              <a:t>&lt;number&gt;</a:t>
            </a:fld>
            <a:endParaRPr b="0" lang="en-US" sz="900" spc="-1" strike="noStrike">
              <a:solidFill>
                <a:srgbClr val="000000"/>
              </a:solidFill>
              <a:latin typeface="Arial"/>
            </a:endParaRPr>
          </a:p>
        </p:txBody>
      </p:sp>
      <p:sp>
        <p:nvSpPr>
          <p:cNvPr id="131" name="Footer Placeholder 7"/>
          <p:cNvSpPr/>
          <p:nvPr/>
        </p:nvSpPr>
        <p:spPr>
          <a:xfrm>
            <a:off x="6072120" y="6500880"/>
            <a:ext cx="3252960" cy="357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itel 1"/>
          <p:cNvSpPr/>
          <p:nvPr/>
        </p:nvSpPr>
        <p:spPr>
          <a:xfrm>
            <a:off x="755640" y="333360"/>
            <a:ext cx="7772400" cy="1143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Problem oriented supervision in a nutshell</a:t>
            </a:r>
            <a:endParaRPr b="0" lang="en-US" sz="2400" spc="-1" strike="noStrike">
              <a:solidFill>
                <a:srgbClr val="000000"/>
              </a:solidFill>
              <a:latin typeface="Arial"/>
            </a:endParaRPr>
          </a:p>
        </p:txBody>
      </p:sp>
      <p:pic>
        <p:nvPicPr>
          <p:cNvPr id="133" name="Diagram 7" descr=""/>
          <p:cNvPicPr/>
          <p:nvPr/>
        </p:nvPicPr>
        <p:blipFill>
          <a:blip r:embed="rId1"/>
          <a:stretch/>
        </p:blipFill>
        <p:spPr>
          <a:xfrm>
            <a:off x="971640" y="1484280"/>
            <a:ext cx="7200720" cy="4681440"/>
          </a:xfrm>
          <a:prstGeom prst="rect">
            <a:avLst/>
          </a:prstGeom>
          <a:ln w="0">
            <a:noFill/>
          </a:ln>
        </p:spPr>
      </p:pic>
      <p:sp>
        <p:nvSpPr>
          <p:cNvPr id="134" name="Toelichting met afgeronde rechthoek 1"/>
          <p:cNvSpPr/>
          <p:nvPr/>
        </p:nvSpPr>
        <p:spPr>
          <a:xfrm>
            <a:off x="2050920" y="1413000"/>
            <a:ext cx="2089440" cy="1368360"/>
          </a:xfrm>
          <a:prstGeom prst="wedgeRoundRectCallout">
            <a:avLst>
              <a:gd name="adj1" fmla="val -42050"/>
              <a:gd name="adj2" fmla="val 83384"/>
              <a:gd name="adj3" fmla="val 16667"/>
            </a:avLst>
          </a:prstGeom>
          <a:solidFill>
            <a:srgbClr val="ffffff"/>
          </a:solidFill>
          <a:ln w="1152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ick </a:t>
            </a:r>
            <a:endParaRPr b="0" lang="en-US" sz="1800" spc="-1" strike="noStrike">
              <a:solidFill>
                <a:srgbClr val="000000"/>
              </a:solidFill>
              <a:latin typeface="Arial"/>
            </a:endParaRPr>
          </a:p>
        </p:txBody>
      </p:sp>
      <p:sp>
        <p:nvSpPr>
          <p:cNvPr id="135" name="Toelichting met afgeronde rechthoek 6"/>
          <p:cNvSpPr/>
          <p:nvPr/>
        </p:nvSpPr>
        <p:spPr>
          <a:xfrm>
            <a:off x="2050920" y="1413000"/>
            <a:ext cx="2089440" cy="1368360"/>
          </a:xfrm>
          <a:prstGeom prst="wedgeRoundRectCallout">
            <a:avLst>
              <a:gd name="adj1" fmla="val 33208"/>
              <a:gd name="adj2" fmla="val 86865"/>
              <a:gd name="adj3"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k important problems, …</a:t>
            </a:r>
            <a:endParaRPr b="0" lang="en-US" sz="1800" spc="-1" strike="noStrike">
              <a:solidFill>
                <a:srgbClr val="000000"/>
              </a:solidFill>
              <a:latin typeface="Arial"/>
            </a:endParaRPr>
          </a:p>
        </p:txBody>
      </p:sp>
      <p:sp>
        <p:nvSpPr>
          <p:cNvPr id="136" name="Toelichting met afgeronde rechthoek 8"/>
          <p:cNvSpPr/>
          <p:nvPr/>
        </p:nvSpPr>
        <p:spPr>
          <a:xfrm>
            <a:off x="4572000" y="1413000"/>
            <a:ext cx="1871640" cy="1368360"/>
          </a:xfrm>
          <a:prstGeom prst="wedgeRoundRectCallout">
            <a:avLst>
              <a:gd name="adj1" fmla="val -4652"/>
              <a:gd name="adj2" fmla="val 86865"/>
              <a:gd name="adj3"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ve them…</a:t>
            </a:r>
            <a:endParaRPr b="0" lang="en-US" sz="1800" spc="-1" strike="noStrike">
              <a:solidFill>
                <a:srgbClr val="000000"/>
              </a:solidFill>
              <a:latin typeface="Arial"/>
            </a:endParaRPr>
          </a:p>
        </p:txBody>
      </p:sp>
      <p:sp>
        <p:nvSpPr>
          <p:cNvPr id="137" name="Toelichting met afgeronde rechthoek 9"/>
          <p:cNvSpPr/>
          <p:nvPr/>
        </p:nvSpPr>
        <p:spPr>
          <a:xfrm>
            <a:off x="6804000" y="1413000"/>
            <a:ext cx="1871640" cy="1368360"/>
          </a:xfrm>
          <a:prstGeom prst="wedgeRoundRectCallout">
            <a:avLst>
              <a:gd name="adj1" fmla="val -21949"/>
              <a:gd name="adj2" fmla="val 90347"/>
              <a:gd name="adj3"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tell everybody about it!</a:t>
            </a:r>
            <a:endParaRPr b="0" lang="en-US" sz="1800" spc="-1" strike="noStrike">
              <a:solidFill>
                <a:srgbClr val="000000"/>
              </a:solidFill>
              <a:latin typeface="Arial"/>
            </a:endParaRPr>
          </a:p>
        </p:txBody>
      </p:sp>
      <p:sp>
        <p:nvSpPr>
          <p:cNvPr id="138" name="Tekstvak 10"/>
          <p:cNvSpPr/>
          <p:nvPr/>
        </p:nvSpPr>
        <p:spPr>
          <a:xfrm>
            <a:off x="1116000" y="3357720"/>
            <a:ext cx="1440000" cy="916920"/>
          </a:xfrm>
          <a:prstGeom prst="rect">
            <a:avLst/>
          </a:prstGeom>
          <a:solidFill>
            <a:srgbClr val="c050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ing and qualifying</a:t>
            </a:r>
            <a:endParaRPr b="0" lang="en-US" sz="1800" spc="-1" strike="noStrike">
              <a:solidFill>
                <a:srgbClr val="000000"/>
              </a:solidFill>
              <a:latin typeface="Arial"/>
            </a:endParaRPr>
          </a:p>
        </p:txBody>
      </p:sp>
      <p:sp>
        <p:nvSpPr>
          <p:cNvPr id="139" name="Tekstvak 11"/>
          <p:cNvSpPr/>
          <p:nvPr/>
        </p:nvSpPr>
        <p:spPr>
          <a:xfrm>
            <a:off x="2987640" y="3611520"/>
            <a:ext cx="1440000" cy="368280"/>
          </a:xfrm>
          <a:prstGeom prst="rect">
            <a:avLst/>
          </a:prstGeom>
          <a:solidFill>
            <a:srgbClr val="c050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izing</a:t>
            </a:r>
            <a:endParaRPr b="0" lang="en-US" sz="1800" spc="-1" strike="noStrike">
              <a:solidFill>
                <a:srgbClr val="000000"/>
              </a:solidFill>
              <a:latin typeface="Arial"/>
            </a:endParaRPr>
          </a:p>
        </p:txBody>
      </p:sp>
      <p:sp>
        <p:nvSpPr>
          <p:cNvPr id="140" name="Tekstvak 12"/>
          <p:cNvSpPr/>
          <p:nvPr/>
        </p:nvSpPr>
        <p:spPr>
          <a:xfrm>
            <a:off x="4759200" y="3635280"/>
            <a:ext cx="1440000" cy="368280"/>
          </a:xfrm>
          <a:prstGeom prst="rect">
            <a:avLst/>
          </a:prstGeom>
          <a:solidFill>
            <a:srgbClr val="c050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vening</a:t>
            </a:r>
            <a:endParaRPr b="0" lang="en-US" sz="1800" spc="-1" strike="noStrike">
              <a:solidFill>
                <a:srgbClr val="000000"/>
              </a:solidFill>
              <a:latin typeface="Arial"/>
            </a:endParaRPr>
          </a:p>
        </p:txBody>
      </p:sp>
      <p:sp>
        <p:nvSpPr>
          <p:cNvPr id="141" name="Tekstvak 13"/>
          <p:cNvSpPr/>
          <p:nvPr/>
        </p:nvSpPr>
        <p:spPr>
          <a:xfrm>
            <a:off x="6588000" y="3502080"/>
            <a:ext cx="136872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ing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3011400" y="2205000"/>
            <a:ext cx="2970360" cy="1959120"/>
          </a:xfrm>
          <a:prstGeom prst="rect">
            <a:avLst/>
          </a:prstGeom>
          <a:ln w="0">
            <a:noFill/>
          </a:ln>
        </p:spPr>
      </p:pic>
      <p:sp>
        <p:nvSpPr>
          <p:cNvPr id="143" name="AutoShape 5"/>
          <p:cNvSpPr/>
          <p:nvPr/>
        </p:nvSpPr>
        <p:spPr>
          <a:xfrm>
            <a:off x="6443640" y="1268280"/>
            <a:ext cx="2227320" cy="1217880"/>
          </a:xfrm>
          <a:prstGeom prst="cloudCallout">
            <a:avLst>
              <a:gd name="adj1" fmla="val -66125"/>
              <a:gd name="adj2" fmla="val 33972"/>
            </a:avLst>
          </a:prstGeom>
          <a:solidFill>
            <a:srgbClr val="4f81bd"/>
          </a:solidFill>
          <a:ln w="12600">
            <a:solidFill>
              <a:srgbClr val="000000"/>
            </a:solidFill>
            <a:miter/>
          </a:ln>
        </p:spPr>
        <p:style>
          <a:lnRef idx="0"/>
          <a:fillRef idx="0"/>
          <a:effectRef idx="0"/>
          <a:fontRef idx="minor"/>
        </p:style>
        <p:txBody>
          <a:bodyPr lIns="90000" rIns="90000" tIns="46800" bIns="46800" anchor="ctr">
            <a:normAutofit/>
          </a:bodyPr>
          <a:p>
            <a:pPr algn="ctr">
              <a:lnSpc>
                <a:spcPct val="97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ea typeface="ＭＳ Ｐゴシック"/>
              </a:rPr>
              <a:t>Why didn’t you see anything?</a:t>
            </a:r>
            <a:endParaRPr b="0" lang="en-US" sz="1600" spc="-1" strike="noStrike">
              <a:solidFill>
                <a:srgbClr val="000000"/>
              </a:solidFill>
              <a:latin typeface="Arial"/>
            </a:endParaRPr>
          </a:p>
        </p:txBody>
      </p:sp>
      <p:sp>
        <p:nvSpPr>
          <p:cNvPr id="144" name="AutoShape 6"/>
          <p:cNvSpPr/>
          <p:nvPr/>
        </p:nvSpPr>
        <p:spPr>
          <a:xfrm>
            <a:off x="287280" y="1333440"/>
            <a:ext cx="2232000" cy="1152720"/>
          </a:xfrm>
          <a:prstGeom prst="cloudCallout">
            <a:avLst>
              <a:gd name="adj1" fmla="val 65398"/>
              <a:gd name="adj2" fmla="val 40787"/>
            </a:avLst>
          </a:prstGeom>
          <a:solidFill>
            <a:srgbClr val="4f81bd"/>
          </a:solidFill>
          <a:ln w="12600">
            <a:solidFill>
              <a:srgbClr val="000000"/>
            </a:solidFill>
            <a:miter/>
          </a:ln>
        </p:spPr>
        <p:style>
          <a:lnRef idx="0"/>
          <a:fillRef idx="0"/>
          <a:effectRef idx="0"/>
          <a:fontRef idx="minor"/>
        </p:style>
        <p:txBody>
          <a:bodyPr lIns="90000" rIns="90000" tIns="46800" bIns="46800" anchor="ctr">
            <a:normAutofit/>
          </a:bodyPr>
          <a:p>
            <a:pPr algn="ctr">
              <a:lnSpc>
                <a:spcPct val="97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ea typeface="ＭＳ Ｐゴシック"/>
              </a:rPr>
              <a:t>Why were you not there?</a:t>
            </a:r>
            <a:endParaRPr b="0" lang="en-US" sz="1600" spc="-1" strike="noStrike">
              <a:solidFill>
                <a:srgbClr val="000000"/>
              </a:solidFill>
              <a:latin typeface="Arial"/>
            </a:endParaRPr>
          </a:p>
        </p:txBody>
      </p:sp>
      <p:sp>
        <p:nvSpPr>
          <p:cNvPr id="145" name="AutoShape 4"/>
          <p:cNvSpPr/>
          <p:nvPr/>
        </p:nvSpPr>
        <p:spPr>
          <a:xfrm>
            <a:off x="2124000" y="4518000"/>
            <a:ext cx="3214800" cy="1279440"/>
          </a:xfrm>
          <a:prstGeom prst="cloudCallout">
            <a:avLst>
              <a:gd name="adj1" fmla="val 24458"/>
              <a:gd name="adj2" fmla="val -71953"/>
            </a:avLst>
          </a:prstGeom>
          <a:solidFill>
            <a:srgbClr val="4f81bd"/>
          </a:solidFill>
          <a:ln w="12600">
            <a:solidFill>
              <a:srgbClr val="000000"/>
            </a:solidFill>
            <a:miter/>
          </a:ln>
        </p:spPr>
        <p:style>
          <a:lnRef idx="0"/>
          <a:fillRef idx="0"/>
          <a:effectRef idx="0"/>
          <a:fontRef idx="minor"/>
        </p:style>
        <p:txBody>
          <a:bodyPr lIns="90000" rIns="90000" tIns="46800" bIns="46800" anchor="ctr">
            <a:normAutofit/>
          </a:bodyPr>
          <a:p>
            <a:pPr algn="ctr">
              <a:lnSpc>
                <a:spcPct val="97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ea typeface="ＭＳ Ｐゴシック"/>
              </a:rPr>
              <a:t>Why didn’t you do anyhing?</a:t>
            </a:r>
            <a:endParaRPr b="0" lang="en-US" sz="1600" spc="-1" strike="noStrike">
              <a:solidFill>
                <a:srgbClr val="000000"/>
              </a:solidFill>
              <a:latin typeface="Arial"/>
            </a:endParaRPr>
          </a:p>
        </p:txBody>
      </p:sp>
      <p:sp>
        <p:nvSpPr>
          <p:cNvPr id="146"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It’s the best way to face the haunting ques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4600" y="2151000"/>
            <a:ext cx="8501040" cy="1206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200" spc="-1" strike="noStrike">
                <a:solidFill>
                  <a:srgbClr val="000000"/>
                </a:solidFill>
                <a:latin typeface="Calibri"/>
              </a:rPr>
              <a:t>PROBLEM ≠ VIOLATION OF REGULATIONS</a:t>
            </a:r>
            <a:endParaRPr b="0" lang="en-US" sz="3200" spc="-1" strike="noStrike">
              <a:solidFill>
                <a:srgbClr val="000000"/>
              </a:solidFill>
              <a:latin typeface="Calibri"/>
            </a:endParaRPr>
          </a:p>
        </p:txBody>
      </p:sp>
      <p:sp>
        <p:nvSpPr>
          <p:cNvPr id="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Pagina </a:t>
            </a:r>
            <a:fld id="{E40D135C-C381-4F70-9972-3D454B5DFF69}" type="slidenum">
              <a:rPr b="0" lang="nl-NL" sz="900" spc="-1" strike="noStrike">
                <a:solidFill>
                  <a:srgbClr val="000000"/>
                </a:solidFill>
                <a:latin typeface="Calibri"/>
              </a:rPr>
              <a:t>&lt;number&gt;</a:t>
            </a:fld>
            <a:endParaRPr b="0" lang="en-US" sz="900" spc="-1" strike="noStrike">
              <a:solidFill>
                <a:srgbClr val="000000"/>
              </a:solidFill>
              <a:latin typeface="Arial"/>
            </a:endParaRPr>
          </a:p>
        </p:txBody>
      </p:sp>
      <p:sp>
        <p:nvSpPr>
          <p:cNvPr id="149" name="Footer Placeholder 7"/>
          <p:cNvSpPr/>
          <p:nvPr/>
        </p:nvSpPr>
        <p:spPr>
          <a:xfrm>
            <a:off x="6072120" y="6500880"/>
            <a:ext cx="3252960" cy="357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Content Placeholder 8" descr=""/>
          <p:cNvPicPr/>
          <p:nvPr/>
        </p:nvPicPr>
        <p:blipFill>
          <a:blip r:embed="rId1"/>
          <a:stretch/>
        </p:blipFill>
        <p:spPr>
          <a:xfrm>
            <a:off x="285840" y="2908440"/>
            <a:ext cx="6230880" cy="3395520"/>
          </a:xfrm>
          <a:prstGeom prst="rect">
            <a:avLst/>
          </a:prstGeom>
          <a:ln w="0">
            <a:noFill/>
          </a:ln>
        </p:spPr>
      </p:pic>
      <p:sp>
        <p:nvSpPr>
          <p:cNvPr id="1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Pagina </a:t>
            </a:r>
            <a:fld id="{9CFC0457-8487-404E-856B-3008DB242804}" type="slidenum">
              <a:rPr b="0" lang="nl-NL" sz="900" spc="-1" strike="noStrike">
                <a:solidFill>
                  <a:srgbClr val="000000"/>
                </a:solidFill>
                <a:latin typeface="Calibri"/>
              </a:rPr>
              <a:t>&lt;number&gt;</a:t>
            </a:fld>
            <a:endParaRPr b="0" lang="en-US" sz="900" spc="-1" strike="noStrike">
              <a:solidFill>
                <a:srgbClr val="000000"/>
              </a:solidFill>
              <a:latin typeface="Arial"/>
            </a:endParaRPr>
          </a:p>
        </p:txBody>
      </p:sp>
      <p:sp>
        <p:nvSpPr>
          <p:cNvPr id="152" name="Footer Placeholder 7"/>
          <p:cNvSpPr/>
          <p:nvPr/>
        </p:nvSpPr>
        <p:spPr>
          <a:xfrm>
            <a:off x="6072120" y="6500880"/>
            <a:ext cx="3252960" cy="357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itel 1"/>
          <p:cNvSpPr/>
          <p:nvPr/>
        </p:nvSpPr>
        <p:spPr>
          <a:xfrm>
            <a:off x="755640" y="414360"/>
            <a:ext cx="777240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hich problems to pick?</a:t>
            </a:r>
            <a:endParaRPr b="0" lang="en-US" sz="2400" spc="-1" strike="noStrike">
              <a:solidFill>
                <a:srgbClr val="000000"/>
              </a:solidFill>
              <a:latin typeface="Arial"/>
            </a:endParaRPr>
          </a:p>
        </p:txBody>
      </p:sp>
      <p:sp>
        <p:nvSpPr>
          <p:cNvPr id="154" name="Rectangle 3"/>
          <p:cNvSpPr/>
          <p:nvPr/>
        </p:nvSpPr>
        <p:spPr>
          <a:xfrm>
            <a:off x="750960" y="1582560"/>
            <a:ext cx="7277040" cy="321480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ts val="1998"/>
              </a:lnSpc>
              <a:spcBef>
                <a:spcPts val="45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ts val="1998"/>
              </a:lnSpc>
              <a:spcBef>
                <a:spcPts val="45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ts val="1998"/>
              </a:lnSpc>
              <a:spcBef>
                <a:spcPts val="4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ts val="1998"/>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ts val="1998"/>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ts val="1998"/>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5" name="Content Placeholder 8" descr=""/>
          <p:cNvPicPr/>
          <p:nvPr/>
        </p:nvPicPr>
        <p:blipFill>
          <a:blip r:embed="rId2"/>
          <a:stretch/>
        </p:blipFill>
        <p:spPr>
          <a:xfrm>
            <a:off x="1547640" y="1109520"/>
            <a:ext cx="6231240" cy="3389400"/>
          </a:xfrm>
          <a:prstGeom prst="rect">
            <a:avLst/>
          </a:prstGeom>
          <a:ln w="0">
            <a:noFill/>
          </a:ln>
        </p:spPr>
      </p:pic>
      <p:pic>
        <p:nvPicPr>
          <p:cNvPr id="156" name="Content Placeholder 8" descr=""/>
          <p:cNvPicPr/>
          <p:nvPr/>
        </p:nvPicPr>
        <p:blipFill>
          <a:blip r:embed="rId3"/>
          <a:stretch/>
        </p:blipFill>
        <p:spPr>
          <a:xfrm>
            <a:off x="2554200" y="2908440"/>
            <a:ext cx="6229440" cy="3395520"/>
          </a:xfrm>
          <a:prstGeom prst="rect">
            <a:avLst/>
          </a:prstGeom>
          <a:ln w="0">
            <a:noFill/>
          </a:ln>
        </p:spPr>
      </p:pic>
      <p:sp>
        <p:nvSpPr>
          <p:cNvPr id="157" name="TextBox 11"/>
          <p:cNvSpPr/>
          <p:nvPr/>
        </p:nvSpPr>
        <p:spPr>
          <a:xfrm>
            <a:off x="3492360" y="3284640"/>
            <a:ext cx="21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1</a:t>
            </a:r>
            <a:endParaRPr b="0" lang="en-US" sz="2400" spc="-1" strike="noStrike">
              <a:solidFill>
                <a:srgbClr val="000000"/>
              </a:solidFill>
              <a:latin typeface="Arial"/>
            </a:endParaRPr>
          </a:p>
        </p:txBody>
      </p:sp>
      <p:sp>
        <p:nvSpPr>
          <p:cNvPr id="158" name="TextBox 12"/>
          <p:cNvSpPr/>
          <p:nvPr/>
        </p:nvSpPr>
        <p:spPr>
          <a:xfrm>
            <a:off x="5219640" y="3255840"/>
            <a:ext cx="21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a:t>
            </a:r>
            <a:endParaRPr b="0" lang="en-US" sz="2400" spc="-1" strike="noStrike">
              <a:solidFill>
                <a:srgbClr val="000000"/>
              </a:solidFill>
              <a:latin typeface="Arial"/>
            </a:endParaRPr>
          </a:p>
        </p:txBody>
      </p:sp>
      <p:sp>
        <p:nvSpPr>
          <p:cNvPr id="159" name="TextBox 13"/>
          <p:cNvSpPr/>
          <p:nvPr/>
        </p:nvSpPr>
        <p:spPr>
          <a:xfrm>
            <a:off x="4427640" y="4724280"/>
            <a:ext cx="21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3</a:t>
            </a:r>
            <a:endParaRPr b="0" lang="en-US" sz="2400" spc="-1" strike="noStrike">
              <a:solidFill>
                <a:srgbClr val="000000"/>
              </a:solidFill>
              <a:latin typeface="Arial"/>
            </a:endParaRPr>
          </a:p>
        </p:txBody>
      </p:sp>
      <p:sp>
        <p:nvSpPr>
          <p:cNvPr id="160" name="TextBox 14"/>
          <p:cNvSpPr/>
          <p:nvPr/>
        </p:nvSpPr>
        <p:spPr>
          <a:xfrm>
            <a:off x="4427640" y="3716280"/>
            <a:ext cx="21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X</a:t>
            </a:r>
            <a:endParaRPr b="0" lang="en-US" sz="2400" spc="-1" strike="noStrike">
              <a:solidFill>
                <a:srgbClr val="000000"/>
              </a:solidFill>
              <a:latin typeface="Arial"/>
            </a:endParaRPr>
          </a:p>
        </p:txBody>
      </p:sp>
      <p:sp>
        <p:nvSpPr>
          <p:cNvPr id="161" name="TextBox 15"/>
          <p:cNvSpPr/>
          <p:nvPr/>
        </p:nvSpPr>
        <p:spPr>
          <a:xfrm>
            <a:off x="3995640" y="2133720"/>
            <a:ext cx="129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hat the rules are saying</a:t>
            </a:r>
            <a:endParaRPr b="0" lang="en-US" sz="1800" spc="-1" strike="noStrike">
              <a:solidFill>
                <a:srgbClr val="000000"/>
              </a:solidFill>
              <a:latin typeface="Arial"/>
            </a:endParaRPr>
          </a:p>
        </p:txBody>
      </p:sp>
      <p:sp>
        <p:nvSpPr>
          <p:cNvPr id="162" name="TextBox 16"/>
          <p:cNvSpPr/>
          <p:nvPr/>
        </p:nvSpPr>
        <p:spPr>
          <a:xfrm>
            <a:off x="2411280" y="4294080"/>
            <a:ext cx="136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hat people are expecting of you</a:t>
            </a:r>
            <a:endParaRPr b="0" lang="en-US" sz="1800" spc="-1" strike="noStrike">
              <a:solidFill>
                <a:srgbClr val="000000"/>
              </a:solidFill>
              <a:latin typeface="Arial"/>
            </a:endParaRPr>
          </a:p>
        </p:txBody>
      </p:sp>
      <p:sp>
        <p:nvSpPr>
          <p:cNvPr id="163" name="TextBox 17"/>
          <p:cNvSpPr/>
          <p:nvPr/>
        </p:nvSpPr>
        <p:spPr>
          <a:xfrm>
            <a:off x="5292720" y="4221000"/>
            <a:ext cx="1511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hat is within your 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07:19:52Z</dcterms:created>
  <dc:creator>lenthe</dc:creator>
  <dc:description/>
  <dc:language>en-US</dc:language>
  <cp:lastModifiedBy>Theodor&amp;Susan</cp:lastModifiedBy>
  <dcterms:modified xsi:type="dcterms:W3CDTF">2014-06-06T21:21:43Z</dcterms:modified>
  <cp:revision>96</cp:revision>
  <dc:subject/>
  <dc:title>Slide 1</dc:title>
</cp:coreProperties>
</file>