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4680" y="749160"/>
            <a:ext cx="498924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888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80240"/>
            <a:ext cx="294624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840" y="9480240"/>
            <a:ext cx="294624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6D0D-C39D-4E19-80BF-100A42CA77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49840" y="9480600"/>
            <a:ext cx="2946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E92C-28D0-414F-8FE3-D8D77762A68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89240" cy="37418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06480" y="4741560"/>
            <a:ext cx="49845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ajd 3 wersja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49840" y="9480600"/>
            <a:ext cx="2946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7EC2-5E3F-4C6C-AA21-0122BC1AB8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89240" cy="374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06480" y="4741560"/>
            <a:ext cx="49845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ajd 3 wersja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49840" y="9480600"/>
            <a:ext cx="2946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F45C-AA9A-4DBF-9FE2-FF7D672F69A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89240" cy="37418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41560"/>
            <a:ext cx="49845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ajd 3 wersja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49840" y="9480600"/>
            <a:ext cx="2946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2C7A-F39C-4FD1-A8DA-57649C61740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89240" cy="37418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06480" y="4741560"/>
            <a:ext cx="49845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ajd 3 wersja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49840" y="9480600"/>
            <a:ext cx="2946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5BFC-B2C9-4EA5-AAA9-4D2D4B610CD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89240" cy="37418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06480" y="4741560"/>
            <a:ext cx="49845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ajd 3 wersja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49840" y="9480600"/>
            <a:ext cx="2946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B371-60CC-4112-BF1D-6A21A5D6B1D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89240" cy="37418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6480" y="4741560"/>
            <a:ext cx="49845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ajd 3 wersja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49840" y="9480600"/>
            <a:ext cx="2946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91CF-B298-428B-933D-4F62D5DD5C4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89240" cy="37418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6480" y="4741560"/>
            <a:ext cx="49845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ajd 3 wersja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49840" y="9480600"/>
            <a:ext cx="2946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84D8-8D19-4ECA-A8F6-193DB6E324D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89240" cy="3741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41560"/>
            <a:ext cx="49845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ajd 3 wersja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49840" y="9480600"/>
            <a:ext cx="2946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7631-41BD-4B9E-96FE-5E5B23FA100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89240" cy="37418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06480" y="4741560"/>
            <a:ext cx="49845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ajd 3 wersja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49840" y="9480600"/>
            <a:ext cx="2946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F256-8AAA-4B5B-852F-E659591F96A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89240" cy="3741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06480" y="4741560"/>
            <a:ext cx="49845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ajd 3 wersja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49840" y="9480600"/>
            <a:ext cx="2946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F453-4318-4464-88EF-C419F325F77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89240" cy="37418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06480" y="4741560"/>
            <a:ext cx="49845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ajd 3 wersja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49840" y="9480600"/>
            <a:ext cx="2946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30C5-C34E-40C3-8E25-11CDB84AF33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89240" cy="374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6480" y="4741560"/>
            <a:ext cx="49845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ajd 3 wersja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405-EE71-481C-80A3-0F346725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208-A1F4-4502-B646-E270B10A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0B82-5C92-42B1-8D42-B9EBBB92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77E-A045-479F-8E65-CB1F0A68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055-927F-441D-A408-40A397D8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E6C-81FF-4169-8E92-F428E3C6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ECD-F28B-4174-B1C6-3BB10D8B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0BB-B7B1-4888-B586-61EBBA2C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732F-8CE5-4FC7-82A0-8095FAFC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27C2-2CCD-41F5-9891-F399CED1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AEDF-AB63-4C29-B3B5-CF59E66E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8998-1944-474F-95DA-2B9CB8A7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031A-55F7-45F7-AD75-3247A8281B8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0" descr="log beztła"/>
          <p:cNvPicPr/>
          <p:nvPr/>
        </p:nvPicPr>
        <p:blipFill>
          <a:blip r:embed="rId2"/>
          <a:stretch/>
        </p:blipFill>
        <p:spPr>
          <a:xfrm>
            <a:off x="179280" y="476280"/>
            <a:ext cx="151308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2276280"/>
            <a:ext cx="784692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gional Conference on Financial Consumer Protection and Financial Literacy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Sofia, 10-11 June 2014 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Session 1: Compliance and supervision: an uphill task for regulators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onsumer protection requirements and supervisory activities - KNF’s model</a:t>
            </a:r>
            <a:br>
              <a:rPr sz="4000"/>
            </a:br>
            <a:br>
              <a:rPr sz="4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ichał Kruszk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Ph.D.</a:t>
            </a:r>
            <a:br>
              <a:rPr sz="2000"/>
            </a:br>
            <a:br>
              <a:rPr sz="20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eputy Director of Analyses and International Cooperation Department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omisja Nadzoru Finansowego – Polish Financial Supervision Authority</a:t>
            </a:r>
            <a:br>
              <a:rPr sz="1400"/>
            </a:br>
            <a:br>
              <a:rPr sz="1400"/>
            </a:br>
            <a:br>
              <a:rPr sz="1100"/>
            </a:b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7274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Customer Protection Depar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ole tekstowe 2"/>
          <p:cNvSpPr/>
          <p:nvPr/>
        </p:nvSpPr>
        <p:spPr>
          <a:xfrm>
            <a:off x="1116000" y="1776240"/>
            <a:ext cx="7343640" cy="27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econd: market surveill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dentification and analysis of problematic market phenomena, particularly across sector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alysis of standard contracts used by institu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ing of advertisement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ing of innovations in the financial mark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załka w dół 1"/>
          <p:cNvSpPr/>
          <p:nvPr/>
        </p:nvSpPr>
        <p:spPr>
          <a:xfrm>
            <a:off x="4230720" y="4653000"/>
            <a:ext cx="48564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ole tekstowe 3"/>
          <p:cNvSpPr/>
          <p:nvPr/>
        </p:nvSpPr>
        <p:spPr>
          <a:xfrm>
            <a:off x="1258920" y="52293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aking supervisory actions: from inspections through supervisory recommendations through sa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274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Conciliatory Cou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ole tekstowe 2"/>
          <p:cNvSpPr/>
          <p:nvPr/>
        </p:nvSpPr>
        <p:spPr>
          <a:xfrm>
            <a:off x="1116000" y="1776240"/>
            <a:ext cx="7488360" cy="43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upported by the KNF but independent in its deci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llows for conciliatory resolution of cases arising among financial markets participants, mainly between supervised firms and their cl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wo modes: mediation and arbitra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very limited application: financial institutions usually don’t consent to this form of resolving dispu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13 saw a revision of the Court’s statute to increase involvement of firms in nomination of arbitrators and medi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 alternative: Banking Consumer Arbitrage supported by the Polish Bank Assoc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274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ole tekstowe 2"/>
          <p:cNvSpPr/>
          <p:nvPr/>
        </p:nvSpPr>
        <p:spPr>
          <a:xfrm>
            <a:off x="1116000" y="1776240"/>
            <a:ext cx="74883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onsumer protection function is executed by the KNF in three ways: through detailed communication with firms and clients, through ordinary sectoral supervision and through dedicated Customer Protection Depart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onsumer protection is not a primary task of the KNF as there is a separate authority for these matter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s concluded by the Supreme Audit Office, the KNF properly excercises its powers in the area of consumer protection, but these powers are rather limite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ole tekstowe 2"/>
          <p:cNvSpPr/>
          <p:nvPr/>
        </p:nvSpPr>
        <p:spPr>
          <a:xfrm>
            <a:off x="1619280" y="2492280"/>
            <a:ext cx="5400720" cy="24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hank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you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Michał Kruszk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michal.kruszka@knf.gov.pl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274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A few words on the KN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ole tekstowe 2"/>
          <p:cNvSpPr/>
          <p:nvPr/>
        </p:nvSpPr>
        <p:spPr>
          <a:xfrm>
            <a:off x="1116000" y="2133720"/>
            <a:ext cx="7343640" cy="39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egrated supervisor (all segments of the financial marke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ectoral (most) and cross-sector depart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ne of the statutory objectives: protection of legitimate interests of market particip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ny areas are regulated by the Office of Competition and Consumer Protection rather than by the KN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620640"/>
            <a:ext cx="72738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Three complementary </a:t>
            </a:r>
            <a:br>
              <a:rPr sz="3000"/>
            </a:b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mechanism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Diagram 3" descr=""/>
          <p:cNvPicPr/>
          <p:nvPr/>
        </p:nvPicPr>
        <p:blipFill>
          <a:blip r:embed="rId1"/>
          <a:stretch/>
        </p:blipFill>
        <p:spPr>
          <a:xfrm>
            <a:off x="1262160" y="1627200"/>
            <a:ext cx="661968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274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Communication </a:t>
            </a:r>
            <a:br>
              <a:rPr sz="3000"/>
            </a:b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of supervisory expecta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ole tekstowe 2"/>
          <p:cNvSpPr/>
          <p:nvPr/>
        </p:nvSpPr>
        <p:spPr>
          <a:xfrm>
            <a:off x="1116000" y="1776240"/>
            <a:ext cx="734364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First: KNF interpre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erve to operationalise high-level provisions of legal a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ive financial institutions clarity as to what the regulator exp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here relevant, take into account guidelines of the ES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re not legally binding in themselves but their goal is t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nterpret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legal provisions rather than to create autonomous norm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xamples of issues: investment advice, forex, bancassur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ole tekstowe 1"/>
          <p:cNvSpPr/>
          <p:nvPr/>
        </p:nvSpPr>
        <p:spPr>
          <a:xfrm>
            <a:off x="2843280" y="5553000"/>
            <a:ext cx="684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KNF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Łącznik prosty ze strzałką 3"/>
          <p:cNvCxnSpPr/>
          <p:nvPr/>
        </p:nvCxnSpPr>
        <p:spPr>
          <a:xfrm>
            <a:off x="3708360" y="5713200"/>
            <a:ext cx="1224720" cy="1080"/>
          </a:xfrm>
          <a:prstGeom prst="straightConnector1">
            <a:avLst/>
          </a:prstGeom>
          <a:ln w="25560">
            <a:solidFill>
              <a:srgbClr val="9ed3d7"/>
            </a:solidFill>
            <a:miter/>
            <a:tailEnd len="med" type="arrow" w="med"/>
          </a:ln>
        </p:spPr>
      </p:cxnSp>
      <p:sp>
        <p:nvSpPr>
          <p:cNvPr id="58" name="pole tekstowe 4"/>
          <p:cNvSpPr/>
          <p:nvPr/>
        </p:nvSpPr>
        <p:spPr>
          <a:xfrm>
            <a:off x="5219640" y="5553000"/>
            <a:ext cx="1297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274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Communication </a:t>
            </a:r>
            <a:br>
              <a:rPr sz="3000"/>
            </a:b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of supervisory expecta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ole tekstowe 2"/>
          <p:cNvSpPr/>
          <p:nvPr/>
        </p:nvSpPr>
        <p:spPr>
          <a:xfrm>
            <a:off x="1116000" y="1776240"/>
            <a:ext cx="734364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econd: KNF recommend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et out rules that are complementary to those stipulated in legal acts and operat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ndependentl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et out guidelines on best pract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vide for detailed obligations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inter al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 the area of consumer protec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xpress supervisory expectations and have no legally binding power, but are generally observed by institu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xamples of issues: loan agreements, fx loans, bancassura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ole tekstowe 3"/>
          <p:cNvSpPr/>
          <p:nvPr/>
        </p:nvSpPr>
        <p:spPr>
          <a:xfrm>
            <a:off x="2827440" y="5811840"/>
            <a:ext cx="684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KNF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Łącznik prosty ze strzałką 4"/>
          <p:cNvCxnSpPr/>
          <p:nvPr/>
        </p:nvCxnSpPr>
        <p:spPr>
          <a:xfrm>
            <a:off x="3763800" y="5971680"/>
            <a:ext cx="1224720" cy="1080"/>
          </a:xfrm>
          <a:prstGeom prst="straightConnector1">
            <a:avLst/>
          </a:prstGeom>
          <a:ln w="25560">
            <a:solidFill>
              <a:srgbClr val="9ed3d7"/>
            </a:solidFill>
            <a:miter/>
            <a:tailEnd len="med" type="arrow" w="med"/>
          </a:ln>
        </p:spPr>
      </p:cxnSp>
      <p:sp>
        <p:nvSpPr>
          <p:cNvPr id="63" name="pole tekstowe 5"/>
          <p:cNvSpPr/>
          <p:nvPr/>
        </p:nvSpPr>
        <p:spPr>
          <a:xfrm>
            <a:off x="5203800" y="5811840"/>
            <a:ext cx="1297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274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Communication </a:t>
            </a:r>
            <a:br>
              <a:rPr sz="3000"/>
            </a:b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of supervisory expecta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2"/>
          <p:cNvSpPr/>
          <p:nvPr/>
        </p:nvSpPr>
        <p:spPr>
          <a:xfrm>
            <a:off x="1116000" y="1776240"/>
            <a:ext cx="734364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Third: education activ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r institutions: seminars aimed at enhancing understanding of their oblig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r institutions: letters highlighting activities that may constitut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breach of consumer protection la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r consumers: campaigns aimed at increasing awareness of risk in the financial market, incl. free communication through public medi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xample: joint campaign on retail loans with the Office of Competition and Consumer Protection and five other public bod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ole tekstowe 3"/>
          <p:cNvSpPr/>
          <p:nvPr/>
        </p:nvSpPr>
        <p:spPr>
          <a:xfrm>
            <a:off x="2843280" y="5875200"/>
            <a:ext cx="684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KNF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Łącznik prosty ze strzałką 4"/>
          <p:cNvCxnSpPr/>
          <p:nvPr/>
        </p:nvCxnSpPr>
        <p:spPr>
          <a:xfrm flipV="1">
            <a:off x="3779640" y="5782680"/>
            <a:ext cx="1224360" cy="253080"/>
          </a:xfrm>
          <a:prstGeom prst="straightConnector1">
            <a:avLst/>
          </a:prstGeom>
          <a:ln w="25560">
            <a:solidFill>
              <a:srgbClr val="9ed3d7"/>
            </a:solidFill>
            <a:miter/>
            <a:tailEnd len="med" type="arrow" w="med"/>
          </a:ln>
        </p:spPr>
      </p:cxnSp>
      <p:sp>
        <p:nvSpPr>
          <p:cNvPr id="68" name="pole tekstowe 5"/>
          <p:cNvSpPr/>
          <p:nvPr/>
        </p:nvSpPr>
        <p:spPr>
          <a:xfrm>
            <a:off x="5219640" y="5551560"/>
            <a:ext cx="1297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Łącznik prosty ze strzałką 6"/>
          <p:cNvCxnSpPr/>
          <p:nvPr/>
        </p:nvCxnSpPr>
        <p:spPr>
          <a:xfrm>
            <a:off x="3779640" y="6035400"/>
            <a:ext cx="1224360" cy="253080"/>
          </a:xfrm>
          <a:prstGeom prst="straightConnector1">
            <a:avLst/>
          </a:prstGeom>
          <a:ln w="25560">
            <a:solidFill>
              <a:srgbClr val="9ed3d7"/>
            </a:solidFill>
            <a:miter/>
            <a:tailEnd len="med" type="arrow" w="med"/>
          </a:ln>
        </p:spPr>
      </p:cxnSp>
      <p:sp>
        <p:nvSpPr>
          <p:cNvPr id="70" name="pole tekstowe 12"/>
          <p:cNvSpPr/>
          <p:nvPr/>
        </p:nvSpPr>
        <p:spPr>
          <a:xfrm>
            <a:off x="5219640" y="6126120"/>
            <a:ext cx="1297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274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Communication </a:t>
            </a:r>
            <a:br>
              <a:rPr sz="3000"/>
            </a:b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of supervisory expecta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2"/>
          <p:cNvSpPr/>
          <p:nvPr/>
        </p:nvSpPr>
        <p:spPr>
          <a:xfrm>
            <a:off x="1116000" y="1776240"/>
            <a:ext cx="7343640" cy="15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Fourth: public warn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ommunicating to the publ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n legal actions taken against entities that offer financial services without an appropriate license, through the KNF web site and communiques in the med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ole tekstowe 3"/>
          <p:cNvSpPr/>
          <p:nvPr/>
        </p:nvSpPr>
        <p:spPr>
          <a:xfrm>
            <a:off x="2843280" y="5554800"/>
            <a:ext cx="684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KNF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Łącznik prosty ze strzałką 4"/>
          <p:cNvCxnSpPr/>
          <p:nvPr/>
        </p:nvCxnSpPr>
        <p:spPr>
          <a:xfrm>
            <a:off x="3779640" y="5714640"/>
            <a:ext cx="1224360" cy="1080"/>
          </a:xfrm>
          <a:prstGeom prst="straightConnector1">
            <a:avLst/>
          </a:prstGeom>
          <a:ln w="25560">
            <a:solidFill>
              <a:srgbClr val="9ed3d7"/>
            </a:solidFill>
            <a:miter/>
            <a:tailEnd len="med" type="arrow" w="med"/>
          </a:ln>
        </p:spPr>
      </p:cxnSp>
      <p:sp>
        <p:nvSpPr>
          <p:cNvPr id="75" name="pole tekstowe 5"/>
          <p:cNvSpPr/>
          <p:nvPr/>
        </p:nvSpPr>
        <p:spPr>
          <a:xfrm>
            <a:off x="5219640" y="5554800"/>
            <a:ext cx="1297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274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Regular supervision </a:t>
            </a:r>
            <a:br>
              <a:rPr sz="3000"/>
            </a:b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by sectoral depart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ole tekstowe 2"/>
          <p:cNvSpPr/>
          <p:nvPr/>
        </p:nvSpPr>
        <p:spPr>
          <a:xfrm>
            <a:off x="1116000" y="1776240"/>
            <a:ext cx="734364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arried out by banking, insurance and capital market supervision depart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stly during insp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cludes verification of procedures, information systems, and documentation of transactions, as well as interviews with compliance officers and with persons responsible for contacts with cl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20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cused on most risk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2738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Customer Protection Depar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2"/>
          <p:cNvSpPr/>
          <p:nvPr/>
        </p:nvSpPr>
        <p:spPr>
          <a:xfrm>
            <a:off x="1116000" y="1776240"/>
            <a:ext cx="734364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First: complaints from cl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re than 10 000 complaints have been filled with the KNF last yea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Diagram 8" descr=""/>
          <p:cNvPicPr/>
          <p:nvPr/>
        </p:nvPicPr>
        <p:blipFill>
          <a:blip r:embed="rId1"/>
          <a:stretch/>
        </p:blipFill>
        <p:spPr>
          <a:xfrm>
            <a:off x="901800" y="2901960"/>
            <a:ext cx="75596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8:09:40Z</dcterms:created>
  <dc:creator>izabella szaniawska</dc:creator>
  <dc:description/>
  <dc:language>en-US</dc:language>
  <cp:lastModifiedBy>Kowalczyk Michał</cp:lastModifiedBy>
  <dcterms:modified xsi:type="dcterms:W3CDTF">2014-06-03T13:34:27Z</dcterms:modified>
  <cp:revision>306</cp:revision>
  <dc:subject/>
  <dc:title>Slajd 1</dc:title>
</cp:coreProperties>
</file>